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926-1E94-45BE-9111-C2A90112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808-5AD6-47C7-B3E9-433C71A1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D69-7FD6-4B7D-94F0-9396C139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2AC-CA25-4F86-8BA3-48F1B6E6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93D0-DC3C-44FB-A0CA-EAEDC0C8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64BB-1908-493F-9E4A-96E9ABC7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A955-FB69-4969-8B91-54550C8F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6351-8FA6-45C7-8F3F-C5F6A94F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0791-07D9-4C76-A72A-F39C3D76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B6FD-BE5B-4E6B-B7DA-3DB1CB4D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3BC0-93F6-4707-92B2-775E6188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C8F-E1C1-4FA1-AF1F-9E029C62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683E-4408-42AD-B14B-28B62A5B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EF52-DD8D-438E-A3D4-EEAC63DF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4A2E-6E65-45B7-99FB-452AB2FE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F921-6B6F-41FD-93A4-539C8003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C1B9-6DC3-4A27-AF5B-C048291A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D10-1D58-4A52-AAE0-A78C4D65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D77-CA74-4365-A07A-6F816672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C25-0F09-4CDD-A4BC-F15FEC19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FD2-3B77-414F-9631-65B16584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D37-BA7B-433E-8017-FDA76010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B92-B152-4942-B6BA-381B2993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D6E-7347-4AAD-962C-F3813DC1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5759-58C2-48DF-9C9C-6327F06FC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962C-8B9B-446A-B47F-44FC1DA1C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Biological Basis of Behavio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biology: the study of how biological processes affect our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synaptic termin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r the end, the axon divides into many fine branches that have specialized presynaptic termi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esynaptic terminals end in close proximity to the dendrites of another neu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drite of one neuron receives the message sent from the presynaptic terminal of another neur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ur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984400" y="3147840"/>
            <a:ext cx="3714840" cy="17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nap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e where a presynaptic terminal ends in close proximity to a receiving dend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ll that sends out information is called the presynaptic neuron, and the cell that receives the information is called the post synaptic neu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naptic Sp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napse is not a physical connection between the two neu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cellular space between the presynaptic and postsynaptic neuron is called the synaptic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verage neuron forms approxim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000 synapses with other neurons- this dynamic change in neuronal connections forms the basis of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73320" y="1905120"/>
            <a:ext cx="5337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do neurons pass and receive informatio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illions of neurons that makeup the brain coordinate thought, behavior, homeostasis- 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Neurons convey information by transmitting messages to other neurons or other types of cells, such as mus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eurons employ electrical signals to relay information from one apart of a neuron to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he neuron converts the electrical signal to a chemical signal in order to pass this information to another neu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The target neuron then converts the message back to an electrical impulse to continue the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tion Potent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ical impulse that occurs when a neuron is stimul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s along the neuron axon or dend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able signals to travel very rapidly along the neuron fi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less than 2 milli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 from the flow of ions across neuronal cell membr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ting Membrane Potent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ns, like all cells, maintains a balance of ions inside the cell that differs from the balance outside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uneven distribution of ions creates an electrical potential across the cell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resting potential is assigned a negative (-) number because the inside of the neuron is more negatively charged than the outside environment of the neu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gative charge is the result of unequal distribution of sodium , potassium and chloride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tion Potential- revisit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imulus occurring at the end of a nerve fiber starts an electrical change that travels like a wave over the length of the neu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electrical change, the action potential, results from a change in the permeability of the neuronal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 ions rush into the neuron, and the inside of the cell becomes more posi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rush of sodium ions in the neuron starts a similar change in the adjoining segment and the impulse moves from one end of the neural fiber to the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Human Nervous 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most complex structures in the living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s of the Central Nervous System (CNS) brain, spinal co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Peripheral Nervous System (P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building blocks of the nervous system: nerves, neurons, neurotransmitters, and glial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l-or-none phenomen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 potentials are an all-or-none phenome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ction potential either occurs or it does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sponse of the neuron to an action potential depends on how many action potentials it transmits and the time interval between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urotransmitt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 signals carry information within a single neu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between neurons is a chemic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neuron is stimulated, the electrical signal (action potential) travels down the axon to the axon termi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electrical signal reaches the end of the axon, it triggers a series  of chemical changes in the neu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um (+) flows in to the neuron and initiates the release of a neurotrans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urotransmitter is a molecule that is released from a neuron to relay information to another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transmitter molecules are stored in membranes called vesicles in the axon terminal 9thousands of molecules of neurotransmitt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molecules are released into the synaptic space to the postsynaptic neu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cep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ptors are membrane proteins that are able to bind to a specific chemical substance, such as a neurotransm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action of a receptor and neurotransmitter can be thought of as a lock and key for regulating neuron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like a lock and key- a neurotransmitter binds only with a specific recep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 action potential is triggers, the communication process contin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neurotransmitter molecule binds to its receptor on the postsynaptic neuron, it releases from the receptor and diffuses back into the synaptic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leases neurotransmitter is either degraded (dissolved) by enzymes or taken back into the presynaptic axon terminal through a reuptake pu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lial Cel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type of cells in the 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to 50 X more glial cells than neurons in the 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purpose is not as clear as the purpose of neu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guide movement of neurons, others help to insulate and separate groups of neu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ur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nctional unit of the 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 which process and transmit information in the nervou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 billion in the brain- more in other parts of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between neurons is the foundation for brain function and controls changes in cognitive processes and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ur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382920" y="2541600"/>
            <a:ext cx="29163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urons, co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ns enable people to think, move, maintain homeostasis, and feel e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ns are specialized cells that produce different actions because of its precise connection with other neurons, sensory receptors, and muscle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ypical neuron has four parts (region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ll body, dendrites, axons, presynaptic termi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s of the neur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73320" y="1905120"/>
            <a:ext cx="5337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ell B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alled the S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tabolic center of the neu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 is located in the cell body and most of the cell’s protein synthesis occurs in the cell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ndri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uron has multiples fibers, or dendrites, that extend from the cell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ranch out somewhat like tree branches and serve as the main apparatus for receiving input into the neuron from other nerve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x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rt of the neuron that is specialized to carry messages away from the cell body and to relay messages to other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ying lengths- may be up to a meter in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large axons are surrounded by a fatty insulating material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el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ich enables electrical signals to travel down the axon at higher sp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23:38:09Z</dcterms:created>
  <dc:creator>Peter Gianakos</dc:creator>
  <dc:description/>
  <dc:language>en-US</dc:language>
  <cp:lastModifiedBy>Peter Gianakos</cp:lastModifiedBy>
  <dcterms:modified xsi:type="dcterms:W3CDTF">2005-09-26T23:39:42Z</dcterms:modified>
  <cp:revision>3</cp:revision>
  <dc:subject/>
  <dc:title>The Biological Basis of Behavior</dc:title>
</cp:coreProperties>
</file>