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B64-0FB7-420F-8111-90FDF820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p and wakefulness follow circadian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tate of consciousness contains varying levels of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05F-4D46-4691-855F-78B7B2D3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705-1AC7-4B5E-89B3-2F6FB61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E61-E8AF-4054-9E43-BEC685C6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897-FC4B-4881-893A-582D0A98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866-3ADC-4492-BCE6-112CC2C1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FE7-DF04-4A6C-8B24-F41C27D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6FF-A941-4EDE-A853-3A3ECF9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6B8-C855-4A92-9640-8E8A6BF8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53B-CFA8-4403-A6C5-162AF6D5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299-C9FF-4C83-A652-57D327A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E44-D653-4B9E-B0E8-936B4E3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26A-327C-4185-966A-62AEED70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3D4-46F2-4A95-8ED2-8500291F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 of Consciousn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1/3 of our life in ASC-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rhythms- sleeping, waking, alertness, blood pressure, hormones- referred to as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ical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adian cycles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ily cycle; 24 hour cycle influenced by the sun, length of day light (seasonal light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cycles follow different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slee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restores effective functioning of the body and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olutionary perspectiv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ccur at times of day when food supplies were low  or predators were num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riggers sle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enos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aturally occurring chemical that may trigger slee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ep lab stud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electrodes monitor brain waves, eye movements, muscle tension, other psycholog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ges of Slee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ilight slee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loating or falling sensation characterized by a quick jolt back to consciousness- irregular, low-voltage alpha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lowing of pulse, side-to-side rolling of ey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s 2 and 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ively deeper sleep- heart rate, blood pressure, temperatures continue to 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 4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ow delta waves- heart rate, breathing rate, blood pressure, body temperature- as low as it will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 Slee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apid eye move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n hour after falling asleep- 40 minut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er ascends from stage 4 to 3 to 2 to 1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ing alertness, heart and blood pressure increase- body more relaxed than at any other time, body’s voluntary muscles are essentially par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s move rapidly under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REM sleep- precedes and follows REM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go through 4-5 sleep cycles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 patterns change with age- infants requiring the most sleep, elderly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 differences: Men generally sleep less well than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and auditory experiences that our minds conjure up during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2 hours of sleep time per night with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5 dreams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eam Cont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what you were doing before sleep, gender, age, socio-economic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report more dreams then men- more likely to report d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report dreams related to characters, emotions, friendly interactions, inside dealing with home and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remember dreams about aggression, overt hostility, aggression, striving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 content may be modified by pre-sleep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having learned more difficult material, subjects spend more time in REM sleep- if you interrupt REM sleep, this severely disrupts  memory for the newly learned material ex.) study hard all week then stay up all night on Saturday and Sunday, likely to forget 1/3 of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last about as long as the real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help us to process emo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eep talking, Sleep walking, and Night T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during deep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mon among children than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more likely to than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leep terr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ght t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cturnal fright, generally cannot be awakened from, cannot be recalled, 4-12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ghtma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 be recalled, occur when the child is very tired – in adults: may signal personality disorder, drug abuse, brain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define conscious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of being 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wareness of various mental processes (making decisions, planning remembering, reflecting, sleeping, drea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log between the cerebral cortex and the thalamus- various sensory modalities are forwarded to the cerebral cortex to be analyzed and processed at a rate of 40X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som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fficulty in falling asleep or remaining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cidents result from stressful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a symptom of depression or an abnormally aroused biological system (cycles of insomnia and distress over sleeplessness creates a cycle of biological and emotional factors reinforcing each o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n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dition associated with breathing difficulties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cases, person may stop breathing after falling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carbon dioxide in the blood rises to a certain point, spurred to a state of arousal just short of waking consci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s hundreds of times a night- feel exha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rcolep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ereditary disorder, victims nod off without warning in the middle of a conversation or othe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loss of muscle tone upon expression of any emotion- laughter, anger, sexual arou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entry into REM sleep-  frightening hallu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in central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ficial Alterations in Consc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depr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(sensory deprivation chambers) radical reduction of sensory stimulation- severe restriction of visual, auditory, tactile st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in alternating states of drowsiness, sleep, wake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distinguish between waking hallucinations and d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and reaction time impaired when released from solitary confi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riencing an alteration in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cus o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f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enzied dance and pr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nscendental med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cite a chant,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tation works by suppressing the activity of the sympathetic nervous system that prepares the body for an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s rate of metabolism, reduces heart and respirator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treat certain medical problems- drug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result in emotional and spiritual advantages- sense of timelessness, peace of mind, sense of well-being, total 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n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ince mid-eighteenth-century; thought to cure ill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even today- is it a valid AS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ce-like state in which a person responds readily to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s how it occurs, ways it is experienced, susceptibility from one pers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notic susceptibility partly learned partly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according to age- children generally more susceptible to suggestion than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greatly affected by contextual cues, including the setting and exact word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ing hyp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with willing subject’s attention on hypnotist’s voice, specific object, visualizing a particular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imagery brings the scene into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rel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convince people of suggestions (ex. arms are heavy)- harder to produce anesthesia for pain sensitivity-most difficult to recall lost memories or to generate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Hyp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and counsel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found it effective for 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nosis may strengthen a person’s will for weight loss, smoking cessation- may or may not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Levels of Consciousn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least active to most ac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a (resulting from physical inju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 or du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ctivity and creativity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-Altered Consciou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ncient times, people have used drugs for social, religious, and personal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use has always been associated with abuse of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 and Psychoactive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active drugs- chemical substances that change moods and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ssants, stimulants, hallu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, Abuse, and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ttern of drug use that diminishes a persons’ s ability to fulfil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ce 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ulsive use of a substance (addi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llows a period of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includ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leran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doses of drugs are required to produce origin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drawal symp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npleasant physical or psychological effects following discontinuance of the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vary for each individual and for each substance; complex combination of biological, psychological and soci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-blind proced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ither the subject nor the researcher knows at the time of administration which subjects are receiving an active drug and which are receiving an inactive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neutral, inactive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drug-altered consciousness complicated by the fact that most drugs affect people in different ways and also produce different effects in the same person at different times or in different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ants: Alcohol, Barbiturates, and the Opi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ss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emicals that retard behavior and thinking by either speeding up or slowing down nerve impul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accepted legal drug used in celebrations, to break down social isolation and inhibitions, promote group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ou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age restrictions on purchase and consumption, much of the use by American y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sponsible for 2/3 of all fatal automobile accidents, 2/3 of all murders, 2/3 of all spousal beatings, ½ all cases of violent child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tal alcohol syn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irth defects caused by alcohol consumption during preg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equence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tional Institute on Alcohol Abuse and Alcohol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of heavy drinkers die before age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to moderate drinking associated with shorter life s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cost to 30 million children of alco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lms down nervous system like a general anes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erienced as a stimulant that inhibits centers in the brain that govern critical judgment and impulsiv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 myop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cohol-induced shortsightedness that makes drinkers oblivious to behavioral cues in the environment and less able to make sense of those cues (aggression, hostility, violence, abusive behavior- less aware of and concerned about negative consequences of their 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olog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affects frontal lobes of the brain which figure in inhibitions, impulse control, reasoning,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onsumption continues, affects the cerebellum, the center of motor control and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affects spinal cord and medulla, which regulates breathing, body temperature,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 0.25% severely impairs function- slightly higher can cause death from alcohol pois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eria of Consciousn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avis 196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must be awar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 he must be able to recognize himself as distinguished from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 he must be able to discriminate between the present, 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in space- he must have a sense of his location in the extern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s perception, motor processes,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s ability to see clearly, to perceive depth, distinguish between bright lights and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ing, taste, smell perceptions diminish as does percep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drinks affect memory, prolonged drinking impairs retrieval of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eavy drinkers (unable to remember anything during certain periods of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drinks and memory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eory- alcohol affects the brain and memory at the neurolog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may disconnect the fibers that link cells to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drink for a female = 2 drinks for a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have less stomach enzymes present in their empty stomach than males= greater alcohol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million people in US abuse or are dependent on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use associated with heart failure, breathing difficulties, heart failure, pneumonia, auto accidents,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ism does appear to run in families, which indicates a hereditary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ic personality: emotionally immature, needy, low self-esteem unable to tolerate frustratio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also influences use and certain patterns  exist in ethnic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itu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to treat epilepsy and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ers”-Seconal, Nembu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s normal sleep pattern and causes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: small doses-lightheadedness, silliness, poor motor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- slurred speech, loss of inhibition, increase in ag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ause birth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d form opium po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: addiction becomes the way to stave off withdraw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- feelings of euphoria, well-being, 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 activities to pay for drug are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mu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, nicotine, amphetamines, coc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- feelings of optimism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o maintain wakefulness and aler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coffee, tea, co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stimulant that does not alter sleep stages or cause REM rebound- safer than ampheta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benign drug, although 5-6 cups of coffee may cause caffeinism, or “coffee nerves”, anxiety, headaches, heart palpitations, insomnia, diarr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s with prescribed medications, appears to aggravate symptoms associated with psychiatric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it up results in physical and psychological distress- headaches, lethargy,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angerous than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ly in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n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effects- increased heart rate, constricted blood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effects- increased risk for lung and other cancers, cardiovascular disease,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levation in mood, increases number of neurotransmitters affecting areas of the brain, and produces a craving for the dru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gested, arrives at brain all at once causing a rush or “hi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then craves more nicotine, and users become highly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drawal includes nervousness, insomnia, drowsiness, headaches, irritability, intense craving for 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ting is very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e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nt drugs that produce feelings of euphoria often followed by “crashes” and occasional severe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ly resemble epinephrine, a  neurotransmitter that stimulates the sympathetic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ir chemical similarity, they are often used to treat asthma; also used for narcolepsy because of their stimulant 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 and consciou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ciousness is a dialog between the cerebral cortex and 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king conscious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scious awareness- all the thoughts, feelings, perceptions that occur when we are awake and reasonably al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sensation, perception, learning, memory, thinking, problem solving, decision making,  intelligence, crea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by truck drivers to stay awake and 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 the appetite, often used as diet p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mendous potential for abuse due to effects on consciousness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phetamine psych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 an attempt to ward off the “crash” following  the euphoric sense, people tend to take more amphetamines resulting I delusions, hallucinations, paranoia, aggressive and violent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thamphetam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cstasy: extraordinary loss of inhibition as well as euphoria and increase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short-term heavy use results in long-term harmful effects on sleep, mood, appetite, and impul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the neuroconnections between lower brain centers and the 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ddictive nature, used medicinally now for narcolepsy and hyper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nt, can cause eup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ed from leaves of cocoa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 us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ud recommended it to friends for alcoholism and morphine ad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cain: familia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ne form of Cocaine “crac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imulation of sympathetic nervous system, increase in hear t rate and blood pressure, constriction of blood vessels, stimulates pleasure center at base of brain responsible for e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last 30 minutes- difficult to establish emotion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addicted to crack and cocaine often give birth to low birth weight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ies behavior characterized by agitation and sh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ucin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orms- mushrooms, fun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D (lyseric acid diethylamide) 1940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auditory perceptions (imaginary conversations, foreign languages not known to them bef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ithdrawal effects- but tolerance builds up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ips” –unpleasant experiences caused by the drug, panic se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sequences: memory loss, paranoia, panic attacks, nightmares, ag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abis plant-history in China, Greece, India- this century-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d by youth culture of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rahydrocannabinol (THC)-shares some of the same chemical properties with LSD, far less po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: euphoric feelings, sense of well-being, swings of gaiety and 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lso anxiety and parano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logical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lates blood vessels in eye, dry mouth, coughing, increased thirst and hunger, mild muscular weakness (drooping eyel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negative physiological effects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tial respiratory and cardiovascular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alterations in memory and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mporal dis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e of ability to coordinate information in the present (forget what one is saying I the middle of a sen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o be a recreational drug- can have serious effects- especially educational- on young population that embraces it’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ed states of conscious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are detached, in varying degrees, from our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, daydreaming, dreaming- occur routi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nosis, meditation, mind-altering substances (alcohol) can also induce A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dreaming and Fantas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ydrea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apid thinking unrelated to an individual’s current environment. Can result form boredom, sensory deprivation, sleep dep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ary escape from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ntasy-p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spend more than 50 of their time not merely daydreaming but lost in elaborate re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daydream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xiety daydre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hievement oriented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lf-doubt, fear of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ppy daydreamers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ppy, uncomplicated, free of guilt or wo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curi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ighly 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 of daydre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eudian theoris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help us deal with our desires- sex or 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uilds cognitive and creative skills- artists and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lief from unpleasant reality-enduring difficult situations (PO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1:25:09Z</dcterms:created>
  <dc:creator>Peter Gianakos</dc:creator>
  <dc:description/>
  <dc:language>en-US</dc:language>
  <cp:lastModifiedBy>Peter Gianakos</cp:lastModifiedBy>
  <dcterms:modified xsi:type="dcterms:W3CDTF">2005-10-16T19:54:45Z</dcterms:modified>
  <cp:revision>9</cp:revision>
  <dc:subject/>
  <dc:title>States of Consciousness </dc:title>
</cp:coreProperties>
</file>