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993-49F9-4485-9F93-DFB786BA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EB5-20C5-4ABE-A281-928D8D5A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6D0-EB80-4D90-99FB-5EFF5DAF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D27-7A96-46DA-B616-034AC817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2E85-9466-466F-BB42-B8B1DDD7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3E80-F007-4ABA-AD9D-99A58C0C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5915-07A1-4AED-A449-446C8D52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5EC2-9A63-450B-AE4E-212137C6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ABE9-4FC1-4584-8C77-BA81885E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4D83-5A7D-4FA4-AD20-6C13880B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D989-3E7D-44E0-A260-4345387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5C4-33BE-4504-B86F-4F19776D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0A24-315B-4D10-8794-055BC65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CB23-4E0F-4DA1-B38C-12B5F23F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B2E9-45E8-438E-B4F9-F3F5A675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E8D4-9E14-420A-9E66-5A4C090C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8490-6D79-46E7-A4C1-05A9583C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B4B-A74C-42BF-AEEA-75FE862A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B49-5757-4CFB-B011-EE6E3CFE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455-CDCB-496F-823B-B3FB2EB6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F43-D1C1-4850-9175-B30D79B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34A-2ED4-4BEC-8601-C51B91E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4BD-C74D-45F7-B447-52E91F0A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7C0-8139-4D0E-B074-7ED84D74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50F7-85A0-4AB0-9CE0-3E6086F60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8FCB-9BE1-48BF-8434-0142F3D05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al Psych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ttra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akes you like, or even fall in love with one person and ignore or react negatively to anoth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ximity and Attraction: a sure way to “hook up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easier to develop relationships with people who are close at h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ximity increases the likelihood that there will be repeated contacts, and mere exposure tends to increase attractio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the mere-exposure eff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.: Internet relationships: may live thousands of miles apart but experience electronic proximity via 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ther married his lab part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hysical Attractiveness and Attraction: do looks coun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factor in choice of romantic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attribute positive qualities to those who are physically attractiv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halo effec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ractiveness is a generally universal princi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ails of appearance (meanings of facial expression) vary across cul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bias, (preferential behavior) shown towards children who are attra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ther hypothesis concerning attra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are often attracted to individuals who are similar to thems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s argue that they choose mates whose characteristics complement their own (opposites attrac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lutionary psychologists argue that men and women are attracted to one another on the basis of what each can contribute to the creation and support to the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formity, Obedience, and Compliance: are you an individu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form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changing or adopting a behavior or attitude in order to be consistent with the social norms of a group of the expectations of other peop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.: we conform to other’s expectations to have their approval, love, or accep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cial norm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standards of behavior and the attitudes that are expected of members of a particular grou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.: necessary to have a society- drive on one side of the road and follow traffic 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omon A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a very well-known experiment on conform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ht participants- only one non-confederate participant, all others deliberately chose wrong ans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ost cases, subjects conformed to the incorrect, unanimous maj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bedience: how atrocities can happen and be rationalize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gram conducted a classic study of obedience (see intro to chapt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cking participant even though in apparent extreme p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inary citizens delivered potentially life-threatening shocks until presence of another person who refused to go along with this- gave participants the courage to defy auth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.: Nazi Germany concentration ca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mpliance: three ways to get your own way or what you wa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ng in accordance with the wishes, suggestions, or direct requests of other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3 techniques (strategies) used to gain complia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t-in-the-door tech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or-in-the-face tech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-ball tech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ot-in-the-Door Techniq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tegy designed to gain a favorable response to a small request at first, with the intent of making the person more likely to agree later to a larger requ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: Carpet company that guarantees they will, at no cost, clean one carpet and then get you to agree to do the rest of the house for p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or-in-the-Face Techniq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tegy in which someone makes a large, unreasonable request with the expectation that the person will refuse but will be more likely to respond favorably to a smaller request l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lt often used by charitable organizations- “please don’t hang up, even a dollar will help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cial Psychology- do others have an influence on our feelings, thoughts and behavior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 of psychology that attempts to explain how the actual, imagined, or implied presence of others influences that thoughts, feelings, and behaviors of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w-ball Techniq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ery attractive initial offer is made to get people to commit to an action, then the terms are made less favo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see this technique on infomercials on TV- “but that’s not all!”- improve the deal by slashing the price if you order in ten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roup Influence-how does being in a group influence one’s behavior?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others are present, either as an audience or as co-actors, a person’s performance on easy tasks is usually improved, but performance on difficult tasks is usually impa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al Facilit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erm used by psychologists to refer to both negative and positive effects of the presence of others on our 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effect: before going out, we usually engage in some type of grooming- combing hair, putting on makeup, choosing our clothing carefu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effect: may drink to excess at a  party because others are doing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al Loaf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’s tendency to put forth less effort when they are working with others on a common task than when working al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likely to occur when individual output is monitored or when people have a personal stake in the outcome (one grade shar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: group projects, slacker participants and those who carry the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up Polar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ing group discussions, group decisions usually shift to a more extreme position in whatever direction the members were leaning toward initi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think happens when individuals adopt a group’s opinion without any objective consideration of the presence or lack of supporting f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cial Role Expectations: does our role dictate how we ac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vidual behavior can be guided by the expectations associated with social 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in childrearing, mothers and fathers follow different behavioral guidelines- Moms tend to be the nurturing force, Dad may be the disciplin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men and prison guards are notorious for their ‘tough guy’ behavi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ttitudes and Attitude Chan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itudes have three compon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gni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houghts and beliefs about an attitudinal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o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feelings toward the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havi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w you will behaviorally act towards the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your attitudes towards SNAK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of you dislike snak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gnitiv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nakes can be danger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otiona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y’re creepy and scare 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haviora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would you react if I released a snake and it slithered by you on the flo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n obvious cognitive-emotional-behavioral link attached to your attitude about this objec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gnitive Disson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flict that is associated with unpleasant feelings that happen when people become aware of inconsistencies  in their attitudes and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use defense mechanisms (rationalization) to terminate the unpleasant fee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ad Habits and Cognitive Dissonan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of you smok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you know the dangers associated with smok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you know anyone who has cancer or who has died of cancer associated with smok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know that smoking is associated with lung cancer and heart disease, why will you not quit smok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ationalization (excuses) are the cognitive dissonance. “I only smoke when I am drinking. I have cut back to one pack per da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y are first impressions so importan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a manager in a fast food restaurant who is waiting for a prospective employee to come in for an interview.  The scheduled time for the interview has passed.  The prospect has not called. He is 10 minutes lat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 think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sua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liberate attempt to influence attitudes and/or behavior of another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occurs at work, in social situations, and in family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 elements of persua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who is doing the persu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udie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who is being persua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ss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what is being s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di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means by which the message is transmit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be taught to be persuasive? Y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You can better persuade your audience if…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redi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i.e., you have expertise (knowledge), are trustworthy, possess integ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ttrac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i.e., have celebrity status, or are similar to your 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ike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-social Behavi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otivates one person to help anoth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by-stander effect, and why does it occu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: pro-social behavior is behavior that benefits others, such as helping, cooperation, and sympat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-Social Behavior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truis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avior that is aimed at helping others, requires some self-sacrifice, and is not performed for personal 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elp out of empathy- to put ourselves in another’s sh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nteering at a homeless shel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ystander Effec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number of bystanders at an emergency increases, the probability that the victim will receive help from them decreases, and the help, if given, is likely to be dela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ty Genovese Case: 1964- attacked and eventually murdered over 1 hour in front of 38 of her neighbors in Queens, NY- not a single person called police or interve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ggre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tentional infliction of psychological or physical harm on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occur at home, work, or on the r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logical factors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re men than women display aggressive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ypothe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here is a link between testosterone and agg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ggression, 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 facto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rustration-aggression hypothe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frustration doesn’t always cause aggression, but likely to do so if it’s intense and seems to be unjustified (arouses negative emotio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capegoa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argeting someone/population with displaced aggression (minority group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cial learning theo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ggressive behavior learned through modeling (influence of violent video games, TV, song lyric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ejudice and Discrimin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factors contribute to the development of prejudice and  discrimin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jud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ttitud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usually negative) toward others based on gender, religion, race, or membership in a particular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s belief and emotions and can escalate into hat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crimination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havior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usually negative) towards others based on their gender, religion, race, or membership in a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ority racial groups (racis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(sexis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derly (ageis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icapped, homosexuals, religious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pplicant arrives after another 10 minutes have passed.  He explains that he has overslept and had to change a flat tire before coming to the interview.  His hair is uncombed, and he looks like he hasn’t shaved in a couple of days.  His T-shirt has stains on it, pants are greasy, nails have dirt under them, and he is wearing flip flops.  Ten minutes into the interview, he lights a cigaret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you hire hi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the roots of prejudice and discriminati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alistic conflict theo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as competition increases, so does prejudice, discrimination, hatred amongst competitive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settlers and Native Americans (lan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and the Irish and German immigrants (economic scarc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-Groups and Out-Group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-group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cial group with a strong sense of togetherness, from which others are exclu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ut-group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dividuals specified by the in-group as not belon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al-Cognitive theo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learn attitudes of prejudice and hatred the same way that they learn other attit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cial cogn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he ways that people process socia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ereotype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dely shared beliefs about the characteristic traits, attitudes, behaviors of the members of the various social groups- including the assumption that they are all a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a manager, do you have any evidence of how this applicant will perform on the jo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gain, why are first impressions so importan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all subject to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mary eff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tendency to attend 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itial inform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re than information that is presented l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acts have a real impact on first impressions (a smile, a hand shak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a first impression is formed, the impression acts as a framework through which later information is interpre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How are opinions about behavior formed? 2 types of Attribu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in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A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tribu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inference about the cause of our own or someone else’s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tuational attribu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eople attribute the cause of a behavior to some factor in the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the prospective employee had dirty jeans on, was late, and dirty nails because he was changing a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positional attribu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eople attribute the behavior to something internal- some personal trait, motive, or at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the prospective employee wore dirty jeans, had dirty nails and was late because that is the way this person is- lazy, not responsible and slopp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or-Observer Effec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tend to attribu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ir own behavi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sually to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tuational facto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havior of oth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sually to internal o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positional or intern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 can’t help what happened…it was outside of my control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’s wrong with that person? Why doesn’t he stop that behavior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13:14:03Z</dcterms:created>
  <dc:creator>Peter Gianakos</dc:creator>
  <dc:description/>
  <dc:language>en-US</dc:language>
  <cp:lastModifiedBy>Peter Gianakos</cp:lastModifiedBy>
  <dcterms:modified xsi:type="dcterms:W3CDTF">2005-04-24T16:12:34Z</dcterms:modified>
  <cp:revision>8</cp:revision>
  <dc:subject/>
  <dc:title>Social Psychology</dc:title>
</cp:coreProperties>
</file>