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BBE9-9B8C-4FD4-BF1B-C8A84C90B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stance, if you are in a room with one person talking, you will definitely notice a second person talking. That additional sound energy will be above the difference threshold. However, if you are at a party where one hundred people are talking, if another person begins to talk, you may not notice that additional voice. In this case, the difference threshold is higher; a greater amount of sound energy is needed in order for the addition to be noticed.  However, if a band began playing it would probably be noticed. In general, the greater the intensity of the original stimulus, the greater is the difference threshold. The additional stimulation must carry more energy in order to be notic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example, if you are holding a pebble (the original stimulus) you will notice an increase in weight if a second pebble is placed in your hand. But if you start off holding a very heavy rock (the original stimulus), you probably won’t detect an increase in weight when the same pebble is balanced on i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example, a friend invites you to dinner. You walk in the front door and are overwhelmed by the odor of onions and garlic cooking on the stove. However, after a few moments, you no longer notice the smell. Why? Because your sensory receptors become less responsive to a constant stimu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 you may have noticed the pressure of a wrist watch or ring disappears moments after you put them on, or that sunlight looks bright when you first emerge from a dimly lit room, but seems less overpowering moment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sense has it’s own method of adapt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liminal messages surprisingly do have an effect on people’s behavior and the research in this area is well documented. One study (1959) flashed subliminal images of a boy angrily throwing a birthday cake or pleasantly presenting a birthday cake. When subjects were shown the same boy in a neutral postures, those who had been exposed to the angry image evaluated the boy’s personality in much more negative terms than did those who had seen the pleasant image of the same boy.  More recently a study involved subliminally presenting subjects with a pleasant scene- such as cute kittens- or with an unpleasant scene- such as a skull . In this case it was found that the subliminal message did influence how people judged a person in a neutral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or show tape for weight lo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nea covers the iris and the pupil. It is completely free of blood vessels and acts as refractor of ligh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opening is adjustable, located in the iris of the eye, and is the part of the eye through which light pass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tro: Glance around you- notice the variety of colors, shades, shadows,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cus on everything touching you- clothes, shoes, chair you are sitting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hale deeply through your nose and identify aromas in the air- you have used four of your senses: vision, hearing, touch, and sm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imary purpose of your CNS is communication- transmission of the info from one part of the body to another- where does that information come from? Your s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not see objects in th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asses or contact lenses work by adding another source of refraction that compensates fro the irregularities of the eyebal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not see objects close up- reading g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people experience this in their 40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see something out of the corner of your eye at night, you are using rods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onsible for peripheral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ds are responsible for the several minutes it takes to adapt to the dim light in a darkened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es adapt quickly to bright light, reaching maximum sensitivity in about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 this is why it only takes a few minutes to adapt to the light in a bright roo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optical nerves carry their messages to various parts of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messages reach the area of the brain that controls reflex movement- others go to the region that directs eye muscles- but the main destinations for messages from the retina are the projection areas of the cerebral cortex</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Your eye’s response to light, splotches of color, and lines reflects sensation. When you integrate and organize the sensations to interpret, color and line as an object- such as a painting or the flag, this reflects </a:t>
            </a:r>
            <a:r>
              <a:rPr b="1" i="1" lang="en-US" sz="1200" spc="-1" strike="noStrike">
                <a:solidFill>
                  <a:srgbClr val="000000"/>
                </a:solidFill>
                <a:latin typeface="Arial"/>
              </a:rPr>
              <a:t>perception</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nometer- one billionth of a meter- the measure for the wavelength of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velengths of 400 nanometers are perceived as violet-  700 nanometers are r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BRE- EX. The difference between the opera singer’s trill and a hard-rock gr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y sounds are made up of several different sound waves at many different frequencies, resulting in different timbre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if you have cotton stuffed in your ear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only some nerve cells damaged, person will hear some 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 form of deafness in the elderl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sation of pressure from a  watch rapidly becomes unnoticeable (pressure-sensitive cel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e biting a crisp, red ap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experience hearing the apple crunch because of the physical energy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vibrations in the air- </a:t>
            </a:r>
            <a:r>
              <a:rPr b="1" i="1" lang="en-US" sz="1200" spc="-1" strike="noStrike">
                <a:solidFill>
                  <a:srgbClr val="000000"/>
                </a:solidFill>
                <a:latin typeface="Arial"/>
              </a:rPr>
              <a:t>sound waves</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weet taste of the apple is a response to the physical energy of </a:t>
            </a:r>
            <a:r>
              <a:rPr b="1" i="1" lang="en-US" sz="1200" spc="-1" strike="noStrike">
                <a:solidFill>
                  <a:srgbClr val="000000"/>
                </a:solidFill>
                <a:latin typeface="Arial"/>
              </a:rPr>
              <a:t>dissolvable chemicals</a:t>
            </a:r>
            <a:r>
              <a:rPr b="1" lang="en-US" sz="1200" spc="-1" strike="noStrike">
                <a:solidFill>
                  <a:srgbClr val="000000"/>
                </a:solidFill>
                <a:latin typeface="Arial"/>
              </a:rPr>
              <a:t> in your m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istinctive sharp aroma of the apple is a response to airborne </a:t>
            </a:r>
            <a:r>
              <a:rPr b="1" i="1" lang="en-US" sz="1200" spc="-1" strike="noStrike">
                <a:solidFill>
                  <a:srgbClr val="000000"/>
                </a:solidFill>
                <a:latin typeface="Arial"/>
              </a:rPr>
              <a:t>chemical molecules</a:t>
            </a:r>
            <a:r>
              <a:rPr b="1" lang="en-US" sz="1200" spc="-1" strike="noStrike">
                <a:solidFill>
                  <a:srgbClr val="000000"/>
                </a:solidFill>
                <a:latin typeface="Arial"/>
              </a:rPr>
              <a:t> that you inhale through your n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mooth feel of the apple’s skin is a response to the </a:t>
            </a:r>
            <a:r>
              <a:rPr b="1" i="1" lang="en-US" sz="1200" spc="-1" strike="noStrike">
                <a:solidFill>
                  <a:srgbClr val="000000"/>
                </a:solidFill>
                <a:latin typeface="Arial"/>
              </a:rPr>
              <a:t>pressure</a:t>
            </a:r>
            <a:r>
              <a:rPr b="1" lang="en-US" sz="1200" spc="-1" strike="noStrike">
                <a:solidFill>
                  <a:srgbClr val="000000"/>
                </a:solidFill>
                <a:latin typeface="Arial"/>
              </a:rPr>
              <a:t> of the apple against your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ellow red color of the apple is a response to the physical energy of </a:t>
            </a:r>
            <a:r>
              <a:rPr b="1" i="1" lang="en-US" sz="1200" spc="-1" strike="noStrike">
                <a:solidFill>
                  <a:srgbClr val="000000"/>
                </a:solidFill>
                <a:latin typeface="Arial"/>
              </a:rPr>
              <a:t>light</a:t>
            </a:r>
            <a:r>
              <a:rPr b="1" lang="en-US" sz="1200" spc="-1" strike="noStrike">
                <a:solidFill>
                  <a:srgbClr val="000000"/>
                </a:solidFill>
                <a:latin typeface="Arial"/>
              </a:rPr>
              <a:t> </a:t>
            </a:r>
            <a:r>
              <a:rPr b="1" i="1" lang="en-US" sz="1200" spc="-1" strike="noStrike">
                <a:solidFill>
                  <a:srgbClr val="000000"/>
                </a:solidFill>
                <a:latin typeface="Arial"/>
              </a:rPr>
              <a:t>waves</a:t>
            </a:r>
            <a:r>
              <a:rPr b="1" lang="en-US" sz="1200" spc="-1" strike="noStrike">
                <a:solidFill>
                  <a:srgbClr val="000000"/>
                </a:solidFill>
                <a:latin typeface="Arial"/>
              </a:rPr>
              <a:t> reflecting for the irregularly shaped object that you just bit into.</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gested nose- steak tastes like card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xons of the olfactory receptors enter the skull and travel to the olfactory bulb at the base of the brai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s and other animals seem to need a level of stimulation; when it does not exist, the mind creates it’s own stimul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bies started out the same developmentally up to four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h sets of babies- good food medical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phanage children- 6 nurses care for 45 babies- only occasionally taken out of cribs, draped in sheets to keep them from looking outside cri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rsing home babies- each mother took care of own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first year, several orphanage babies physically and mentally weakened- began to have mortality rate- nursing home babies walking and talking by age two and three- only 2 of the orphanage babies could walk and talk in the same perio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this very moment noise (waves) from outside or the classroom next door are bouncing around the atmosphere and passing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ization is important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wise, a song or an old movie could be replaying in your brain right n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two general kinds of sensory thresholds for each sense- </a:t>
            </a:r>
            <a:r>
              <a:rPr b="1" i="1" lang="en-US" sz="1200" spc="-1" strike="noStrike">
                <a:solidFill>
                  <a:srgbClr val="000000"/>
                </a:solidFill>
                <a:latin typeface="Arial"/>
              </a:rPr>
              <a:t>absolute</a:t>
            </a:r>
            <a:r>
              <a:rPr b="1" lang="en-US" sz="1200" spc="-1" strike="noStrike">
                <a:solidFill>
                  <a:srgbClr val="000000"/>
                </a:solidFill>
                <a:latin typeface="Arial"/>
              </a:rPr>
              <a:t> </a:t>
            </a:r>
            <a:r>
              <a:rPr b="1" i="1" lang="en-US" sz="1200" spc="-1" strike="noStrike">
                <a:solidFill>
                  <a:srgbClr val="000000"/>
                </a:solidFill>
                <a:latin typeface="Arial"/>
              </a:rPr>
              <a:t>threshold</a:t>
            </a:r>
            <a:r>
              <a:rPr b="1" lang="en-US" sz="1200" spc="-1" strike="noStrike">
                <a:solidFill>
                  <a:srgbClr val="000000"/>
                </a:solidFill>
                <a:latin typeface="Arial"/>
              </a:rPr>
              <a:t> and the </a:t>
            </a:r>
            <a:r>
              <a:rPr b="1" i="1" lang="en-US" sz="1200" spc="-1" strike="noStrike">
                <a:solidFill>
                  <a:srgbClr val="000000"/>
                </a:solidFill>
                <a:latin typeface="Arial"/>
              </a:rPr>
              <a:t>difference threshold</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bsolute threshold is measured by researchers in terms of “half the time” because  of human variability- the minimum level of stimulation varies from person to person and from trial to tria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ychologist Eugene Galanter has provided these examples of the absolute thresholds for our senses. In each case, people are able to sense these faint stimuli at least half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ideal conditions, (which rarely occur in normal everyday life), our sensory abilities are far more sensitive than you might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o further explain,  in </a:t>
            </a:r>
            <a:r>
              <a:rPr b="1" i="1" lang="en-US" sz="1200" spc="-1" strike="noStrike">
                <a:solidFill>
                  <a:srgbClr val="000000"/>
                </a:solidFill>
                <a:latin typeface="Arial"/>
              </a:rPr>
              <a:t>vision</a:t>
            </a:r>
            <a:r>
              <a:rPr b="1" lang="en-US" sz="1200" spc="-1" strike="noStrike">
                <a:solidFill>
                  <a:srgbClr val="000000"/>
                </a:solidFill>
                <a:latin typeface="Arial"/>
              </a:rPr>
              <a:t>, a minimum amount of </a:t>
            </a:r>
            <a:r>
              <a:rPr b="1" i="1" lang="en-US" sz="1200" spc="-1" strike="noStrike">
                <a:solidFill>
                  <a:srgbClr val="000000"/>
                </a:solidFill>
                <a:latin typeface="Arial"/>
              </a:rPr>
              <a:t>light energy</a:t>
            </a:r>
            <a:r>
              <a:rPr b="1" lang="en-US" sz="1200" spc="-1" strike="noStrike">
                <a:solidFill>
                  <a:srgbClr val="000000"/>
                </a:solidFill>
                <a:latin typeface="Arial"/>
              </a:rPr>
              <a:t> must pass through our eyes for us to see a light in this case, 30 miles away on a clear, dark nigh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0D077-E198-494F-B06D-74C613F9E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567AE-5956-46B6-B40B-14B7B615E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A8711-42A8-4D73-ABD3-6AB7886AA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6BD2E-4FDC-433F-B133-B707E3713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A610A8-BCC6-41DC-94FA-F8FE040D0B5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DD2581-FF18-45EB-A894-7B7A53F814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B1B321-E1FB-4DFA-B3E0-45D57F3DC17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CCB5DD-3871-428C-B0A5-301AB314766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46AF8B-607E-430D-8A39-74A686CF434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1B7787-6BD8-44FF-A9CC-508BF671940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DEF411-570A-484E-B560-88C1EEFD3C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C8E24-F58B-4615-A509-F81510227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D5BE8D-EEE0-43ED-9818-C76C8E54A0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ADD218-B3D3-4E44-A768-0EF3CA02DC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11C25E-D407-4B4E-A484-3CA8431BFA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A7CDB3-83B9-4EF4-A707-AC01EE93667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F8571F-EA53-4F6A-9195-04FB0752A5D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4C66B-9CB0-453D-BEB8-9039605B6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63196-0DD8-4C42-8BC0-187C05E52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D5654-7B0E-4F51-94BC-E9DC73BF6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FD88E-3A7D-41FC-BD85-84E174379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82963-3BB4-49F2-8A21-32D9D10E0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06C34-5572-4DB9-89F3-18A8BEAA4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3F5CF-B43D-409E-87AE-E6C28A852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1B897-60DD-477A-A72A-99DC603B13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CBCE-77C7-421B-8D11-CC8CC14E27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nsation and Perception</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pter 3</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fference Threshold</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mallest possible difference between two stimuli that can be detected half the tim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called </a:t>
            </a:r>
            <a:r>
              <a:rPr b="0" i="1" lang="en-US" sz="3200" spc="-1" strike="noStrike">
                <a:solidFill>
                  <a:srgbClr val="ffffff"/>
                </a:solidFill>
                <a:latin typeface="Tahoma"/>
              </a:rPr>
              <a:t>just noticeable difference (jn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fference threshold will vary; it is not a constant , even for a specific sensory system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ber’s Law</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rinciple of sensation</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each sense, the size of the just noticeable difference (difference threshold) is a constant proportion of the size of the initial stimulu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ther we can detect a change in the strength of the stimulus depends on the intensity of the  </a:t>
            </a:r>
            <a:r>
              <a:rPr b="0" i="1" lang="en-US" sz="3200" spc="-1" strike="noStrike">
                <a:solidFill>
                  <a:srgbClr val="ffffff"/>
                </a:solidFill>
                <a:latin typeface="Tahoma"/>
              </a:rPr>
              <a:t>original</a:t>
            </a:r>
            <a:r>
              <a:rPr b="0" lang="en-US" sz="3200" spc="-1" strike="noStrike">
                <a:solidFill>
                  <a:srgbClr val="ffffff"/>
                </a:solidFill>
                <a:latin typeface="Tahoma"/>
              </a:rPr>
              <a:t> stimul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nsory Adaptation</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gradual decline in sensitivity to a constant stimulu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bliminal Perception</a:t>
            </a:r>
            <a:br>
              <a:rPr sz="4000"/>
            </a:br>
            <a:endParaRPr b="0" lang="en-US" sz="40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fers to the perception of stimuli that are below the threshold of conscious perception or awareness</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subliminal messages in advertising and self-help tapes change people’s behavior?</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sychologists have found that the effects of subliminal stimuli tend to be weak or short-lived, usually lasting only seconds or minut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sion</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ense organ for vision is the eye, which contains receptor cells that are sensitive to the physical energy of </a:t>
            </a:r>
            <a:r>
              <a:rPr b="0" i="1" lang="en-US" sz="2800" spc="-1" strike="noStrike">
                <a:solidFill>
                  <a:srgbClr val="ffffff"/>
                </a:solidFill>
                <a:latin typeface="Tahoma"/>
              </a:rPr>
              <a:t>light.</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st important sense to human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ght is one of many different kinds of magnetic energy that travels in the form of wave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forms of electromagnetic energy include X-rays, the microwave oven, and ultraviolet light (sunburn)</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ye Structure: Anatomy and Functions</a:t>
            </a:r>
            <a:endParaRPr b="0" lang="en-US" sz="40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e an object- light waves reflected from the object enter your eye and pass through the </a:t>
            </a:r>
            <a:r>
              <a:rPr b="0" i="1" lang="en-US" sz="3200" spc="-1" strike="noStrike">
                <a:solidFill>
                  <a:srgbClr val="ffffff"/>
                </a:solidFill>
                <a:latin typeface="Tahoma"/>
              </a:rPr>
              <a:t>cornea, pupil</a:t>
            </a:r>
            <a:r>
              <a:rPr b="0" lang="en-US" sz="3200" spc="-1" strike="noStrike">
                <a:solidFill>
                  <a:srgbClr val="ffffff"/>
                </a:solidFill>
                <a:latin typeface="Tahoma"/>
              </a:rPr>
              <a:t>, and </a:t>
            </a:r>
            <a:r>
              <a:rPr b="0" i="1" lang="en-US" sz="3200" spc="-1" strike="noStrike">
                <a:solidFill>
                  <a:srgbClr val="ffffff"/>
                </a:solidFill>
                <a:latin typeface="Tahoma"/>
              </a:rPr>
              <a:t>lense</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rnea</a:t>
            </a:r>
            <a:br>
              <a:rPr sz="4000"/>
            </a:br>
            <a:endParaRPr b="0" lang="en-US" sz="40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lear membrane that covers the front of the eye, helps gather and direct incoming ligh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upil</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ack opening in the middle of the ey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ris</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rrounds the pupil, the colored structure that we refer to when we say someone has brown or blue ey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sts of a ring of muscles that contracts or expands to precisely control the size of the pupil and the amount of light entering the ey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ns</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hind the pupil is the </a:t>
            </a:r>
            <a:r>
              <a:rPr b="0" i="1" lang="en-US" sz="2800" spc="-1" strike="noStrike">
                <a:solidFill>
                  <a:srgbClr val="ffffff"/>
                </a:solidFill>
                <a:latin typeface="Tahoma"/>
              </a:rPr>
              <a:t>lens</a:t>
            </a:r>
            <a:r>
              <a:rPr b="0" lang="en-US" sz="2800" spc="-1" strike="noStrike">
                <a:solidFill>
                  <a:srgbClr val="ffffff"/>
                </a:solidFill>
                <a:latin typeface="Tahoma"/>
              </a:rPr>
              <a:t>, a transparent structure held in place by </a:t>
            </a:r>
            <a:r>
              <a:rPr b="0" i="1" lang="en-US" sz="2800" spc="-1" strike="noStrike">
                <a:solidFill>
                  <a:srgbClr val="ffffff"/>
                </a:solidFill>
                <a:latin typeface="Tahoma"/>
              </a:rPr>
              <a:t>ciliary muscles</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ens thickens and thins to bend or focus incoming light (</a:t>
            </a:r>
            <a:r>
              <a:rPr b="0" i="1" lang="en-US" sz="2800" spc="-1" strike="noStrike">
                <a:solidFill>
                  <a:srgbClr val="ffffff"/>
                </a:solidFill>
                <a:latin typeface="Tahoma"/>
              </a:rPr>
              <a:t>accommodation</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normally shaped eyeballs cause improper focus of incoming light on the retina</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esults in a visual disorder- nearsightedness, farsightedness, or astigmatis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sensation ?</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senses are the gateway through which your brain receives all information about it’s environment</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natural and automatic proces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taken for granted until it is interrupted by injury or illnes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with one nonfunctional sense are amazingly adapti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arsightedness- Myopia</a:t>
            </a:r>
            <a:br>
              <a:rPr sz="4000"/>
            </a:br>
            <a:endParaRPr b="0" lang="en-US" sz="40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ght from a distant object is focused on the front of the retin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rsightedness- Hyperopia</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ght from an object or image close by is focused behind the reti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resbyopia</a:t>
            </a:r>
            <a:r>
              <a:rPr b="0" lang="en-US" sz="3200" spc="-1" strike="noStrike">
                <a:solidFill>
                  <a:srgbClr val="ffffff"/>
                </a:solidFill>
                <a:latin typeface="Tahoma"/>
              </a:rPr>
              <a:t>: during middle age, another form of farsightedness caused when the lens becomes brittle and inflex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stigmatism</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bnormally curved eyeball results in blurry vision for lines in a particular dire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rrected with glasses that intercept and bend the light so that the image falls properly on the reti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Retina</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hin, light-sensitive membrane that lies at the back of the eye, covering most of its inner surface</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ains two types of receptors for light: </a:t>
            </a:r>
            <a:r>
              <a:rPr b="0" i="1" lang="en-US" sz="3200" spc="-1" strike="noStrike">
                <a:solidFill>
                  <a:srgbClr val="ffffff"/>
                </a:solidFill>
                <a:latin typeface="Tahoma"/>
              </a:rPr>
              <a:t>rods</a:t>
            </a:r>
            <a:r>
              <a:rPr b="0" lang="en-US" sz="3200" spc="-1" strike="noStrike">
                <a:solidFill>
                  <a:srgbClr val="ffffff"/>
                </a:solidFill>
                <a:latin typeface="Tahoma"/>
              </a:rPr>
              <a:t> and </a:t>
            </a:r>
            <a:r>
              <a:rPr b="0" i="1" lang="en-US" sz="3200" spc="-1" strike="noStrike">
                <a:solidFill>
                  <a:srgbClr val="ffffff"/>
                </a:solidFill>
                <a:latin typeface="Tahoma"/>
              </a:rPr>
              <a:t>cone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exposed to light, rods and cones undergo a chemical reaction that results in a neural sig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ods</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g and thin with blunt end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ye contains about 125 million rods located in the outer edge of the reti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cialized function: they are very sensitive to ligh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rely on them for our vision in dim light and at nigh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es</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out 6 million per eye located in a small central region of the retina (</a:t>
            </a:r>
            <a:r>
              <a:rPr b="0" i="1" lang="en-US" sz="2800" spc="-1" strike="noStrike">
                <a:solidFill>
                  <a:srgbClr val="ffffff"/>
                </a:solidFill>
                <a:latin typeface="Tahoma"/>
              </a:rPr>
              <a:t>fovea</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es respond differently to different wave lengths, or colors, of light</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ponsible for color vision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cone responds to either red, green, or blue wavelengths</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es are very sensitive to small features in the environment; visual acuity</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cessing Visual Information-</a:t>
            </a:r>
            <a:br>
              <a:rPr sz="4000"/>
            </a:br>
            <a:r>
              <a:rPr b="0" lang="en-US" sz="4000" spc="-1" strike="noStrike">
                <a:solidFill>
                  <a:srgbClr val="ffffff"/>
                </a:solidFill>
                <a:latin typeface="Tahoma"/>
              </a:rPr>
              <a:t>from the retina to the brain</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ds and cones connect to specialized neurons called </a:t>
            </a:r>
            <a:r>
              <a:rPr b="0" i="1" lang="en-US" sz="3200" spc="-1" strike="noStrike">
                <a:solidFill>
                  <a:srgbClr val="ffffff"/>
                </a:solidFill>
                <a:latin typeface="Tahoma"/>
              </a:rPr>
              <a:t>bipolar cell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ipolar cells then funnel the collected raw data on to the </a:t>
            </a:r>
            <a:r>
              <a:rPr b="0" i="1" lang="en-US" sz="3200" spc="-1" strike="noStrike">
                <a:solidFill>
                  <a:srgbClr val="ffffff"/>
                </a:solidFill>
                <a:latin typeface="Tahoma"/>
              </a:rPr>
              <a:t>ganglion cell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nglion cells are specialized neuro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one million ganglion cell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is the information transmitted from the ganglion cells of the retina to the brain?</a:t>
            </a:r>
            <a:endParaRPr b="0" lang="en-US" sz="40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ne million axons of the ganglion cells are bundled together to form the </a:t>
            </a:r>
            <a:r>
              <a:rPr b="0" i="1" lang="en-US" sz="3200" spc="-1" strike="noStrike">
                <a:solidFill>
                  <a:srgbClr val="ffffff"/>
                </a:solidFill>
                <a:latin typeface="Tahoma"/>
              </a:rPr>
              <a:t>optic nerve, </a:t>
            </a:r>
            <a:r>
              <a:rPr b="0" lang="en-US" sz="3200" spc="-1" strike="noStrike">
                <a:solidFill>
                  <a:srgbClr val="ffffff"/>
                </a:solidFill>
                <a:latin typeface="Tahoma"/>
              </a:rPr>
              <a:t>which carries messages from each eye to the brain</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lace where the axons of the ganglion cells join to form the optic nerve is called the </a:t>
            </a:r>
            <a:r>
              <a:rPr b="0" i="1" lang="en-US" sz="3200" spc="-1" strike="noStrike">
                <a:solidFill>
                  <a:srgbClr val="ffffff"/>
                </a:solidFill>
                <a:latin typeface="Tahoma"/>
              </a:rPr>
              <a:t>blind spot</a:t>
            </a:r>
            <a:r>
              <a:rPr b="0" lang="en-US" sz="3200" spc="-1" strike="noStrike">
                <a:solidFill>
                  <a:srgbClr val="ffffff"/>
                </a:solidFill>
                <a:latin typeface="Tahoma"/>
              </a:rPr>
              <a:t> </a:t>
            </a:r>
            <a:r>
              <a:rPr b="0" i="1" lang="en-US" sz="3200" spc="-1" strike="noStrike">
                <a:solidFill>
                  <a:srgbClr val="ffffff"/>
                </a:solidFill>
                <a:latin typeface="Tahoma"/>
              </a:rPr>
              <a:t>– </a:t>
            </a:r>
            <a:r>
              <a:rPr b="0" lang="en-US" sz="3200" spc="-1" strike="noStrike">
                <a:solidFill>
                  <a:srgbClr val="ffffff"/>
                </a:solidFill>
                <a:latin typeface="Tahoma"/>
              </a:rPr>
              <a:t>an area that contains no photo receptors and is insensitive to ligh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ptic Chiasm</a:t>
            </a: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the nerve fibers that make up the optic nerve leave the eyes, they separate, and some of them cross to the other side of the head at the </a:t>
            </a:r>
            <a:r>
              <a:rPr b="0" i="1" lang="en-US" sz="3200" spc="-1" strike="noStrike">
                <a:solidFill>
                  <a:srgbClr val="ffffff"/>
                </a:solidFill>
                <a:latin typeface="Tahoma"/>
              </a:rPr>
              <a:t>optic chiasm.</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erve fibers from the right side of each eye travel to the right hemisphere of the brain; those from the left side of the eye travel to the left hemisphe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ural pathways in the brain</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3200" spc="-1" strike="noStrike">
                <a:solidFill>
                  <a:srgbClr val="ffffff"/>
                </a:solidFill>
                <a:latin typeface="Tahoma"/>
              </a:rPr>
              <a:t>thalamus- </a:t>
            </a:r>
            <a:r>
              <a:rPr b="0" lang="en-US" sz="3200" spc="-1" strike="noStrike">
                <a:solidFill>
                  <a:srgbClr val="ffffff"/>
                </a:solidFill>
                <a:latin typeface="Tahoma"/>
              </a:rPr>
              <a:t>processes information about form, color, brightness, and dept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3200" spc="-1" strike="noStrike">
                <a:solidFill>
                  <a:srgbClr val="ffffff"/>
                </a:solidFill>
                <a:latin typeface="Tahoma"/>
              </a:rPr>
              <a:t>midbrain</a:t>
            </a:r>
            <a:r>
              <a:rPr b="0" lang="en-US" sz="3200" spc="-1" strike="noStrike">
                <a:solidFill>
                  <a:srgbClr val="ffffff"/>
                </a:solidFill>
                <a:latin typeface="Tahoma"/>
              </a:rPr>
              <a:t>- processes information about the location of an objec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visual cortex: </a:t>
            </a:r>
            <a:r>
              <a:rPr b="0" lang="en-US" sz="3200" spc="-1" strike="noStrike">
                <a:solidFill>
                  <a:srgbClr val="ffffff"/>
                </a:solidFill>
                <a:latin typeface="Tahoma"/>
              </a:rPr>
              <a:t>processes information about form- such as angels, lines, movement and distance of objec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verlapping Processes: Sensation and Perception</a:t>
            </a:r>
            <a:endParaRPr b="0" lang="en-US" sz="40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Sensation</a:t>
            </a:r>
            <a:r>
              <a:rPr b="0" lang="en-US" sz="2800" spc="-1" strike="noStrike">
                <a:solidFill>
                  <a:srgbClr val="ffffff"/>
                </a:solidFill>
                <a:latin typeface="Tahoma"/>
              </a:rPr>
              <a:t>: the detection and sensing of environmental stimuli (sounds, objects, odo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Perception</a:t>
            </a:r>
            <a:r>
              <a:rPr b="0" lang="en-US" sz="2800" spc="-1" strike="noStrike">
                <a:solidFill>
                  <a:srgbClr val="ffffff"/>
                </a:solidFill>
                <a:latin typeface="Tahoma"/>
              </a:rPr>
              <a:t>: occurs when we integrate, organize, and interpret sensory information in a meaningful wa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clear boundary line between the two processes- psychology often regards the two processes as a single proces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lor Vision: 3 Properties of Color </a:t>
            </a:r>
            <a:endParaRPr b="0" lang="en-US" sz="40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s can see a range of colo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1.Hues</a:t>
            </a:r>
            <a:r>
              <a:rPr b="0" lang="en-US" sz="2800" spc="-1" strike="noStrike">
                <a:solidFill>
                  <a:srgbClr val="ffffff"/>
                </a:solidFill>
                <a:latin typeface="Tahoma"/>
              </a:rPr>
              <a:t>: different colors we see; varies with the wavelength of ligh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2.Saturation</a:t>
            </a:r>
            <a:r>
              <a:rPr b="0" lang="en-US" sz="2800" spc="-1" strike="noStrike">
                <a:solidFill>
                  <a:srgbClr val="ffffff"/>
                </a:solidFill>
                <a:latin typeface="Tahoma"/>
              </a:rPr>
              <a:t>: vividness or richness of the hue (purit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3.Brightness:</a:t>
            </a:r>
            <a:r>
              <a:rPr b="0" lang="en-US" sz="2800" spc="-1" strike="noStrike">
                <a:solidFill>
                  <a:srgbClr val="ffffff"/>
                </a:solidFill>
                <a:latin typeface="Tahoma"/>
              </a:rPr>
              <a:t> perceived intensit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lor of an object is determined by the wavelength of light that the object reflec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lor and other specie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animals have some color visio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chromats: can see all hues-(humans, monkeys, ap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chromats: can only see reds or greens, blues or yellows (most mammal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ochromats: completely color blind (reptiles, fish, insects, shellfis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earing</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Sound</a:t>
            </a:r>
            <a:r>
              <a:rPr b="0" lang="en-US" sz="3200" spc="-1" strike="noStrike">
                <a:solidFill>
                  <a:srgbClr val="ffffff"/>
                </a:solidFill>
                <a:latin typeface="Tahoma"/>
              </a:rPr>
              <a:t> is air in mo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n object vibrates, it causes the air around it to move in wav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ves travel 700 MP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mans detect vibrations of a frequency between 30 and 20,000 </a:t>
            </a:r>
            <a:r>
              <a:rPr b="0" i="1" lang="en-US" sz="3200" spc="-1" strike="noStrike">
                <a:solidFill>
                  <a:srgbClr val="ffffff"/>
                </a:solidFill>
                <a:latin typeface="Tahoma"/>
              </a:rPr>
              <a:t>hertz</a:t>
            </a:r>
            <a:r>
              <a:rPr b="0" lang="en-US" sz="3200" spc="-1" strike="noStrike">
                <a:solidFill>
                  <a:srgbClr val="ffffff"/>
                </a:solidFill>
                <a:latin typeface="Tahoma"/>
              </a:rPr>
              <a:t> (cycles per secon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Dimensions of Sound</a:t>
            </a:r>
            <a:br>
              <a:rPr sz="4000"/>
            </a:br>
            <a:endParaRPr b="0" lang="en-US" sz="40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itch</a:t>
            </a:r>
            <a:r>
              <a:rPr b="0" lang="en-US" sz="3200" spc="-1" strike="noStrike">
                <a:solidFill>
                  <a:srgbClr val="ffffff"/>
                </a:solidFill>
                <a:latin typeface="Tahoma"/>
              </a:rPr>
              <a:t>- determined by the frequency of soun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Loudness</a:t>
            </a:r>
            <a:r>
              <a:rPr b="0" lang="en-US" sz="3200" spc="-1" strike="noStrike">
                <a:solidFill>
                  <a:srgbClr val="ffffff"/>
                </a:solidFill>
                <a:latin typeface="Tahoma"/>
              </a:rPr>
              <a:t>- the result of the sound’s intensity, or energ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imbre</a:t>
            </a:r>
            <a:r>
              <a:rPr b="0" lang="en-US" sz="3200" spc="-1" strike="noStrike">
                <a:solidFill>
                  <a:srgbClr val="ffffff"/>
                </a:solidFill>
                <a:latin typeface="Tahoma"/>
              </a:rPr>
              <a:t>- the nature of the sound, or the “shap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Ear: Structure and Transduction</a:t>
            </a:r>
            <a:endParaRPr b="0" lang="en-US" sz="40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ar is divided into three areas: outer, middle, inn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OUTER EAR</a:t>
            </a:r>
            <a:r>
              <a:rPr b="0" lang="en-US" sz="3200" spc="-1" strike="noStrike">
                <a:solidFill>
                  <a:srgbClr val="ffffff"/>
                </a:solidFill>
                <a:latin typeface="Tahoma"/>
              </a:rPr>
              <a:t>: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nds enters through flap- </a:t>
            </a:r>
            <a:r>
              <a:rPr b="0" i="1" lang="en-US" sz="2800" spc="-1" strike="noStrike">
                <a:solidFill>
                  <a:srgbClr val="ffffff"/>
                </a:solidFill>
                <a:latin typeface="Tahoma"/>
              </a:rPr>
              <a:t>pinna</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nds travels through the air-filled auditory canal</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iddle Ear</a:t>
            </a: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nd enters middle ear – hits </a:t>
            </a:r>
            <a:r>
              <a:rPr b="0" i="1" lang="en-US" sz="2800" spc="-1" strike="noStrike">
                <a:solidFill>
                  <a:srgbClr val="ffffff"/>
                </a:solidFill>
                <a:latin typeface="Tahoma"/>
              </a:rPr>
              <a:t>tympanic</a:t>
            </a:r>
            <a:r>
              <a:rPr b="0" lang="en-US" sz="2800" spc="-1" strike="noStrike">
                <a:solidFill>
                  <a:srgbClr val="ffffff"/>
                </a:solidFill>
                <a:latin typeface="Tahoma"/>
              </a:rPr>
              <a:t> </a:t>
            </a:r>
            <a:r>
              <a:rPr b="0" i="1" lang="en-US" sz="2800" spc="-1" strike="noStrike">
                <a:solidFill>
                  <a:srgbClr val="ffffff"/>
                </a:solidFill>
                <a:latin typeface="Tahoma"/>
              </a:rPr>
              <a:t>membrane</a:t>
            </a:r>
            <a:r>
              <a:rPr b="0" lang="en-US" sz="2800" spc="-1" strike="noStrike">
                <a:solidFill>
                  <a:srgbClr val="ffffff"/>
                </a:solidFill>
                <a:latin typeface="Tahoma"/>
              </a:rPr>
              <a:t> (eardrum) which vibrates with sound</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hind the eardrum- 3 small bones- hammer, anvil, stirrup</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irrup vibrates onto the </a:t>
            </a:r>
            <a:r>
              <a:rPr b="0" i="1" lang="en-US" sz="2800" spc="-1" strike="noStrike">
                <a:solidFill>
                  <a:srgbClr val="ffffff"/>
                </a:solidFill>
                <a:latin typeface="Tahoma"/>
              </a:rPr>
              <a:t>oval window</a:t>
            </a:r>
            <a:r>
              <a:rPr b="0" lang="en-US" sz="2800" spc="-1" strike="noStrike">
                <a:solidFill>
                  <a:srgbClr val="ffffff"/>
                </a:solidFill>
                <a:latin typeface="Tahoma"/>
              </a:rPr>
              <a:t>, a membrane which covers an opening in the middle ea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ner Ear </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Cochlea</a:t>
            </a:r>
            <a:r>
              <a:rPr b="0" lang="en-US" sz="3200" spc="-1" strike="noStrike">
                <a:solidFill>
                  <a:srgbClr val="ffffff"/>
                </a:solidFill>
                <a:latin typeface="Tahoma"/>
              </a:rPr>
              <a:t>- transmits auditory information, contains 3 separate fluid-filled canal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als spiral inside the cochlea, which wraps around like a snail’s shel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chlea comprises the </a:t>
            </a:r>
            <a:r>
              <a:rPr b="0" i="1" lang="en-US" sz="3200" spc="-1" strike="noStrike">
                <a:solidFill>
                  <a:srgbClr val="ffffff"/>
                </a:solidFill>
                <a:latin typeface="Tahoma"/>
              </a:rPr>
              <a:t>Corti</a:t>
            </a:r>
            <a:r>
              <a:rPr b="0" lang="en-US" sz="3200" spc="-1" strike="noStrike">
                <a:solidFill>
                  <a:srgbClr val="ffffff"/>
                </a:solidFill>
                <a:latin typeface="Tahoma"/>
              </a:rPr>
              <a:t>- organ which contains auditory receptor cel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ductive Deafness</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Conductive deafness:</a:t>
            </a:r>
            <a:r>
              <a:rPr b="0" lang="en-US" sz="3200" spc="-1" strike="noStrike">
                <a:solidFill>
                  <a:srgbClr val="ffffff"/>
                </a:solidFill>
                <a:latin typeface="Tahoma"/>
              </a:rPr>
              <a:t> ear is not carrying sounds from the outer ear to the inner por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nes of inner ear may be damaged, or</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be an accumulation of dirt in the ear</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on will be equally deaf to high and low tones</a:t>
            </a: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rve Deafness</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on has hard time hearing high -pitched ton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mage to the auditory nervous syste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ir cells in the cochlea may be damaged- can no longer transduce vibrations of the cochlea fluid into neural impuls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uch</a:t>
            </a: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kin has 4 main senses of touch: </a:t>
            </a:r>
            <a:r>
              <a:rPr b="0" i="1" lang="en-US" sz="2400" spc="-1" strike="noStrike">
                <a:solidFill>
                  <a:srgbClr val="ffffff"/>
                </a:solidFill>
                <a:latin typeface="Tahoma"/>
              </a:rPr>
              <a:t>Cutaneous senses-</a:t>
            </a:r>
            <a:r>
              <a:rPr b="0" lang="en-US" sz="2400" spc="-1" strike="noStrike">
                <a:solidFill>
                  <a:srgbClr val="ffffff"/>
                </a:solidFill>
                <a:latin typeface="Tahoma"/>
              </a:rPr>
              <a:t> cold, warmth, pressure, pain</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Free nerve fibers-</a:t>
            </a:r>
            <a:r>
              <a:rPr b="0" lang="en-US" sz="2400" spc="-1" strike="noStrike">
                <a:solidFill>
                  <a:srgbClr val="ffffff"/>
                </a:solidFill>
                <a:latin typeface="Tahoma"/>
              </a:rPr>
              <a:t> responsible for temperature sensation- an increase in body temperature elicits a respons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Pressure-sensitive cells</a:t>
            </a:r>
            <a:r>
              <a:rPr b="0" lang="en-US" sz="2400" spc="-1" strike="noStrike">
                <a:solidFill>
                  <a:srgbClr val="ffffff"/>
                </a:solidFill>
                <a:latin typeface="Tahoma"/>
              </a:rPr>
              <a:t>: cells create receptor potentials when skin is bent or deformed</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sket nerve ending</a:t>
            </a:r>
            <a:r>
              <a:rPr b="0" lang="en-US" sz="2400" spc="-1" strike="noStrike">
                <a:solidFill>
                  <a:srgbClr val="ffffff"/>
                </a:solidFill>
                <a:latin typeface="Tahoma"/>
              </a:rPr>
              <a:t>: structure that sense pressure at the roots of hai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Pacinian corpuscles</a:t>
            </a:r>
            <a:r>
              <a:rPr b="0" lang="en-US" sz="2400" spc="-1" strike="noStrike">
                <a:solidFill>
                  <a:srgbClr val="ffffff"/>
                </a:solidFill>
                <a:latin typeface="Tahoma"/>
              </a:rPr>
              <a:t>: respond when one feels deep pressure, such as in a massag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nsation</a:t>
            </a:r>
            <a:br>
              <a:rPr sz="4000"/>
            </a:br>
            <a:endParaRPr b="0" lang="en-US" sz="40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sensation is the result of stimulation of specialized cells, called </a:t>
            </a:r>
            <a:r>
              <a:rPr b="0" i="1" lang="en-US" sz="2800" spc="-1" strike="noStrike">
                <a:solidFill>
                  <a:srgbClr val="ffffff"/>
                </a:solidFill>
                <a:latin typeface="Tahoma"/>
              </a:rPr>
              <a:t>sensory receptors, </a:t>
            </a:r>
            <a:r>
              <a:rPr b="0" lang="en-US" sz="2800" spc="-1" strike="noStrike">
                <a:solidFill>
                  <a:srgbClr val="ffffff"/>
                </a:solidFill>
                <a:latin typeface="Tahoma"/>
              </a:rPr>
              <a:t>by some form of </a:t>
            </a:r>
            <a:r>
              <a:rPr b="0" i="1" lang="en-US" sz="2800" spc="-1" strike="noStrike">
                <a:solidFill>
                  <a:srgbClr val="ffffff"/>
                </a:solidFill>
                <a:latin typeface="Tahoma"/>
              </a:rPr>
              <a:t>energy</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rms of energy  most commonly in contact with: light, sound, heat, pressure, chemical energ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sory receptors convert forms of energy into electric impulses that are transmitted via neurons to the brai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te (Gustation)</a:t>
            </a:r>
            <a:endParaRPr b="0" lang="en-US" sz="44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te receptors: sensitive to sweet, sour, bitter, salty tast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aliva</a:t>
            </a:r>
            <a:r>
              <a:rPr b="0" lang="en-US" sz="2800" spc="-1" strike="noStrike">
                <a:solidFill>
                  <a:srgbClr val="ffffff"/>
                </a:solidFill>
                <a:latin typeface="Tahoma"/>
              </a:rPr>
              <a:t>- food enters mouth, mixes with liqui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ution flows into tiny “holes” in the tongue: </a:t>
            </a:r>
            <a:r>
              <a:rPr b="0" i="1" lang="en-US" sz="2800" spc="-1" strike="noStrike">
                <a:solidFill>
                  <a:srgbClr val="ffffff"/>
                </a:solidFill>
                <a:latin typeface="Tahoma"/>
              </a:rPr>
              <a:t>taste por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pore contains slim, hair like structures which are part of the taste bu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stimulated, receptor potential form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rves pass from tongue to the brain- tastes have different patterns of neural activi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mell (Olfaction)</a:t>
            </a:r>
            <a:endParaRPr b="0" lang="en-US" sz="44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ense of smell is entwined with tast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se of smell can evoke  distant memories and has connection to the temporal lob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imulus for smell is air-born chemical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lfactory receptors-</a:t>
            </a:r>
            <a:r>
              <a:rPr b="0" lang="en-US" sz="2800" spc="-1" strike="noStrike">
                <a:solidFill>
                  <a:srgbClr val="ffffff"/>
                </a:solidFill>
                <a:latin typeface="Tahoma"/>
              </a:rPr>
              <a:t> lie beneath nose in two patches of mucous membran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micals in the air dissolve in the mucous and stimulate olfactory hair cells, </a:t>
            </a:r>
            <a:r>
              <a:rPr b="0" i="1" lang="en-US" sz="2800" spc="-1" strike="noStrike">
                <a:solidFill>
                  <a:srgbClr val="ffffff"/>
                </a:solidFill>
                <a:latin typeface="Tahoma"/>
              </a:rPr>
              <a:t>cili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lfactory mucosa</a:t>
            </a:r>
            <a:r>
              <a:rPr b="0" lang="en-US" sz="2800" spc="-1" strike="noStrike">
                <a:solidFill>
                  <a:srgbClr val="ffffff"/>
                </a:solidFill>
                <a:latin typeface="Tahoma"/>
              </a:rPr>
              <a:t>- contains free nerve endings that sense noxious substances like ammonia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nsory Deprivation</a:t>
            </a: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you do if you couldn’t sense anything at all?</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sory deprivation studie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external stimuli kept to a minimum (sound proof room with no light)</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hanging or distorting the subject’s environment (may hear a constant buzzing)</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a monotonous environment, with no change in stimul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nsory Deprivation in Adults</a:t>
            </a: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symptoms: (depending on type of depriva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blems thinking clearly and concentrating, and score low on intelligence tes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iculty counting above 20</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llucinat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nsory Deprivation in Infants</a:t>
            </a: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infants are deprived at critical stages of development, they may never develop normal abiliti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phanage babies vs. Nursing home babies</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Senses</a:t>
            </a:r>
            <a:br>
              <a:rPr sz="4000"/>
            </a:b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mans have five basic senses, each receptive to a different form of energ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GHT: receives light energ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RING: receives sound energy or sound wav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UCH: receives mechanical energ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MELL: receives airborne chemical energ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TE: receives chemical energ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ization</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constantly bombarded by many different forms of energy.</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sory receptors are highly specialized and sensitive to specific types of energy</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any type of stimulation to be sensed, the stimulus energy must first be in the form to be detected by our receptor cel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nsory Threshold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senses are specialized in other ways- we do not have an infinite capacity to detect all levels of energy</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be sensed a stimulus must first be strong enough to be detected- loud enough to be heard, concentrated enough to be smelled, bright enough to be seen</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oint where the stimulus is strong enough to be detected by activating a sensory receptor cell is called </a:t>
            </a:r>
            <a:r>
              <a:rPr b="0" i="1" lang="en-US" sz="2800" spc="-1" strike="noStrike">
                <a:solidFill>
                  <a:srgbClr val="ffffff"/>
                </a:solidFill>
                <a:latin typeface="Tahoma"/>
              </a:rPr>
              <a:t>threshold</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bsolute Threshold</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nimum amount of energy in the environment that a sensory system can detect (half the time in trials and research)</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alanter’s (1962) </a:t>
            </a:r>
            <a:br>
              <a:rPr sz="4000"/>
            </a:br>
            <a:r>
              <a:rPr b="0" lang="en-US" sz="4000" spc="-1" strike="noStrike">
                <a:solidFill>
                  <a:srgbClr val="ffffff"/>
                </a:solidFill>
                <a:latin typeface="Tahoma"/>
              </a:rPr>
              <a:t>Absolute Thresholds</a:t>
            </a:r>
            <a:endParaRPr b="0" lang="en-US" sz="40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Sen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u="sng">
                <a:solidFill>
                  <a:srgbClr val="ffffff"/>
                </a:solidFill>
                <a:uFillTx/>
                <a:latin typeface="Tahoma"/>
              </a:rPr>
              <a:t>Absolute Threshold</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Vision </a:t>
            </a:r>
            <a:r>
              <a:rPr b="0" lang="en-US" sz="2400" spc="-1" strike="noStrike">
                <a:solidFill>
                  <a:srgbClr val="ffffff"/>
                </a:solidFill>
                <a:latin typeface="Tahoma"/>
              </a:rPr>
              <a:t>:  A candle flame seen from 30 miles away on a clear, dark nigh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Hearing:</a:t>
            </a:r>
            <a:r>
              <a:rPr b="0" i="1" lang="en-US" sz="2400" spc="-1" strike="noStrike">
                <a:solidFill>
                  <a:srgbClr val="ffffff"/>
                </a:solidFill>
                <a:latin typeface="Tahoma"/>
              </a:rPr>
              <a:t>  </a:t>
            </a:r>
            <a:r>
              <a:rPr b="0" lang="en-US" sz="2400" spc="-1" strike="noStrike">
                <a:solidFill>
                  <a:srgbClr val="ffffff"/>
                </a:solidFill>
                <a:latin typeface="Tahoma"/>
              </a:rPr>
              <a:t>The tick of a watch at 20 fee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Taste:</a:t>
            </a:r>
            <a:r>
              <a:rPr b="1" lang="en-US" sz="2400" spc="-1" strike="noStrike" u="sng">
                <a:solidFill>
                  <a:srgbClr val="ffffff"/>
                </a:solidFill>
                <a:uFillTx/>
                <a:latin typeface="Tahoma"/>
              </a:rPr>
              <a:t>	</a:t>
            </a:r>
            <a:r>
              <a:rPr b="0" lang="en-US" sz="2400" spc="-1" strike="noStrike">
                <a:solidFill>
                  <a:srgbClr val="ffffff"/>
                </a:solidFill>
                <a:latin typeface="Tahoma"/>
              </a:rPr>
              <a:t>1 teaspoon of sugar in 2 gallon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of water</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Smell</a:t>
            </a:r>
            <a:r>
              <a:rPr b="1" lang="en-US" sz="2400" spc="-1" strike="noStrike" u="sng">
                <a:solidFill>
                  <a:srgbClr val="ffffff"/>
                </a:solidFill>
                <a:uFillTx/>
                <a:latin typeface="Tahoma"/>
              </a:rPr>
              <a:t>	</a:t>
            </a:r>
            <a:r>
              <a:rPr b="1" lang="en-US" sz="2400" spc="-1" strike="noStrike" u="sng">
                <a:solidFill>
                  <a:srgbClr val="ffffff"/>
                </a:solidFill>
                <a:uFillTx/>
                <a:latin typeface="Tahoma"/>
              </a:rPr>
              <a:t>;</a:t>
            </a:r>
            <a:r>
              <a:rPr b="0" lang="en-US" sz="2400" spc="-1" strike="noStrike">
                <a:solidFill>
                  <a:srgbClr val="ffffff"/>
                </a:solidFill>
                <a:latin typeface="Tahoma"/>
              </a:rPr>
              <a:t>1 drop of perfume through-out a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3-room apartmen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Touch ; </a:t>
            </a:r>
            <a:r>
              <a:rPr b="0" lang="en-US" sz="2400" spc="-1" strike="noStrike">
                <a:solidFill>
                  <a:srgbClr val="ffffff"/>
                </a:solidFill>
                <a:latin typeface="Tahoma"/>
              </a:rPr>
              <a:t>A bee’s wing falling on your cheek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rom a height of about ½ inc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7T21:00:33Z</dcterms:created>
  <dc:creator>Peter Gianakos</dc:creator>
  <dc:description/>
  <dc:language>en-US</dc:language>
  <cp:lastModifiedBy>Peter Gianakos</cp:lastModifiedBy>
  <dcterms:modified xsi:type="dcterms:W3CDTF">2005-10-13T17:18:40Z</dcterms:modified>
  <cp:revision>14</cp:revision>
  <dc:subject/>
  <dc:title>Sensation and Perception</dc:title>
</cp:coreProperties>
</file>