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E59-E73A-46AA-A34F-302E82D0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693-2DF5-40BD-BD2A-4F16D9D8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9A0-B0AC-4182-920F-F5F97408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34E-41FE-401E-9F10-4CF1EFA0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28B-49F2-40CE-97E9-BE35B668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A4F-CC90-4149-B1A7-131F7AE9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064-30DB-438D-8BC7-31D414C0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AA6-0B7F-444E-ACC9-65F51E08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B8D-954D-4C0A-B414-9D44861F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BFA-0D57-421B-841E-0E2CA833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A94-4860-4579-9588-A5A3A7A6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3E7-3B3C-4AB2-96A2-EF1CD67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FF3-9922-491E-B40B-0071444BB6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ychological Disor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nic Disor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zed by recurrent, unpredictable panic attacks of overwhelming anxiety, fear, or t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se attacks people experience palpitations, trembling, shaking, choking or smothering sensations, and the feeling that they are going to die or lose their s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categories of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orapho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pho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pho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goraphob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of being in situations where escape is impossible or help is not available in case of incapacitating anx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cial Phob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of social situations where one might be embarrassed or humiliated by appearing clumsy or incompe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ecific Phob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rked fear of a specific object or situation and a catchall for all other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bsessive-Compulsive Disord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zed by obsessions (persistent, recurring, involuntary thoughts, images, or impulses that cause great distress) and/or compulsions (persistent, irresistible, irrational urges to perform an act or ritual repeated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jor depressive disorder characterized by feelings of great sadness, despair, guilt, worthlessness, hopelessness, and, in extreme cases, suicidal int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time rates of depression vary widely from one culture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re more likely to suffer from depression than men all over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polar Disor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od disorder in which a person suffers from manic episodes (periods of extreme elation, euphoria, and hyperactivity) alternating with major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ychological Disor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processes or behavior patterns that cause emotional distress and/or substantial impairment in fun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posed causes of mood disord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genetic predis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imbalance in neurotransmitters norepinephrine and seroto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endency to turn hostility and resentment inward rather than expressing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istorted and negative views of oneself, the world,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dity is a major cause of mood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thought patterns also contribute to these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life stresses may trigger a mood dis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ic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is linked to suicide along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derly, white males highest rate of suicide- perhaps due to poor health or lone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more likely to attempt, men more likely to be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an Americans have the lowest rate of all US ethnic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: abnormal behaviors and characteristics- hallucinations, disorganized thinking, delusions, disorganized speech, bizarre behavior, inappropriate a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symptoms: social withdrawal, apathy, loss of motivation, very limited speech, slowed movements, flat affect, poor hygiene and groo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4 types of schizophren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predis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n people who are predisp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ssive dopamine activity in the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OMATOFORM AND DISSOCIATIVE DISORD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 bodily symptoms that cannot be identified as any of the known medic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pochondria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istent fear that bodily symptoms are the signs of some serious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version disor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motor or sensory functioning in some part of the body, such as paralysis or blin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sociative amnes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memory for limited periods of their life or for their entire personal 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bnormal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behavior lies along a continuum, from well adjusted to mal-adju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long the continuum does behavior become abnorm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sociative fugue disor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forget their entire identity, travel away form home, may assume new identity somewhere 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sociative identity disor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r more distinct, unique personalities occur in the same person, each taking over at different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atients are female and victims of early, severe physical and/or sexual ab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Psychological Disor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 identity disor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ople feel their psychological gender identity is different form that which is typically associated with their biological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philia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erers have recurrent sexual urges, fantasies, and behaviors that involve children, other non-consenting partner, or non-human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xual dys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problem with sexual desire, arousal, org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 Clusters of Personality Disord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ith personality disorders have long-standing, inflexible, maladaptive patterns of behavior that cause problems in social relationships a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ause personal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are unable to change and always blame others for thei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ster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haracterized by od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ster B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rratic emotions and overly dramat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ster C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associated with extreme levels of fearfulness and anx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behavior considered strange within the person’s own cul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behavior cause personal distr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behavior maladap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person a danger to himself or to hersel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person legally responsible for his or her a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evalence of psychological Disord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% of Americans are diagnosed with a psychological disorder annually in the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fetime risk of being diagnosed with a psychological disorder is 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sa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al, not psychological 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an individual is not legally responsible for his/her behavior due to a psychiatric illness or some other temporary or permanent mental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SM-IV/TR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agnostic and Statistical Manual of Mental Disorder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s the criteria for assigning various diagn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sychological disorders are organized into various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XIETY DISOR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ralized Anxiety Disord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zed by chronic worry that is so severe that it interferes with daily fun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3:37:11Z</dcterms:created>
  <dc:creator>Peter Gianakos</dc:creator>
  <dc:description/>
  <dc:language>en-US</dc:language>
  <cp:lastModifiedBy>Peter Gianakos</cp:lastModifiedBy>
  <dcterms:modified xsi:type="dcterms:W3CDTF">2005-04-13T21:54:31Z</dcterms:modified>
  <cp:revision>3</cp:revision>
  <dc:subject/>
  <dc:title>Psychological Disorders</dc:title>
</cp:coreProperties>
</file>