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82E5-812B-4F1A-947B-2070B29AC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F48F-2C0E-403D-B2FC-CADE2E5D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6397-C22C-419A-858A-EAA42B823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1C7F-6D58-441D-B6C8-B641342B4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7683-509F-45F4-B623-C9314EB7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FB08-293D-4F77-8109-4472E191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4A6E-7809-4EEB-ADB8-4039EB81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7203-9654-492D-8CDD-D2AF3B87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ED8A-96FE-44DE-9E3B-E09ECD4E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B91E-733A-45B5-84F1-8E2DB5D7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7074-271D-4EC7-972E-266FB3D2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0BF1-D6E9-48A7-8F58-0C80CE82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5372-6B16-4205-819F-CBA55739A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otransmit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y and what do they contribute to the nervous system functio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otransmit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substances manufactured in the brain, spinal cord, glands, other parts of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ed within sphere shaped containers within the axon termina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ynapse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potential (electrical impuls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ccurs and arrives 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xon termi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urotransmitter (chemical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lecules are released into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naptic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lectrochemic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ppens once they are releas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neurotransmitters have a distinctive shape and are made to fit- like a lock and key- with receptor sites on the adjoining neu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y join with a receptor site they either excite or inhibit a particular action- or cause an action to happen or keep it from happ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Neurotransmit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 or more have been ident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etylchol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it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eletal muscle fibers (legs running, body move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hibits heart from beating too fast when ru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mulates neurons involved in learning new information- helps you to understand and store info in your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Neurotransmit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pam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nvolved in learning, movement, reinforcement- people with Parkinson’s Disease and schizophrenia are less sensitive to its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roton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lays an  important role in regulating mood, sleep, impulsivity, aggression, appet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9T00:39:20Z</dcterms:created>
  <dc:creator>Peter Gianakos</dc:creator>
  <dc:description/>
  <dc:language>en-US</dc:language>
  <cp:lastModifiedBy>Peter Gianakos</cp:lastModifiedBy>
  <dcterms:modified xsi:type="dcterms:W3CDTF">2005-09-29T00:39:27Z</dcterms:modified>
  <cp:revision>1</cp:revision>
  <dc:subject/>
  <dc:title>Neurotransmitters</dc:title>
</cp:coreProperties>
</file>