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47AAB-E522-4A2F-B7D1-5569AE4DF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15FDC-DE1B-44E7-A951-9C88F92B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18B6-7CB8-471A-9314-FA1BF8C9E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DB3C4-09AE-4BBE-83E4-D4870F201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8F99-3C51-4BCE-8515-6219F5B7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140D-ED94-42BE-868C-534B0C189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15D9C-F571-4419-9565-2C31D161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D41A2-BEB5-4587-8BE7-99E60602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95BA0-B12A-47EE-A9A1-25FAC463F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0FED3-9B94-47AF-82BD-BCDA04C38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F419-70FE-4E8F-B438-3C18F9CF1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DE5F1-9FE9-402F-866C-EC082AEC8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0AFB-206C-4A8A-8E51-2E556275B3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Your Mem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to Remember</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ways remember more effectively when you </a:t>
            </a:r>
            <a:r>
              <a:rPr b="1" lang="en-US" sz="3200" spc="-1" strike="noStrike">
                <a:solidFill>
                  <a:srgbClr val="000000"/>
                </a:solidFill>
                <a:latin typeface="Arial"/>
              </a:rPr>
              <a:t>choose to remember</a:t>
            </a:r>
            <a:r>
              <a:rPr b="0" lang="en-US" sz="3200" spc="-1" strike="noStrike">
                <a:solidFill>
                  <a:srgbClr val="000000"/>
                </a:solidFill>
                <a:latin typeface="Arial"/>
              </a:rPr>
              <a:t>. The more that you want to learn and know, the more you’ll be able to remember what you have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oose to remember, you need to pay attention to and be interested in what you are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emonic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types of mnemonic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nk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ny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ronym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ronym is a word that is made by taking the first letter from each word that you wan tot remember and making a new word form all of those let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ROYGBI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s of visible light in the spectrum in the order in which they appear: red, orange, yellow, green, blue, indigo, viol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ASAP  as soon as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rostic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acrostic</a:t>
            </a:r>
            <a:r>
              <a:rPr b="0" lang="en-US" sz="3200" spc="-1" strike="noStrike">
                <a:solidFill>
                  <a:srgbClr val="000000"/>
                </a:solidFill>
                <a:latin typeface="Arial"/>
              </a:rPr>
              <a:t> is a sentence that is made by taking the first letter from each word or symbol that you want to remember and then inserting another word beginning with the same let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Musical staf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good boy deserves fudge = E, G, B, D, 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 these strategies to us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your own strategies to recall information that will appear on the exam- move facts from your short-term memory permanently into your long-term mem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emory g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good is your mem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ings are easiest for you to re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do you have the most difficulty rememb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do you use to remember, especially when stud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about memor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levels of memory: </a:t>
            </a:r>
            <a:r>
              <a:rPr b="1" i="1" lang="en-US" sz="3200" spc="-1" strike="noStrike">
                <a:solidFill>
                  <a:srgbClr val="000000"/>
                </a:solidFill>
                <a:latin typeface="Arial"/>
              </a:rPr>
              <a:t>short-term memory </a:t>
            </a:r>
            <a:r>
              <a:rPr b="0" lang="en-US" sz="3200" spc="-1" strike="noStrike">
                <a:solidFill>
                  <a:srgbClr val="000000"/>
                </a:solidFill>
                <a:latin typeface="Arial"/>
              </a:rPr>
              <a:t>and</a:t>
            </a:r>
            <a:r>
              <a:rPr b="1" i="1" lang="en-US" sz="3200" spc="-1" strike="noStrike">
                <a:solidFill>
                  <a:srgbClr val="000000"/>
                </a:solidFill>
                <a:latin typeface="Arial"/>
              </a:rPr>
              <a:t> long-term mem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hort-term memory </a:t>
            </a:r>
            <a:r>
              <a:rPr b="0" lang="en-US" sz="3200" spc="-1" strike="noStrike">
                <a:solidFill>
                  <a:srgbClr val="000000"/>
                </a:solidFill>
                <a:latin typeface="Arial"/>
              </a:rPr>
              <a:t>is what you can keep in your attention at the moment. Most people only remember  five to nine different things in their short-term memory. You can easily recall 7 letters, 9 with a little more difficulty. Most people cannot recall 10 letters o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ong-term memory</a:t>
            </a:r>
            <a:r>
              <a:rPr b="0" lang="en-US" sz="2800" spc="-1" strike="noStrike">
                <a:solidFill>
                  <a:srgbClr val="000000"/>
                </a:solidFill>
                <a:latin typeface="Arial"/>
              </a:rPr>
              <a:t> is what you know and can bring to mind whenever  you choose to do so.  What is in your long-term memory stays for a long time.  If you review it now and then, you can remember it as long as you lik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irst exercise, you probably could remember the 13 letters in group #5 because this group contains three sequences of letters that are already a part of your long-term memory. To remember this group, you really needed only to remember the first letter in each sequence and the length of the seq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To Remembe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different ways to rememb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up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ea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ing to reme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formation is grouped, it is easier to rememb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ing</a:t>
            </a:r>
            <a:r>
              <a:rPr b="0" lang="en-US" sz="2800" spc="-1" strike="noStrike">
                <a:solidFill>
                  <a:srgbClr val="000000"/>
                </a:solidFill>
                <a:latin typeface="Arial"/>
              </a:rPr>
              <a:t> means to organize information so that details are brought together under the main idea or category that connects th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ing information is one way of helping it to “move” it from short-term to long-term memo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want to remember ideas and information, try to organize them into groups that make sense to you. Put details with main ideas that they support. Use examples with categories they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iz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ualizing</a:t>
            </a:r>
            <a:r>
              <a:rPr b="0" lang="en-US" sz="2800" spc="-1" strike="noStrike">
                <a:solidFill>
                  <a:srgbClr val="000000"/>
                </a:solidFill>
                <a:latin typeface="Arial"/>
              </a:rPr>
              <a:t> means to see an image or picture in your mind’s eye. It is a mental picture of something you want to reca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any people, a mental people is easier to remember than words. Se as clear an image as you can, and examine it for a few seconds. Then let it disapp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visualizing a mental picture for each main idea you want to remember. Other people visualize their mapping no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do not visualize clearly- it can improve with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ualizing-</a:t>
            </a:r>
            <a:br>
              <a:rPr sz="4000"/>
            </a:br>
            <a:r>
              <a:rPr b="0" lang="en-US" sz="4000" spc="-1" strike="noStrike">
                <a:solidFill>
                  <a:srgbClr val="000000"/>
                </a:solidFill>
                <a:latin typeface="Arial"/>
              </a:rPr>
              <a:t>The Link Method</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ink method</a:t>
            </a:r>
            <a:r>
              <a:rPr b="0" lang="en-US" sz="2800" spc="-1" strike="noStrike">
                <a:solidFill>
                  <a:srgbClr val="000000"/>
                </a:solidFill>
                <a:latin typeface="Arial"/>
              </a:rPr>
              <a:t> is useful when you need to learn lists of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nk method is a mnemonic device. Mnemonics is the art of training your memory to work more effectiv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the first word in the list to the second and so on until you reach the end of the 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either with the first word that comes to mind when you see the word, or create the most ridiculous image of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at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good way to remember is to </a:t>
            </a:r>
            <a:r>
              <a:rPr b="1" lang="en-US" sz="2800" spc="-1" strike="noStrike">
                <a:solidFill>
                  <a:srgbClr val="000000"/>
                </a:solidFill>
                <a:latin typeface="Arial"/>
              </a:rPr>
              <a:t>repeat </a:t>
            </a:r>
            <a:r>
              <a:rPr b="0" lang="en-US" sz="2800" spc="-1" strike="noStrike">
                <a:solidFill>
                  <a:srgbClr val="000000"/>
                </a:solidFill>
                <a:latin typeface="Arial"/>
              </a:rPr>
              <a:t>information that you want to learn. Be sure to ay it in your own words. Even though you have learned it, go over it one more ti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repeat information in this way, it will help you move it from your short-term memory into your long-term memory and will keep the information available to yo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way to do this is to repeat information aloud to yourself. When you say it out loud, not only do you speak the information but you also hear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7T23:39:00Z</dcterms:created>
  <dc:creator>Peter Gianakos</dc:creator>
  <dc:description/>
  <dc:language>en-US</dc:language>
  <cp:lastModifiedBy>Peter Gianakos</cp:lastModifiedBy>
  <dcterms:modified xsi:type="dcterms:W3CDTF">2003-04-28T00:53:13Z</dcterms:modified>
  <cp:revision>1</cp:revision>
  <dc:subject/>
  <dc:title>Memory:</dc:title>
</cp:coreProperties>
</file>