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1E9-E526-409B-969C-7C3641EE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D86-3FAD-4C99-AC1B-AD4F0FEF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2DF1-7F43-43BA-B572-D419CB28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B57-15C2-4EC1-B535-120E53A5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64E5-C0A5-424B-8EA0-932FD745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78B5-20DF-4144-AD26-AF83C46F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C78E-0B99-469F-BC45-0EC88A0F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E95F-3E24-4404-8579-6B702715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E004-A4FE-44EF-A8AD-E4F6D6E8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9C8C-7182-4C41-A605-ACE06900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8491-C283-4CE5-85B9-970F3D34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049-14C4-4AE3-8DA5-0C53B8BB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3D20-5D5B-473F-B71F-57E10845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45A5-537E-45F9-99E1-A830BFFB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91EC-DB06-4F02-84D1-E58350B3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32BE-031B-47F9-BC44-E8731637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E9E4-8B34-4308-9E3D-1F2EE571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DA1-0565-415F-95AD-C3E4DA08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065-17A6-4B4D-966F-CFC6C569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9C7-0B77-459B-B913-D27517A3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9EC-05F8-4EFD-A470-EEFFAB08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05E-EDD7-4CC2-A3BD-0EED8D20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877-37AB-41B6-B65C-EE89DC0E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56C-39B7-4D0B-A6D3-C29416D9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1D5E-E9D3-424D-9E33-C05F1668F9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B084-B52A-45EC-AE87-BDB5BE7129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ABORATIVE REHEARS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way to bring STM into L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ng new information with previously stored, already existing associativ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When a teacher used to make you use a new vocabulary word in context by making up a sentence and writ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ng Term Memo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limited capacity store that can hold information over lengthy periods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categories of LT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Declarative memor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factual information like dates and n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Episodic memor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information about events, people, plac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Semantic memor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mental models of the environment as well as procedures (rules, language, strategies for problem solvin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Non-declarative memor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implicit memory (motor skill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CONSTRUCTION of memory-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accurate are our memori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cing together from  a few 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may or may not be 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details can be forgotten, misremembered, or complete new details incorporated into a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tlett (1886-1969) people systematically distort facts and circumstances of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CHEMAS- an individual’s storage box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meworks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nowled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sump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people, objects, an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chemas often contain association cues for retrieval of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confront new information, we often distort some aspect of the information or forget other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STORTION IN MEMORY- is it deliberate? Are we lying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when people alter the memory of an event or an experience to fit their beliefs, expectations, logic, or preju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usually distort memories of our lives in a positiv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Liberation of concentration camps- German people de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robably remember the A’s you earned more than your D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YSTEMATIC DISTORTION: Eye Witness Testimon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eye witness testimony often unreli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ighly subject to error- many wrongful convi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ays vital role in the US justice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lice are notorious for asking leading questions and evoking a desired response from a wit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V, newspapers, media contamination- more you learn about a case, more likely you are to incorporate info into your own memory of the ev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COVERING REPRESSED MEMOR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ed forgetting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urposeful blocking or “suppressing”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ud referred to this as repression- keeping distressing thoughts and feelings buried in the uncons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emories actually repressed or are they false memo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alse memor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es or gaps in your memory filled in by experiences and social infl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False memories in child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earch is not conclusive- repressed memories have gotten a lot of attention recently, but they may not be as common as people believe- power of sug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Car ac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fantile amnes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bility of older children and adults to recall events from their first few year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clusion- current research supports both the possibility that repressed memories exist and that false memories can be constructed in response to suggestions  of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nusual Memory Phenomen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ASHBULB MEM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vivid memories formed when a person learns of an event that is very surprising, shocking, or highly emo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memor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is the storage of learned information for retrieval and future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IDETIC IMAGE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 children have a photographic memory- most lose this ability before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MORY and CUL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more easily remember stories set in their own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ner and matter (the how and what) of recall are often predominantly determined by social infl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Adolescent culture and music ly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nfluences your memory? Why is some information easier to recall than other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al information effec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nformation learned in a sequence, recall is better for items at the beginning and the end rather than for items in the middle of the sequ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t the beginning of a sequence that you recall better than the middle term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. I went to the Bronx Zoo and brought…A an apple, B a baseball, 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ncy ef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tendency to recall the last items in a sequence more readily than those in the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er recall of middle info- it is no longer in your short- term memory and has not yet been placed in long-term memory; the “end” information is still in your short-term mem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vironmental Context and Memo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tates that many elements of the physical setting in which you learn information are encoded with the information and become part of your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an’t recall answers to a test question- visualize yourself in the room where you stu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ors can also be a powerful retrieval cue for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te- gum chewing when studying and taking a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 your emotions and other states of consciousness affect memor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-dependent memory ef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formation is recalled better if you are in the same state (psychological or pharmacological) as when the information was enco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: people learned things in both a sober and intoxicated state and recalled things better when asked to do so in the same state for both learning and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motions and memory, continu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xiety and fear influence memory- people going through significant life stresses do more poorly of tests of recent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s who were clinically depressed recall more negative life experiences from their pasts- as the depression lifted, the tendency toward negative recall reverses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: The Key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sychologists study memory they focus on 3 key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es information get INTO mem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is information MAINTAINED in mem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How do we get information BACK OUT of mem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 ?s correspond to the 3 key memory processe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=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= main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= back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-    ENCOD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of forming a memory code in order to get information into your memory- you focus awareness on a narrow range of stimuli or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May emphasize shape of a dog’s nose to identify the breed- German Shepard’s have  a long nose, more pointed than a bull dog- make the code for German Shepard according to the nose character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encoded information in memory over a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TRIEV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ing information from memory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mory : How does it work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you encounter a stimuli (an event) which goes i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sory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information is preserved for a few seconds at m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the information will be lost unless we pay attention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once successfully recognized, you are able to bring info to you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hort Term Memo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mited capacity store that can maintain information for approximately 20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rehearse the information, by repeating it or verbalizing it, the memory may last a bit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Call the operator for a phone number- no pen- you say the number over and over while dialing- won’t likely go into long term memory store but will stay in STM for a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12:44:56Z</dcterms:created>
  <dc:creator>Peter Gianakos</dc:creator>
  <dc:description/>
  <dc:language>en-US</dc:language>
  <cp:lastModifiedBy>Peter Gianakos</cp:lastModifiedBy>
  <dcterms:modified xsi:type="dcterms:W3CDTF">2004-09-16T17:08:39Z</dcterms:modified>
  <cp:revision>3</cp:revision>
  <dc:subject/>
  <dc:title>Memor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