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139-09DE-41B2-A77C-B2DC20D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E9A-7638-4767-93D7-D3FA25C7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768-F4F1-4AE7-B2D6-29692058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FE5-A000-49B9-B6A6-3C891DB6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BCB-3291-43FB-8A60-7193B53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13E-C385-488A-928A-72C4DF4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278B-DD1E-40AA-9F42-E241DEB8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DAED-4C2B-4796-AFDE-30AEBFC2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B806-C0A1-4A40-A727-1128D95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AF4-EE62-481F-8C11-32A72542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6F5-720D-4E50-BB8E-ACDFB7B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79F-A0C1-4DCC-980F-0028D6FD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FF78-276F-4D8D-BFAD-9285681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FFD-EAAD-41DA-973A-4DE3BDE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846A-DCF6-47F4-B0DC-D2AD349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893-634C-4722-A14C-AA44553B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060-9AF9-4CF3-B8A1-A55E7732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E6C-050B-4B03-B27C-D78B79D5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68C-9A9A-46C4-8120-9BA3B8B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A02-EA83-49C0-86EA-54AEC35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DB2-2005-4BEC-8D00-92433618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59B-809D-4A40-B37B-8A703239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778-9968-43AB-98FA-7A0011C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C5E-BB7B-4A39-AC4C-5411F0B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DDE4-745B-4E7E-BD75-BE038748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5CF-D118-4DE9-867F-F313B48E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Memory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ong-term memory (LTM)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vast storehouse of permanent or relatively permanent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limit of numbers of LTM, may last a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TM Divis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clarativ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pisodic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emantic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Nondeclarativ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ternative model: levels-of-processing model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k and Lockhart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ne remembers something for a few seconds or a lifetime depends on how deeply they proce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ree kinds of memory tasks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call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o well on essay tests?  You are required to recall a lot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required information simply by searching th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Someone’s name, grocer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cogni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material as familiar or as having been encountered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learning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ensitive way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the % of time saved when the material is relearned compared with time required to learn material orig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membering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(consolid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Atkinson-Shiffrin model: information processing memory model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ifferent, interacting mem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ensory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rt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g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nsory memor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mory system that holds information from the senses for a fraction of a second to 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like a s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B  D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 P Z 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 C  N 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hort-term Memory (STM)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limited capacity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(+ or – 2) different items of bits of information for &lt; 3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hearsal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o increase duration of short-term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laborative rehearsal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or use with complex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new information to something you alread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hort-term memory as working memor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mory system where you work on information to understand it, remember it, to solve a problem, to communicate with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emory strategi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ork’ that goes on in the 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ng information to make it easier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do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learn multiplication table sin elementary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0:29:09Z</dcterms:created>
  <dc:creator>Peter Gianakos</dc:creator>
  <dc:description/>
  <dc:language>en-US</dc:language>
  <cp:lastModifiedBy>Peter Gianakos</cp:lastModifiedBy>
  <dcterms:modified xsi:type="dcterms:W3CDTF">2004-09-14T00:14:11Z</dcterms:modified>
  <cp:revision>3</cp:revision>
  <dc:subject/>
  <dc:title>Memory</dc:title>
</cp:coreProperties>
</file>