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D941-3418-4293-8277-166A45B7C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07EE-E00F-4BE9-9B41-B1438914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1227-E5CD-48F2-8DFD-7AEFC6416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438C-A65D-4D27-B02D-037049C74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C8D2-138C-4579-8C12-A69ECEFB4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01AA-5993-4E4B-AE5E-14F179DB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2E70-375A-4A20-A0D6-6A729B1A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8523-DBC6-41F7-9B5F-EDB5959C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D743-5032-49E7-A69D-B7A3DA9B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2603-83D0-4CE9-8F65-764B3F17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CB6C-1E70-4219-AA81-FB22D1FC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9A67-C344-455C-AFD4-E630710A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437C-4B40-4690-9124-B89C3E75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9636-D8C5-4B7D-8CF2-2EF7517F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EA02-420B-4E10-A7E8-3C4EA6A2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C6ED-6C1D-4C61-B42B-E0340B42F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15D6-C671-4BFC-B9DA-571DE4DAA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181E-7E54-4F66-B5DD-AB449179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03E8-5CA6-4C66-8A76-4C6BECFE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49C9-851A-4E91-9F34-58C595AE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3554-0D9B-416D-8936-1CE0AFF7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799D-AADA-4636-8BC1-F96DA80C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0B36-1A11-41DC-99DB-C0A244EE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A663-94FE-46D2-AAB1-83F6C76E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48AE-CE1B-4CAD-BB2A-487AEC403AE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3C40-EC90-4983-BA43-B04445A4539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Lifespan Perspective Overview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0: adolescence and adulthood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tinue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renting your parents- dealing with aging par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iddle age grandparents often separated by grandchildren geographical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creasing number of middle age grandparents raising their grandchildren which can create physical, emotional, and financial stra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ter Adulthood (65 and older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hysical changes include farsightedness, hearing loss, weakening of sense of sm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ronic conditions; arthritis, rheumatism, heart problems, high blood press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lzheimer’s Disease- dement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ath and dying, bereave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ifespan perspectiv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velopmental psychologists are strongly influenced by the lifespan perspective- which states that developmental changes occur during our entire lifesp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womb to tom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rikson’s Psychosocial theo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dividuals pass through eight psychosocial stages during their lifesp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ach stage is defined by conflicts that arise from ones relationship with their social environ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e must resolve these conflicts before they can move onto the next sta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olescence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nsitional stage of development between childhood and adulthoo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velopmental stage that begins with puber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iologically adult but emotionally not at full matur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3-24, cultural and social phenomen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ubert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ge in human lifespan when a child begins to develop secondary sex characteristic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rmones- boys testicles, girls ovari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emales- first menstrual period; menarch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sychology of adolesc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turity in body leads to an interest in sexual activity, sometimes leading to teenage pregnanc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ater probability of drug abuse, mental problems- schizophrenia, eating disorders, depres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arch for identity, meaning of lif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le models- sports players, stars, movie and TV perform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arly Adulthoo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s 19 -3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t prime physically, cognitive skills becoming finaliz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avighurst: Tasks of Early Adulthoo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tting started in an occup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ing a m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rning to live with a marriage partn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ing a fami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aring childr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ing a ho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king on civic responsib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ding a congenial social grou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iddle Adulthood (40-60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y psychological issues and themes-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idlife crisis (midlife review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dentity development (gender identit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sychological well-be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rents of adolescents have come to terms with a loss of control over their children’s liv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mpty ne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22:38:41Z</dcterms:created>
  <dc:creator>Peter Gianakos</dc:creator>
  <dc:description/>
  <dc:language>en-US</dc:language>
  <cp:lastModifiedBy>Peter Gianakos</cp:lastModifiedBy>
  <dcterms:modified xsi:type="dcterms:W3CDTF">2005-02-17T03:18:03Z</dcterms:modified>
  <cp:revision>3</cp:revision>
  <dc:subject/>
  <dc:title>Lifespan Perspective Overview</dc:title>
</cp:coreProperties>
</file>