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0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0161-A91F-48EE-9C21-5984A0926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ng your college classes is a contingency for graduating from colle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ning a paycheck is contingent upon having a jo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ed-interval schedule: picking upa paycheck after one or two weeks of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studying- increases prior to mid-terms and finals- then falls off after the ex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riable-interval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teacher gives surprise, unannounced quizzs, student has to keep studying because they are never sure when the quiz will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xed-rati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many responses in a short period of time yields rewads. Pick 10 baskets of blueberies, I’ll pay you $3.00- the more you pick, the more money you will m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riable-ratio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ino slot machine- always the chance to hit the jackpot, temptation to play is 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watching a scary movie with music that occurs whenever something scary is going to occur (CS)- once you hear the  music, not in relation to the movie (US), you will eventually not become scared, tense, nervous (CR) when you hear that particular mu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ut coins in a soda machine and get nothing- you pound of the machine, push on the coin release- before you finally give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nishmen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perant—using radar detector  Consequence– receive ticket and fine for illegal use of radar detector effect on behavior—decrease us of radar detector in h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gative reinforcemen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perant—using radar detector consequence—avoid speedingticket fine  effect on behavior—increase of radar detector in th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spend many hours training your dog to sit on command, you will not have to spend much time reinforcing this behavior as the dog m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 Studying in an easy chair might set the occasion for watching a little television or taking a nap. Before you know it, you have blown off a couple of hours of studying. Instead, always study in a specific location, whether it’s the library, an empty classroom, or a table in your dorm room. Over time, these environmental cues will become associated with the behavior of study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ulse spending_ apply stimulus control to impulsive spending by not going window -shopping at the mall or browsing through the ads in the Sunday news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man Stud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hl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l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seling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d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DUIs- next time jail term- probably won’t drink and dr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ild who is criticized for poor performance may avoid trying in that area to avoid further punishment- gr 4 math teacher- multiplication tables- hallway/piano- long term effect- Math phobic “I can’t do i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n example where a POW might use learned help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= a learned association between one stimulus and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nt= learned association between an action and a con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E09A-4C91-420B-ADC5-3DDDB5548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5468-6D94-4922-8EC1-94CECD4F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5C41-78FB-488A-9396-7EA0FA9B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E889-F3F7-40CE-AA5A-2F54C72BB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1DB7-F3BC-4EDD-9DF8-B666E0B3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ED3C-D5E8-4191-92FD-8DA674FF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92A5-D1BF-45EF-90BB-0E195E13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08B7-AD1B-4918-9D97-4AFC02F7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B907-F6D5-436D-B840-D4F61746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2309-9BD6-4C9C-8C7B-21E87F5D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A86C-3963-4E60-B8D8-424FD6C7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5C33-98F1-4817-9117-FFA82A82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EE83-B273-4092-803B-FE9DE2B3D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contingenc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cal and Operant Conditioning are both forms of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ssociativ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ntingency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relationship in which one event depends on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ical Conditioning Contingen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reliable “if-then” relationship between two events such as a CS and a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Noise (CS) repeatedly paired with an electric shock (US)- the learner responds based on predictive information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ingencies in Operant Conditi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arner must come to perceive a connection between performing a voluntary action and receiving a reward or punis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rewarding a behavior, fewer are better than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r that is intermittently reinforced tends to persist longer than behavior continuously reinfor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eople receive only occasional reinforcement, they learn to not expect reinforcement for every time they perform the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then respond in hopes of eventually being reinfor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ending machine offer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ntinuou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inforcemen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lot machine offer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termitten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inforcemen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ype of reinforcement is very effective on behavior- you might continue to feed the machine for a long time even though you are getting nothing in retu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dules of Reinfor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chedule of reinforc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atterns of reward payoffs- how frequently the payoff occ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xed-interval sched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correct respons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inforced after a fixed leng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ime since the last reinforcement. Performance falls off after each reinforcement and then picks up as the time for the next reinforcement is due to occ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ble- interval schedul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correct respons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inforced af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ary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ngths of 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llowing the last reinfor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xed-ratio sched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correct respons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inforced after a fixed number of correct 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ble-ratio schedul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ying numbers of correct responses must occur before reinforcement is pres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inction and Classical Conditi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inc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a learned response weakens of disappears because of failure to continue pairing the US and CS (Classical Conditioning) or withholding of reinforcement (Operant Conditio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ontaneous Recovery and Classical Conditi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appearance of an extinguished response after the passage of time, without further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inder stimu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: if you return to the movies to see the latest scary movie the conditioned response of fear may suddenly reap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inction and Operant Conditi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inction happens as a result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thholding reinforc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completely erase what has been learned- may suddenly re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ful controller of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the same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gative reinforcement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y type of reinforcement t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rengthens a behavior by removing something from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unishmen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s something unpleasant to the environment which weakens the behavior that caused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ffects the extinguishing of an Operant Conditioned respon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he stronger the original learning, the longer it takes to extinguish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pattern of reinforcement: responses reinforced only occasionally when acquired are usually more resistant to extinction than responses that were reinforced every time they occur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The greater the variety of settings, the harder it is to extinguish th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Complex behavior is more hard to extingu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Behavior learned through punishment rather than reinforcement is harder to extingu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imulus Control: a strategy to help you over-come temptation of short-term reinforcer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cues that precede a behavior can acquire some control over future occurrences of that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ware of environmental cues that are likely to trigger unwanted behavi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 these cues with others that will help you achieve your go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ization and Discrimination in Classical Conditi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imulus genera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transfer of a learned response to different but similar stimuli in the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. A person who learned to dread math tests in grade school might come to feel anxious about any task involving numbers, even balancing a chec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Albert not only was fearful of rats, but also showed fear of any white, furry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imulus discrimination is not inevitable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imulus discrimin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ers can be trained not to generalize but rather to make a CR to a single specific stimul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to discriminate is essential to everyday life. We prefer that children not fea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ud noise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ect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g…only those potentially harm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ization and Discrimination in Operant Conditi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ponse generaliz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 operant conditioning, responses (as well as stimuli) can be gener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. You learn to play tennis- and generalize the same skills to play badminton, Ping-Pong, squ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rimin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einforcing only a specific desired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. Children learn to listen to exactly what the teacher is asking before they raise their 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gher-Order Conditioning: New learning based on original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ing based on previous learning; the conditioned stimulus serves as an unconditioned stimulus for further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Pavlov- the dogs learned to salivate to the sound of  a bell, then Pavlov used the bell (without food) to teach the dogs to salivate as the sight of a black square- he showed them a black square and followed it with the sound of a bell until they learned to salivate by merely looking at the square. This is difficult to achieve- the dog must be reinforced with food occasionally so that the dog will continue to salivate when the hear the b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ary Reinforc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imary reinforc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ood, water, sex- intrinsically rewarding; no prior learning required to make them reinfor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condary reinforc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ave no intrinsic value; prior knowledge is needed before they will function as reinfor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. Money is a secondary reinforcer- it is just paper, through its exchange value for food and other primary reinforcers, it becomes a powerful reinfor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ical Conditio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learner is passive and the behavior involved is usually involun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nt conditio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learner is active and the behavior involved is usually volunt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entail forming associations between stimuli and respon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are they alike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ssociations between stimuli, 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ive contingencies between one event and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subject to extinction and spontaneous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d to stimulus control, generalization, discr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observed and measu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gnitive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that depends on mental processes that are not directly observ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ssible to observe and measure directly, but can be inferred from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How do you know the layout of a building by someone else’s description of it? How can you learn to shift a car just by observing someone else doing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we use punishment effective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effect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must be imposed properly- swif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ufficient without being cru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nt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hat is not immediately reflected in  a behavior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arning is stored in the form of a mental image, 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gnitiv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nt learning is cognitive spatial learning- such as learning your way around campus (you store the correct path until you are given the motivation-get to class on time- and then put your latent learning to u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that occurs rapidly as a result of understanding all the elements of a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 learning can often be used to help solve problems through ins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rning s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ability to become increasingly more effective in solving problems as more problems are s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by Obser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rvational (vicarious) learning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by observing other people’s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ype of “social learn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common- we observe other people and then model new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carious reinforcement or punish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experienced by models that affects the willingness of others to perform the behaviors they learned by observing thos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is punishment most usefu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ituations where a behavior is dangerous and must be changed quick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A child reaches for a hot stove- parent slaps their hand and yells, “No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enager is caught speeding and drinking- police arrest him- paretn takes car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nishment Drawb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resses behavior- doesn’t “unlearn i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teach a more desirable behavi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the threat of punishment, behavior likely to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nishment often stirs up negative feelings which can impede the learning of more desirable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nishment often makes people angry which leads often to aggression and hos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unishment carefully- always with reinforcement of a desirable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a desired behavior is established, punishment should be removed to negatively reinforce the new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ositive reinforcement to strengthen the desired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oidance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unishment is administered a few times- the mere threat of punishment might be enough to induce desired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 is learning to avoid the possibility of a punishing con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ork negatively and may not work in one’s fav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ed Helples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ing up” response that generalizes to other sit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a desirable behavior to prevent the occurrence of something unpleasant such a s punis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ure to take steps to avoid adverse or unpleasant stimulus as a result of previous unavoidable painful stimu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Classical and Operant Conditioning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both involve the learning of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 responses are under the control of stimuli in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neither responses will last forever if they aren’t periodically rene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in both, new behaviors can build on previously established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5T01:45:30Z</dcterms:created>
  <dc:creator>Peter Gianakos</dc:creator>
  <dc:description/>
  <dc:language>en-US</dc:language>
  <cp:lastModifiedBy>Peter Gianakos</cp:lastModifiedBy>
  <dcterms:modified xsi:type="dcterms:W3CDTF">2005-11-01T00:55:33Z</dcterms:modified>
  <cp:revision>6</cp:revision>
  <dc:subject/>
  <dc:title>LEARNING</dc:title>
</cp:coreProperties>
</file>