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FEF2-76E9-4B24-BC53-365CDF09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urban myth- Einstein extremely intelligent and gifted in math and physics, couldn’t tie his ow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0 SAT’s- flunked out of college- took up with religious guru- sent home on a plane with IV dying of mal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IQ tests/ SATs measure?  Probability of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nberg is working on a test to measure all 3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meant to separate intellectually normal and subnormal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ly revised, it is still u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is not I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is a complex concept which is stillunder de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Q, or intelligence quotient, is a score on an intelligence test, which may or may not be an accurate measure of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sts still disagree as to whether intelligence is a single function or severl different abil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0 sets of subtests for 20 levels of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separate test for every half year from ages 2-5, for every year form 6-14, and for four adult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ms on the subtests are selected so that children of that age or older can pass them, but younger children generally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core the test, the examiner determines the child’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al 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r the highest level at which the subject passes all the sub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continues until the child fails all the subtests; this is called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iling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s on the Stanford-Binet test are scored on all all-or-nothing basis- for example: an 8 year old must define eight words on a vocabulary subtest to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ntal 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subject is determined by adding to her basal age several months of credit for each subtest passed beyond basal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 are calculated in terms of deviation from the mean mental age for people of a certain chronological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standardized, so that the average IQ is always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% of the people who take this test all in the range between 70 and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IS contains 11 subtests: general information, arithmetic reasoning, general comprehension, similarities, digit span (measures memory- asked to repeat 3-9 digits read to person), vocabulary, picture completion, block design, digit-symbol completion, picture arrangement, object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s are asked to explain how two given objects are simi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dependability of a measurement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to which a test is 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ing a set of norms for a group being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an found that children with high IQs grew up to be better-adjusted adults than the average-IQ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ho score in top 1% of the population on IQ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ommonly used to refer to  people who have special talents, creativity or leadership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fted does not mean genius- genius is defined by a score exceeding 140 on the Stanford-Binet Intelligenc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fted children do have special needs- intelligent children may be bored with repetitive, unchallenging classes and become disruptive, or ignore their schooling all together, becoming underachievers who do not fulfill their intellectual potential- drop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scorned by less intelligent “goober- book worm status”, may be alienated, socially ,physically, emotionally im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o best in special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xtreme of intelligence as determined by IQ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der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Q 68-83;”slow learners”; not eligible for special services, large % fails to complete HS, often only achieves low socio-economic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Qs of 52 – 67. Eligible for special classes for educable mentally retarded; often hold unskilled jobs or work in sheltered workshops, may need help with social and financ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IQ of 36 – 51.  Brain disease and damage often frequent.  ; schooling involves self-help skills- few work in sheltered workshops, many dependent on families fo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IQ of 20 -35.  Most institutionalized and need constant care. Minimal ability to  engage in independent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IQ below 20.  Total supervision and nursing care for entire lives, can learn little except to wlk, say a few phrases, feed themselves and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’s Syndro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10 -20 % of severely to moderately retarded. Seldom have IQ &gt;50; physical abnormalities: slanted eyes, flat face and nose,  overly large tongue, stubby fingers. Caused by chromosomal abnormality- during earliest stage of development  two chromosomes of pair 21 fail to separate; trisomy: chromosome pair 21 has three chromosomes instead of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tal alcohol syndro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her drinks during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ally disadvantaged groups which are not assimilated into or knowledge about dominant culture in US- find tests to be “culturally biase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 cultural tests attempt to eliminate problem of different languages by either translatign the test of eliminating language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s on test must be items that person is familiar with ; may not have time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Spearman, we all have two intellectual abilities- g and s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factors are one’s general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factors are those aspects of our intelligence that are our specific intellectual abilities- such as being very good at math or talented in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2F0-10FA-4B39-97B3-E3C1CE99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2D9-2111-4160-B85E-7151E7F9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109-BAD3-451E-8E44-AA25CB61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444-12F6-46B7-9F76-6E6B0CBA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3DE-668D-465D-BAE6-56535C00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140-6FDD-4C1B-8EDA-8D4082F9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BD6-D4E2-4C37-A530-D5732153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CC0-B1AB-4410-BA92-297A6FA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F1A-39E8-4C72-ABEC-FFD620DE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016-6C38-4F61-8895-2E0B552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E7-1281-4366-86C1-4508292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071-9B1C-4639-A718-7E66404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068-0785-4B66-A76B-CEE7D642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 and 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/Spat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use images that represent spatial relations, to navigate and move around in space, can picture 3D scenes in their m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eople learn best visually and organize things spa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ke to see what you are talking about in order to understand- enjoy charts, maps, tables, illustrations, puzzles, cost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designers, architects, blind people with white canes who independently navigate thei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ily-Kinesthetic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learn and execute physical movements, superior eye-hand coordination, great sense of balance, keen understanding of and control over their bodies while engaged in physica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ildren learn best through activity: games, movement, hands-on tasks,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old to sit still and seen as overly active in traditional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rs, athletes, Michael Jordan, Lance Arm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al/Rhythmic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to and understanding of pitch, rhythm, and other aspects of music, natural ability to play, read, write music exceptionally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who learn best through songs, rhythms, instruments and music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ians, vocalists, lyricists, Moz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erson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municate and engage in effective social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ildren are noticeably people oriented and  outgoing, enjoy cooperative groups or working with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alkative and thought to be to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“peopl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sts, Social Workers, car salesmen, Dr. Phil, Op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person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understand one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hildren are especially in touch with own feelings, values and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re reserved, actually quite intuitive about what they learn and how it relates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tic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identify patterns in nature and to determine how individual objects or beings fit in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hildren love the outdoors, animals, field tr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on subtle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ists, forest ran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hildren learn in the context of the “big picture”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sk “Why are we here?” and “What is our role of the worl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ers, clergy, spiritualists, people who are devoted to their religious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nberg’s Triarchic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s that there are three types of intellig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on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tex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le,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intelligence- as found on conventional IQ  and achievem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smar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intelligence often disconnected from ordinary life, issue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t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creative ways to do everyday tasks more efficiently- ability to recognize new problems, as apposed to everyday problems; search for and generate solutions; and implement th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smartest person that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this person “smar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alities do smart/intelligent people poss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u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are survivors- they capitalize on their strengths and compensate for their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intelligence that allows people to go on with their everyday lives without walking in front of a moving car, mouthing off to a police officer, letting trash pile up to the 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sts see many people in their practices who are deficient in this type of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ifferent types of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rmal academic knowledge-  measurable on IQ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cit knowledge- action oriented, and acquired without help from others: according to Sternberg more important to real-worl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ors like Sternberg’s theory- especially for low ach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telligenc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,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out children who would not benefit from regular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psychologist Alfred Binet (1857-19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mental superiority and retardation were the difference between chronological age (actual age in years) and menta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 Quo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Stern, German psych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’s mental age divided by chronologica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-Binet Intelligenc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by Lewis Terman (Stanford)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ly administered to children aged 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ndards based on the test scores of a large number of individuals and used as a bases of comparison for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was considered a score of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an’s IQ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ntal age divided by chronological age) X 100 = 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 year-old with a mental age of 12: (12 divided by 10) X 100 = 120 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 year-old with a mental age of 3: (3 divided by 6 X 100 = 50 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subscales: verbal reasoning, quantitative reasoning, abstract visual reasoning, short-ter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 testing for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comparisons among same age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IS) Wechsler Adult Intelligence Scal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IS-R) current revision- contains verbal and performance (nonverbal) sub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for good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at any person’s performance can be meaningfully compared to others’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it yields dependably consistent scores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it measures what it is supposed to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ent to which a test yiel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, as assessed by the consistency of scores on two halves of the test, on alternate forms of the test, or on re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ptitude tests tend to be highly reliable, but they are weak predictors of success in life- take same test 3 times and get about the same scores (S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ent to which a test measures or predicts what it is suppo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est validity is weak for predicting success in college and even more so for graduate school, as the range of student abilities becomes mo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tellig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nderstand complex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apt effectively to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from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blem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Psychologic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meaningful scores by comparison with the performance of a pre-tested “standardization gro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procedure for administering and scor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fall into a bell-shaped distribution called the normal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example of normal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nge of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an’s Study of Genius (19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telligence was inherited and that IQ was fixed at birth- how do gifted differ form general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volved 1,528 students with genius IQ of 1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d in all areas- intellectual, physical, emotional, moral, and soci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Stanford-Binet test could help guide people toward appropriate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f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0’s- term described intellectually superior in upper 2-3 % of U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erm includes exceptionally 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s able to progress at a rate that is consistent with their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rich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ims to broaden student’s knowledge by giving them special courses and experiences to foster advance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 retar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 of U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 score below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deficiency in everyday adaptive functioning- ability to care for self and relate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: mild to pro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- brain injuries, chromosomal abnormalities (Down syndrome), chemical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movement towards inclusion- main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ligence and Neural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 scan reveals that highly intelligent have more efficient ment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 to process information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Q tests pre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a wide range of social outcomes- job performance, income, social status, years of education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es of IQ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if only or major criterion for admitting people to various educatio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measure attitude or motivation (keys to su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doom poor, minority, ESL, hearing-impaired children in special ed classes- cultural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-fair intelligenc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questions that will not penalize those whose cultural background and/or language differs from that of the White middle and uppe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underlie intelligence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rman’s Two Facto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Spearman (1863-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psych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that people have general abilities which underlie all intellectual function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 fact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ells how generally intelligent that you 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 fa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presents a person’s ability within a particular area- put all together to get g 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Q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a person’s IQ sc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Q test is reliable and enables one to make predictions about intellectual capacity, ability, or potential, but they have limitation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-nurture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inherit our intellig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n studies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ion study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ildren adopted shortly after birth have IQ scores more closely related to biological parents- family environment important early in life but diminish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both play a factor in 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bility to manage one’s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pply knowledge about emotions to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one’s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manage self-motivation, express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handl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produce original, appropriate, and valuable ideas and/or solutions t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v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ing for information that may help solve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tting the problem “sit” while  relevant information is di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um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ing suddenly struck by the righ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nsforming insight into usefu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gent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produce multiple ideas, answers, or solutions to a problem for which there is no agreed to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creative thinking is associated with activity in both sides of the brain- significantly higher levels in the right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Creative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ciplined practice, high-qualit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ness to Exper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ainstorming, journey of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ce of Mi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rish independence, may take unpopular stand and often called non-confor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insic Mo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nally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ever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ant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 combination of mental retardation and 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Mental Abil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rstone (19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verbal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umerical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spati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erceptual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ord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d in all mental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re more than one type of intellig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ard Gardn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arvard University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llig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included brain damaged patients and reports of savant syndrome (mental retardation and unusual tal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s all forms of intelligence of equal importance, despite cultures assigning different value to the varying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accepted by educators as differing orientation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bal/Linguistic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use language both as an aid to thinking and i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tudents demonstrate strength in the language arts: speaking, writing, reading,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in traditional classrooms-traditional teach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tellers, teachers, orators, journalists, authors, gifted speakers, po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-Mathematical Intelli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think logically and to solve mathematic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 for numbers,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ildren do well in traditional classrooms where teaching is logically sequenced and students are asked to co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s, physicists, mathematicians,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2:09:35Z</dcterms:created>
  <dc:creator>Peter Gianakos</dc:creator>
  <dc:description/>
  <dc:language>en-US</dc:language>
  <cp:lastModifiedBy>Peter Gianakos</cp:lastModifiedBy>
  <dcterms:modified xsi:type="dcterms:W3CDTF">2005-01-23T18:04:36Z</dcterms:modified>
  <cp:revision>12</cp:revision>
  <dc:subject/>
  <dc:title>Intelligence and Creativity</dc:title>
</cp:coreProperties>
</file>