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87D-5EB4-4EFB-9FCB-E75E11C6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D24-7203-48B7-BE1F-FB0B994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990-AF5B-4716-A3DC-6DCCD537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7FB-056A-4B42-BFC9-99B40EC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DE44-3A78-481D-989F-738FC398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2C225-D4F7-4ED4-99DF-3677E47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66107-A245-484F-AB1A-EEDB1B5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BBD7-136B-4FE5-B7E7-97B95CD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4FB51-D08A-4970-9F20-7F90FE5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B5D8-B483-4355-B2EE-5B43191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7FA3C-26BC-4B28-A61C-A392ED2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650-1251-483D-A1C0-E5ABCF19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9722-F99E-45CB-AE4E-0B7B5C3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1E291-BFA7-4357-A320-05FC9BE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D3CD-0797-4D09-B3F2-E373977E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E33B-EE40-4C05-8917-C30725D1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9B044-70EB-46C8-A84E-39050751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9B7-4066-4D07-9BE9-260B0BA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1F3-B62C-4ECE-AC2C-4DF4E107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7A8-5CBA-46D0-8772-3D530E40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BD5-02FD-41CA-B1B1-247AE3A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26C-CD41-48F0-BFE3-22E0CC2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1AB-BF3F-4058-9EEF-611E2B5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1FE-DE04-4EFE-8668-110C6CC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2FD0-FE5A-45AA-97F4-9D3EFE49E3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EB88-B239-4AAC-8A13-B97BFCC31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ealth and Stres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How do situations involving unpredictability and feeling that you lack control lead to stress symptoms?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 prior to a stressor occurring allow for preparation and result in less stress being experi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nd psychological well-being profoundly influenced by degree of control one believes they have over a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to less stress when we have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o something about it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Work Stress- 9 variables affect satisfaction on the job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clarity of job description and evaluation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physical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job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task va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human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physical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mental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tress and Catastrophic Even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-11 , earthquakes, floods, fires, crash of space shuttle, combat, rape- may lea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traumatic stress disorder (PT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onged, severe stress reaction to a catastrophic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backs, nightmares, intrusive memories leading to feelings of re-experiencing the traumatic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vivor guil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lcohol abuse, suicide, 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acism and Stres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ical rac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mbers of groups that have a history of repression may react with high 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ority groups strong sense of ethnic identity, helps moderate effects of stress lev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Surviving Jews following release from concentration c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esponding to Stres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respond to st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ings or events “push your buttons”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approaches that psychologists use to explain stress and effective ways of dealing with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elye and the General Adaptation Syndrome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s Selye (1907-1982) established the field of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adaptation syndr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redictable sequence of reactions that organisms show in response to str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stag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anc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austion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larm Stag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rate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 and blood –sugar levels rise  allowing for burs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cortico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ormones that increase heart rate, blood pressure, and blood-sugar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esistance Stag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fights to resist str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e physiological efforts to resist or adapt to the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xhaustion Stag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ores of deep energy are de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 fails in its efforts to resist the str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rolonged cases, death can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Lazarus’s Cognitive Theory of Stres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at it wasn’t the stressor that causes stress, but how we perceiv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process: primary and secondary appraisal ( it’s all in your 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appraisal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aluation and meaning of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, negative, irrele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harm, threat, or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What is stress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hysiological or psycholog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e to a threatening condition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s challenges and requires adaptation or 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apprai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f situation is within one’s control, evaluat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(health, energy, stami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(support net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(skills, morale, self-este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(money, tools, equi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Coping Strategies- how do you cope?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fforts and actions to deal with demands perceived as taxing or overwhel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lem-focused co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responding directly to stress by responding directly to the stress or str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motion-focused co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reappraising a stressor to reduce its emotion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active co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ticipating the stressor or situation in advance to prevent its occurrence or to minimize its 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edff"/>
                </a:solidFill>
                <a:latin typeface="Arial"/>
              </a:rPr>
              <a:t>Wellness- 2 models: is our wellness purely a basis of biological health or do other factors influence it?</a:t>
            </a:r>
            <a:endParaRPr b="0" lang="en-US" sz="2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medical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llness explained in terms of bi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psychosocial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ealth and illness determined by a combination of biological, psychological, and soci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iological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y lifestyle: exercise, diet, freedom from addictions or lack of exercise, poor diet, disease and injury, toxic chemicals,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Psychological factors: Health Psycholog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reg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ing and receiving l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imag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thou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y personality 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thou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 cop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healthy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ocial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groups: families, schools, churches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e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Coronary Heart Disease- has a direct relationship with stres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 cause of death in US; 32% of all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factors- sedentary lifestyle, high cholesterol, smoking, obesity, family history (behavioral and gene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Personality Type- what type are you?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A behavior patter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ehavior pattern of sense of time urgency, impatience, excessive competitiveness, hostility, anger- considered a risk factor in coronary hear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B behavior patter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laxed and easygoing and not driven by a sense of urgency and time, not impatient or hostile, relax without g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ancer and stres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ading cause of death in Us; 23% of all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of diseases that can invade cells in any part of the organ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continue to divide and spread until they kill the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: unhealthy diet, smoking, excessive alcohol consumption, promiscuous behavior, early sexual activity in 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immune system and stres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of immune system- to seek out and destroy bacteria, viruses, fungi, parasites, and other foreign bodies that enter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phocytes- white blood cells make up the immune system- B and T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cells come form bone marrow, T cells from the 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reate antibodies that fight antigens (all cells foreign to the bod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: virus attacks T cells and gradually weakens immun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Fight-or-flight respons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ympathetic nervous system prepares that body for a fight or a flight through the trigger of horm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rvival technique used by all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Psychoneuroimmun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sts, biologists, medical researchers  study the effects of emotions, thinking, behavior on the immun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social ties have positive effects on immun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of high stress associated with increased symptoms of infectious diseases- oral and genital herpes, mononucleosis, colds, f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effects can last for an extended following the stressful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and mental ailments following death of a spouse for up to 2 years following th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Factors that foster high levels of stres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e rage-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n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Other factors that reduce impact of stress and illnes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s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pecting positive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i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mitment to work and personal life, control over consequences and outcomes, challenges in life viewed as opportunities for growth and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igious involv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ossible social support, better effects on 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cial sup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be from spouse, others- tangible aid, information, ad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Gender, Ethnicity , and Health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grees of wellness differ across gender and among various cultural and ethnic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more likely than men to seek medical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 more likely to see women’s health complaints as emotional rather than due to physical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verty among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rican Americ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x more likely than White Americans- at higher risk for disease and death, more likely to suffer from inadequate health care; greater mortality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panic Americ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lcohol abuse and cigarette smoking prevalent, high risk for death form accidental injuries, homicide,, cirrhosis of the liver, chronic liver disease and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ve Americ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mallest minor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- alcohol sever risk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ian Americ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paratively very heal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Lifestyle and Health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habits have a profound affect on a person's well-being and longe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leep, lack of exercise, alcohol or drug abuse, unhealthy diet, over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likely to adopt these changes if there is a promise of feeling or looking yo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Health craze and  societies preoccupation with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moking and Health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- most dangerous unhealthy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s the foremost cause of preventable disease in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isk for heart disease, lung cancer, emphys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onsequences: chronic bronchitis, respiratory problems,, deaths and injuries from fires, low birth weight inf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moking, second-hand sm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difficult habit 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Alcohol Abuse- related health risk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requently abused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osts to deal with addiction are stagg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damage every organ in the body- especially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hosis kills 26, 000 people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ditary component- offspring display same types of response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ealth benefits of exercis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nd mental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robic exercise: uses large muscle groups in continuous, repetitive action and increases oxygen intake ,breathing and hear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ositive benefits including decreased stress, more energy, benefits to immune system, raises good cholesterol, increase in heart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ow is stress categorized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od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lternative Medic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mins, supp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reatment or therapy that has not been scientifically demonstrated to b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enefits of Lifestyle Chang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sing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reduce bad cholesterol, increase good, reduce blood pressure, decrease risk of diabetes, sleep apnea, osteo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ding fiber to di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mproved bowel function, decrease risk colon cancer, digestive problems, reduce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ysical activ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any of above as well as reduce feelings of anxiety and sa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op smo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mproved circulation, improved sense of smell and taste, reduced risk lung infections, long term: reduced risk cancer and heart disease, emphys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Positive and Negative Stress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tress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i or events that are capable of producing physical or emotional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Readjustment Rating Scale (SRRS): ranking life stress events by a point system- correlation with high scores and disease 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can be positive or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College  Hassles- what are common college stressors?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oubling thoughts about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not getting enough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asting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inconsiderate smo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physical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too many things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misplacing or losing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not enough time to do the things you want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concerns about meeting high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being lon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ner et al. (19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aily Hassles add up…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stressors may be more problematic than larg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ting, frustrating, distressing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d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s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mpany health problems like flu, sore throat, headache, back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lif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positive life experiences-may neutralize the effects of hass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3 types of conflic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ach-approach confl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nflict between two equally desirabl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oidance-avoidance confl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hoice between undesirabl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ach-avoidance confl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ame choice has both desirable and undesirabl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9:05:20Z</dcterms:created>
  <dc:creator>Peter Gianakos</dc:creator>
  <dc:description/>
  <dc:language>en-US</dc:language>
  <cp:lastModifiedBy>Peter Gianakos</cp:lastModifiedBy>
  <dcterms:modified xsi:type="dcterms:W3CDTF">2005-03-31T00:25:08Z</dcterms:modified>
  <cp:revision>10</cp:revision>
  <dc:subject/>
  <dc:title>Health and Stress</dc:title>
</cp:coreProperties>
</file>