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4128-4679-448F-9E1E-6284133F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know you are pregnant, may not have even missed your menstrual cycle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zygote attaches, the next stage begins- and now it is called 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to infants in-utero, massage, playing music, talking to fetus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pound baby born in South America last week was the result of a woman who had gestational diabetes; dangerous to mother and to infant- average size infant 7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R ino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agents that can have a negative influence on prenat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lidomide- introduced for morning sickness at point when fetuses arm buds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’s twins- 10 weeks premature; lungs not formed, apnea when fed, 2 ½ months in hospi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threatening situations that put infants at risk for further complication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sociated with behavior problems- excessive aggressiveness,, later on in childhood and adol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dsay: twin, legally blind, oxygen deprivation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ed by severe malnutrition or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and should not try to rush development- there is a prescribed time line for such to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senses are functioning a birth- however, they are not fully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urn away from Mother’s voice (habituate) and turn to a new stimuli (voice) in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twins were quite different- one was easy-going, mellow, and a good eater, the other was colicky ,high strung, cried all the time, and I had to coax to eat- hey are still different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-nur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each child born with resilience or vulnerabilities- environment raised in may make them more susceptible to acting a particular way, depending on the characteristics of the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ge theo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hildren go through phases or stages for example in logical thought- developmental psychologists say children don’t have more as they age, they just are able to use it differently; terrible tw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tra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ex. developmental psychologists study intelligence and personality and assess if they are stable over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group of participants is followed and measured at different ages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inal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groups of participants of different ages on various characteristics to determine age-related difference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-sectional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- eye color, genetic disorders= genetic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influences also work in combination with genes and shape an individual’s development through the 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identical tripplets, quads, or qu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ay have quads- whoa re fraternal twins; 2 eggs unite with two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ion takes place in the fallopian tube and, within two weeks, the zygote travels to the uterus and attaches itself to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0DC-FED6-4BB0-AC8A-ABCD746F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B27-5410-469A-8DE4-8363A23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6B8-3792-4684-BB36-F8206F20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F64-B834-422D-A664-77577D0F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3B10-6536-46B2-8ED9-0A5AB3ED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7531-F944-419E-A023-6D1A3BB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A515-8B72-403A-9B42-AD041F7A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656-B101-4539-8693-BB0EA99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8921-7B5F-4188-88DE-91DDABB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6711-92FE-4E32-BDDB-10EFDFD3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98A-B4BD-4334-B7D3-2E5FF15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62C-9650-491A-BB4C-38BEBA6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A47-9711-44F4-9410-92B066A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E105-014F-4E4B-94B7-842E776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8805-068F-4E6D-B011-0DE14690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645D-E437-40A4-A153-2307A948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04E7-7815-4AD2-8EB6-6411D31D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31C-82B6-4A1E-8448-14026FC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F3A-6433-4D3E-B265-8EC94C4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123-27A9-49DA-AADD-D432AF9F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C5D-1F16-4870-B45E-D9FDF43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38D-EA85-45DB-9F2D-753DEFB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A88-2FAC-489B-8682-C32BB92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2D2-BF66-4904-902F-C4DA07C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7B4-7603-4776-A32D-A1E3CD97D2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BBC-5313-4E1E-996D-2A7D05102C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rminal St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eption – two wee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 of rapid cell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bryonic St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s with zygote attaching itself to the lining of the uterus, and formation of first bone cells: weeks 3-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alled a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bry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7 of an ounce, 1” long, appears like a human being with limbs, eyes, many internal organs functioning; all major body systems form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tal St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weeks, beginning of bone cells, until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t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pid growth, development of body structures, organs,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tal 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ltrasou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able to observe fetal behavior directly (sucking thum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borns remember prenatal stimuli such as mother’s heartbeat, the odor of amniotic fluid, music they heard in the wom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Influences on Prenat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ernal illness- diabetes= retardation or acceleration of fetal grow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us- rubella, chicken pox, HIV = physical, behavioral abnormalities, such as heart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tog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uses, X-rays, environmental toxins that have negative impacts on prenatal develop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act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rato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pends on intensity and time when it is introduced in embryonic s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Perio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embryonic stage, time periods when certain body structures devel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tal alcohol syndro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maternal alcohol intake early in prenatal development resulting in facial irregularities, mental retard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w-birth weig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f the most serious effect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ratog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 5.5 p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term infa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born early, before 38 weeks of gestation- lungs not fully form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mall-for-date infa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birth weights lower than expected for gestational period- more likely to die or have permanent dis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rth Compl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pse of umbilical c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mature separation of the plac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xygen depri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an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on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newborn – 1 month of 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haviors dominated b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flexe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born, unlearned, automatic responses to certain stimu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e survival and include sucking, swallowing, coughing, blin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ing reflex, Babinski response, stepping reflex, crying when hung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mental Psych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span psych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dy of human psychological development from conception to dea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s- infancy, childhood, adolescence, early, middle and late adulth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or milestones (crawling, walking, standing) result fro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u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tically determined, biological pattern of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: physical and motor development proceeds head downward to trunk- center of body outw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ence may accelerate motor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nsory and Perceptu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th perce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ring and other s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ant’s vision 20/600- not 20/20 until age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” from infant’s face best focus, can follow moving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distinguish colors by 2 mont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fer red, blue, green, yellow (primary colo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pth Perce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sual cliff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aratus used to measure infants’ ability to perceive dep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6 weeks old, can distinguish depth and may show fear of deep 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ring and Other Sen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born’s hearing better developed than vi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fer Mother’s voice to strange v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head in direction of no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discriminate certain odors and tas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itive to p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ve to touch, responding positively to stroking and fond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bituation: phenomenon that shows newborns can and do lea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 stimulus presented, they quiet, heart rate slows, and they fixate on the stimulus (voic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accustomed, they stop responding- they “habituate” to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era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ay that individual infants responds to the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infant has an individual style or characteristic way of respon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omas, Chess, Birch- Temperament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s 2-3 month old infants into adolescence and adulth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ed three types of tempera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y, difficult, and slow-to-warm 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sy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% of the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ant moods, adaptable, approached new situations and people positiv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blished regular eating, sleeping, elimination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icult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% of the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pleasant moods, reacted negatively to new people and situations, intense in emotional reactions, irregular in bodily fun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span psychologis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specialize in a particular ag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- special area of interest; physical, cognitive, language development, or emotional or mor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ow-to-warm-up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% of the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drawn, slow to adapt, prone to negative emotional st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35% too inconsistent to categori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ment can predict behavioral problems that will occur later in childhood or adolesc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ulsive children become aggressive, danger-seeking adolescents and over controlled children more prone to social withdraw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ach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liest relationships exist between primary caregivers and oursel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ifest by crying or protesting when infant finds himself in threatening situation, and he attempts to reconnect with caregiver separated from caregi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rpose of Attach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ttachment lacking, infants often suffer from depression, anxiety, and general poor psychological well-be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Effect MR foster mothers on orphaned inf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rl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59; monkey attachment experi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by monkeys and two dummy versions of mother monkey- wire, mesh with food for babies, soft, cloth covering with no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bies preferred contact with soft cloth despite no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ived baby rhesus monkeys of social contact with other monkeys- 6 months; when released exhibited depressed, withdrawn, self-harming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ans and Attach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al affection and responsiveness necessary for development of attachment in hum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ing to infant’s needs- gazing, stroking, talking to, relieving stress of crying by carrying, picking up, human voice- promotes attach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achment strong by 6-8 mon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paration anxie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fear and distress when parent leaves them (8-24 months, peaks at 12-18 month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nger anxie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6-7 months until 12 ½ months; greater in unfamiliar setting, parent not close by, strange se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achment Patterns in Infan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65%; typical distress at separation, happiness at return, feels safety with Mom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a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20%;no distress when Mother leaves, or indifferent when retu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10%; cling, angry when Mom returns, difficult to com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organized/Disoriente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%; indifference, anger, expressionless 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the research say about attachme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sion in mother related to insecure attachment in inf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ter care; &lt;1 yr. develop secure attachment, &gt;1 yr. insec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ly attached infants likely to be emotionally secure children and adolesc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acts quality of adult love relation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ly attached parents more responsive to inf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– Child Relationsh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thers are important role models for fathering skills that will be exhibited by their sons later in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versial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ure-nurture deb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 theor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al traits and how they change over the lifes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Abs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ociated with undesirable developmental outco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er school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G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attendance at sch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drop-out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d self-confidence in problem sol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self-este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icidal thoug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havioral problems with delinquency and agg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girls: predictor of earlier sexual behavior and teenage pregna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: children need both influences- 38% American children live apart for their fa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aget’s Theory of Cognitiv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an Piaget, Swiss developmental psychologist (1896-198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 focused on the attempt to understand development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gnitive functio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passes through stages, cognitive periods, each with characteristic modes of thou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aget Defined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imary way in which human knowledge develops, a mental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experiences humans make generalizations and inferences about new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admap, template- basic ways of thinking about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tal modes of thinking, to represent, organize, integrate experience children take information given to them and actively construct an understanding, mental representation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aget’s Developmental Theor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hand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imotor S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operational S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rete operational S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operational S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ygotsky’s sociocultur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ssian psychologist who believed that a child’s social environment is important to their individ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ieved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ontaneous 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haviors exhibited by children are important to their cognitive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vate speech, self-guided talk helps children direct their actions and solve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caffol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s provide minimal help to children that enables them to achieve their tasks that they wouldn’t be able to do on their 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c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bb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ex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ex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graphic spe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regular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s used to study age-related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itudinal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oss-sectional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to Re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ological aware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’s Role in Socializa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iz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itarian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itative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ssive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lecting par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mpact do peers have on a child’s socializ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television influence a child’s developm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Bronfenbrenner explain the influence of culture on children’s developm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differences between macrosystems, exosystems, and microsystems? How are these systems interrela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nat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eption – 3 mont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– 6 mont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– 9 mont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mesters, 3 periods of three months’ du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e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rm cell- ovum (egg) = single-celled zygo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ygote= 46 chromosomes, 23 from mother’s ovum and 23 from father’s spe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romosomes carry genes-biochemical instructions as to an individual’s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ozygotic, identical- one egg, one sp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zygotic, fraternal- two eggs, two sp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Prenat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ryon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23:01:48Z</dcterms:created>
  <dc:creator>Peter Gianakos</dc:creator>
  <dc:description/>
  <dc:language>en-US</dc:language>
  <cp:lastModifiedBy>gianaf</cp:lastModifiedBy>
  <dcterms:modified xsi:type="dcterms:W3CDTF">2005-02-03T13:05:34Z</dcterms:modified>
  <cp:revision>7</cp:revision>
  <dc:subject/>
  <dc:title>Child Development</dc:title>
</cp:coreProperties>
</file>