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6270-A83B-4CFE-9A7A-29849459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ing on le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mmercials right before dinner time, pizza companies count on the image of their pizzas automatically making you hungry for their food. This is an unconditioned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son: classical conditioning- instilled fear of white rats in Albert, a 1 year old-baby. Showed the baby the rat- he tried to play with it- experimenters made a loud noise behind the babies head- several attempts at pairing the rat with the frightening noise, Albert would cry at the sight of the rat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= loud noise, rat= CS for a conditioned f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ve reinfor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you study with a friend (the operant)  for the Psychology exam- this action is followed by your receiving an A on the exam (the reinforcing stimulus). If you are then more likely to study with a friend in the future, positive reinforcement has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ing machine: the operant (hitting the machine) was followed by the addition of a reinforcing stimulus (the drink), making you more likely to behave in the same way in similar situations I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gative reinfor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you take two aspirins  (the operant) to remove a headache (the aversive stimulus). Thirty minutes later, the headache is gone. If you are then more likely to take aspirin for headache in the future, then negative reinforcement has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were to announce- “There’s a surprise test today. Close your notebooks and put all your books on the floor. Take a out a pencil and a clean sheet of paper.” Would you feel anxious/ If you did, you would be experiencing an example of conditioned learning and the power it creates. You learned to feel anxious when you heard the word “t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5E2-7A45-4FA8-8BBA-C3BF34BC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F7B-23F8-4E3F-BA76-DC790DB3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B5F-5B52-4C9C-8392-F134DB49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2EC-6FDA-4D28-9BD5-C2655D2B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AC8-6CE2-4C20-96BF-026777F3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4DA-9288-42F4-8A09-92EAC639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562-267E-4CEB-A80C-60575D05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660-0633-4D82-A331-324703EC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3A7-B8B6-4D49-9647-22DBFAAA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23A-B21D-48D2-9D98-52BFE44F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EF5-03E9-46DF-9D51-6C9374F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23D-0237-4459-AC22-EC38159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F3D5-D98E-4D11-9079-2B2CE65C0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something really tasty and see if your mouth waters automatically. Did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because salivation is  a reflexive response to food.  It is the body’s way of preparing to receive food. Saliva helps break down food into digestible 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Cond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first display a response to a stimulus that they do not have to be taught, something they do “naturall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Dogs salivate naturally when they are f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is study, Pavlov taught dogs to salivate at the sound of a bell that signaled that  food was 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volves reflexive behavior( a relatively simple, unlearned behavior governed by the nervous system, that occurs automatically when the appropriate stimulus is prese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vlov: 4 Components of classical condition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#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ccurs Before conditi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onditioned respon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R): Pavlov’s dogs automatically, or reflexively, salivated when presented with food.  They didn't have to learn or be conditioned to salivate in the presence of food. Pavlov called this response unconditioned- or not-lea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onditioned stimuli (U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#2.  Occurs During 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t that automatically triggers a certain reflex reaction is called a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onditioned stimul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food in the dog’s mouth was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tion for the food was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nditioned respo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ed stimuli (C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3.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ed stimu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vent that is repeatedly paired with the unconditioned stimulus. The bell that Pavlov rang in  a typical experiment = 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conditioned or associated with food through the process of pairing trials.   The idea is that after enough trials, the CS will produce the desired response on it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ed responses (C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#4.  Occurs After 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Conditioned Stimuli produces the Unconditioned Response on its own, the desired response is called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ed respo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learned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- the dog hears the bell and salivates even when food is not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conditioning terminology can be confusing~ think of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having the same meanings ‘learn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ed stimulus” refers to “learned stimul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nditioned response” refers to “unlearned respon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that affect cond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lov discovered that many factors could affect the strength of the conditioned respon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more frequently that the conditioned and unconditioned stimulus were paired, the stronger the association between the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mittent pai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airing the CS and US only once in a while, reducing both the rate of learning and the final strength of the learned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iring of two appropriate stimuli stops and the power of the CS eventually f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S is presented enough times without the US, the CS will eventually cease to elicit the 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verses the process of classical 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vlov’s dogs learned to salivate at the sound of a bell- if the bell keeps getting presented without any delivery of food, the dogs would eventually stop salivating at the sound of the b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classical conditioning impor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important in terms of human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us to learn things by association without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 have associated a CS with a US to the point where the CS produces the CR, we can expand automatically on that learning through a process known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people lear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lea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theories exist-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aget’s Developmental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-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Brain/Left Brain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learn to associate certain facial gestures, like a snarl or a sneer, with eventual violence, then the snarl/sneer (CS) produces fear (CR) whereas only a flying fist of a verbal threat (US) elicited fear (UR) in the pa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generalized and this could save your ne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ation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negative sid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ttacked by a black pit bull, you might get scared any time you encounter a black dog, even a Chihuah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- Consider a war veteran who suffers from post-traumatic stress.  If this person has experienced loud explosions and heavy gunfire and developed a strong fear to these events, this individual may react the same way when they hear a car backfire or some other loud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begin to over-generalize what we’ve learned, we are not engaging in discrimination. We need to know how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imin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tell the difference between stimuli- between a gun firing and a car backfi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ion is learned when a CS is presented enough times without eliciting a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cal Conditioning in Hum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ommon in humans as it is in animals- ex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b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tense, irrational fears of particular things or situations- spiders, snakes, flying, heights, claust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Watson and  Baby Alb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eph Wolpe: (psychiatrist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ensitization therapy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for anxiety – believes it was not possible to be both fearful and relaxed. If people wee taught to relax in fearful situations, anxiety should disapp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n which an important event follows a specific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t event is a positive con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Every two weeks I get paid at my job. Am I paid to sit around and take up space? No, I’m paid for performing duties, for working. I do something and something happens. I work, and I get p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nt conditioning takes place all around us, in our homes, as well as the workplace. Parents use rewards, or operant conditioning to get their children to do their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ward Thorndike: Law of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d the idea of a consequence having an effect on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: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zzle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de out of a wooden crate with spaced slats and a door that could be opened by a special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d a hungry cat inside the box and shut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d some food on a dish outside the box and the cat could see it through the slats in the c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 had to figure out how to open the door to get th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accidentally hit the latch and the door opened- cat got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ed it again- at first the cat didn’t recall how he had triggered the latch. Eventually the cat triggered the latch again- each time he tried it, the cat  found the latch in shorter amount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r the satisfaction, the greater the strengthening of the bond. The consequence of getting the food served as a reward for learning how to open the box. The opening the box behavior = my job; the food was like my pay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infor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onsequence of an action or event increases the probability that the event or action will happen again- it is be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a re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nt conditioning is all about the effects that reinforcers have on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ie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gotsky and Social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******************************************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veryday sense, learning often refers to formal methods of acquiring new knowledge or skills, such as learning in the classroom or learning to play a fl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F. Ski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ous behavioral psychologist, followed Thorndike in using animals to investigate operant conditi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ner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structed a box with a lever inside- when an animal pressed the lever, a food pellet fell out of a feeder into the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ner wanted to see if rats placed in the box could learn to press the lever in order to receive the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s aren’t used to pressing levers- Skinner had to facilitate the process with a procedu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ner rewarded the rats for performing a behavior that was close to the required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ing was done gradually so that the rats pressed the bar for food the same way that Thorndike’s cats learned to open the d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that increases the likelihood that a behavior will occur again can be used a reward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for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inforcer could be food, money, recess, or va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infor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asic types of reinforc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use of any reinforcement that increases the likelihood that a behavior will occur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ve 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 when the removal of noxious stimuli leads to an increased likelihood that a behavior will occur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all reinforcers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not…differences between reinforcers exist and determine the impact that the reinforcers have on respo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positive reinforc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reinfor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ards that do not require shaping or prior training to be effective. Ex. food, pleasurable sensations, water, adequate warm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ed reinforce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a secondary reinforcer, is one that has acquired reinforcing value by being associated with a primary reinfor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Money: reinforcing because we have learned that we can use it to acquire primary reinforcers and other conditioned reinforcers. Also, awards, frequent-flyer points, and college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types of positive reinfor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imary reinfor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rewards that do not require shaping or prior training to be effective. Ex. Food, pleasurable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Premark (1971): primary reinforcers can be identified by looking as what people spend most of their time doing.(riding a bike, sleeping, playing video games)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mark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igh probability responses can be used to reinforce lower probability responses. Using ice cream (high probability)  to get a kid to eat vegetables (low probablility respon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reinforcers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that become reinforcing through experience and lear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dolphin trainers blow a whistle as they reward the dolphins with fish. Eventually, the dolphins associate the whistle with food, and the whistle is reinforcing in and of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rding to psychologis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pic of learning is much bro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sts formally define learning as a process that produces a relatively enduring change in behavior or knowledge as a result of an individual’s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psychologists, learning occurs in every setting not just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akes place at every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sychological study of learning is not limited to humans. Learning is an important aspect of behavior of virtually all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of our knowledge of learning has been discovered by behaviorists, psychologists who believe that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ble behav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lid topic for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 Analysts- Who a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ists (psychologists) who practi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havior mod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hange behavior by working with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ehavior analysts work with developmentally disabled children or patients in psychiatric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ehaviorists help people to end bad habits like smoking or over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behaviorists study lea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observe the learning experiences of animals in carefully controlled laboratory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imals as subjects, researchers can precisely control the conditions under which a particular behavior i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very basic form of learning; the process of learning associations between environmental events and behavioral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ing the phone and using a word-processing program- are behaviors we have learned through 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conditi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 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nt 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ather of Classical Cond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sychological study of learning began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van Pavlov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ssian laboratory in the late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 he was initially studying the digestion process in d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lov became interested in how the presentation of foo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to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sal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this phenomenon-Pavlov invented a teaching technique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assical 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lov taught dogs to salivate at the sound of a bell- how is th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assical conditio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22:39:41Z</dcterms:created>
  <dc:creator>Peter Gianakos</dc:creator>
  <dc:description/>
  <dc:language>en-US</dc:language>
  <cp:lastModifiedBy>Peter Gianakos</cp:lastModifiedBy>
  <dcterms:modified xsi:type="dcterms:W3CDTF">2005-11-01T00:54:18Z</dcterms:modified>
  <cp:revision>12</cp:revision>
  <dc:subject/>
  <dc:title>Chapter 5</dc:title>
</cp:coreProperties>
</file>