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CEB-7A00-416F-A95E-E3AE3A72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0A3-95BC-4DA4-8533-A51D56D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418-5442-4AFD-9EFE-8B373E5E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B7E-3275-44F6-A3F0-D942C78A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70B-B8AA-4EC2-956D-44CBFD16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CF9-3C75-4645-A3DB-A84C81A1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AFD-C41F-4A4E-B14B-79F68F5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570D-1DC8-4017-9E90-7C656B7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CD4-F6FD-4D4A-B474-5594567D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AB96-6BC5-4F6F-A6BB-53B9998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C762-0BF4-4FEA-BCF7-17895BA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052-8381-48F4-92F7-88B75C69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AC84-4433-4D02-90AB-DBF40A2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487E-8CD1-42D6-BC16-A59AC8D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2558-C1BD-408F-92B9-CDD47902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857E-2860-4651-8C74-34F1C2DA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6A1A-A928-436B-AB48-A368A831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7A8-F3A4-48EC-BC39-AC16D26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B49-CE6E-4BD9-9223-69123804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3CF-9E73-4EEC-A63B-6A16CB6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89F-6F2C-4B9A-880A-C9425E88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CFD-3C8C-47C6-9100-1A83B579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B10-D1C1-4BF3-9FE0-CB71901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AA5-FC56-45DC-A625-E9F3C40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482-27CD-4F23-9D03-C672F5F88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5267-97DF-47D3-A994-C9901B2C3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4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ed States of Consciousn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s and Their Effect on the Brain and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rugs Enter the body in Different Way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s of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orting/Snuff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outes of Administr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se is not the only factor that changes the effects that a drug causes in th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rug enters the body can lead to a milder or more sever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al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rug that is smoked reaches the brain very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aled drugs go directly from the lungs into the left side of the heart where they enter the arterial circulation that carries them to the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juana and nicot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nsity of the effect may be slightly less because some of the drug will be exhaled with the rest of the sm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ges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s taken this way enter the body through the m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ants, depres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s taken orally enter the bloodstream more slowly than by other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ugs pass through the digestive tract until they reach the stomach and intestine where they are absorbed in to the blood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dy begins to metabolize the drugs before they can act on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zymes in the stomach, intestine, and liver begin breaking down the drugs so that they can be cleared for the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je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rug that is injected intravenously travels quickly to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pid passage of the drug brings a high risk of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.: Heroin in the blood can reach lethal level much faster than medical help could possibly be obt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norting or Snuff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 is taken in through the nose where it is absorbed through the mucous membranes lining the nasal pa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s taken this way are less intense because it takes the drug longer to get into the bloodstream and because it does not enter the blood as effici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ug Abuse and Addi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addiction is a complex brain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sons for using dru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s make choices to begin using drugs- perhaps to relieve a medical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ed individuals may use illicit drugs to self-med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eel pl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scape the pressures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lter one’s view of re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en does drug abuse become drug addictio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ne becomes addicted with the first use of a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 abuse and drug addiction can be thought of as points along a contin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use of a mind-altering drug or the inappropriate use of medication (prescription or over-the-counter) 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when drug abuse becomes drug addiction is les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ug Addi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addiction is defined as the continued compulsive use of drugs in spite of adverse health or social consequ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addicts have lost control of their drug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become isolated from family or friends, have difficulty at work or school, become involved with crime and the criminal justic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primary focus is continuing their drug ha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ug Reac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drugs, including opiates and alcohol, cause a strong physical reaction in the body when drug use st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oin: a variety of physical withdrawal symptoms- watery eyes, runny nose, irritability, loss of appetite, diarrhea, shivering, sweating, abdominal cramps, increased sensitivity to pain, sleep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Limbic 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mbic System is the specific area of the brain, the reward system, that regulates feelings of plea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gion is activated by drugs of ab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drugs cause their effects on the brain and behavi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drugs actually do in that brain reg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aving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st drugs, physical withdrawal symptoms can usually be controlled effectively with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topping drug use is difficult because of the changes the drugs have caused in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the drug stops, the abuser will ha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av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 intense desire for the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aving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se form the brain’s need to maintain a state of homeostasis that now includes the presence of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ccur at any stage of drug abuse or addiction, even I the early experimentation phase of drug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a physical basis in the brain- even seeing images of drug paraphernalia can stimulate the amygdala (part of the brain that controls memory) in drug addi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nges in the bra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rug “high” lasts a short time, less than an hour to 12 hours depending on the drug and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in the brain that result from continued use can last a lo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anges disappear when drug use stops, some disappear within a short time after drug use stops, and other changes are potentially perman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ler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first changes in the brain that occurs in response to repeated drug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s when a person needs increasing doses of a drug to achieve the same ‘high’ or “rush’ that previously resulted form a lower dose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ong-term changes in the brain’s neuron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, methamphetamine, and Ecstasy can kill neu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ike neurons in other parts of the body, brain neurons cannot regene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  kills neurons in the parts of the brain that helps create new memories. If those neurons die, the capacity for learning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gh risk and drug abu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and anatomical changes in the brain occur with abuse- as does other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alant abuse= disruption of heart rhy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rting cocaine= ulcerations in the mucous membranes of the 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contracting HIV or AIDS through shared need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- responsible for hepatitis B and C, tuberculosis, motor vehicle acc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sk Factors for Addi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coping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age for initial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in which a person uses the drug; cancer patient may not become addicted to morphine unlike a street addict- sick person uses the drug not to get “high” but to ease their pain and improve their quality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pamin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s interfere with neurotrans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s of abuse produce feelings of pleasure by altering neurotransmission by neurons in the reward system that release the neurotransmitte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pam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s like alcohol, heroin, and nicotine excite the dopamine-containing neurons so that they produce more action potenti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crease in action potentials = an increase in the amount of dopamine released = an increase in feelings of pl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enosin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C (the main psychoactive ingredient in marijuana) and morphine activate specific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feine, the mild stimulant found in coffee and soft drinks, prevents a neurotransmitter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enos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binding to its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normal situations, adenosine causes sedation; it is a natural sleep-indu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ead of causing sedation, caffeine blocks adenosine and leads to an increase in activity and arousal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roton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oto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 important neurotransmitter, is involved in a wide variety of functions, including mood and basic survival functions such as sleep and 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SD acts on  some serotonin receptors while at the same time blocking other serotonin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oval of Neurotransmitt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ic transmission can also be altered by removing the neurotransmitter from the syn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 work this way- they block the dopamine transpo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lt is fairly fast feeling of euphoria and well-be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s of abuse share a common action: they act on the brain’s reward system within the system, they all (except for LSD) share the ability to increase the levels of dopa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ccounts for the rewarding (pleasurable) effects of abused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dose changes the drug’s effec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drugs to exert an effect, a person must take them into the body and absorb them into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effects relate to the amount of the drug ta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a drug enters the bloodstream, a response can be meas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oint is known as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amount of drug increases, so does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some point, the response to a given amount of drug will reach a plateau, or a maximum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high doses, the response to the drug remains at the maximum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1:37:11Z</dcterms:created>
  <dc:creator>Peter Gianakos</dc:creator>
  <dc:description/>
  <dc:language>en-US</dc:language>
  <cp:lastModifiedBy>gianaf</cp:lastModifiedBy>
  <dcterms:modified xsi:type="dcterms:W3CDTF">2004-11-22T18:13:21Z</dcterms:modified>
  <cp:revision>2</cp:revision>
  <dc:subject/>
  <dc:title>Chapter 4</dc:title>
</cp:coreProperties>
</file>