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95F40-2B6B-4EE0-BF4B-2BDE055D92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ith based- the soul lives on after dea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F916-19A1-4DB1-B06C-335C26FA3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A995-5569-4EB2-B36A-299BA64AA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4004-8D3F-4F64-9285-ABD68836B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B8CE-96AB-4C97-BCB8-B187E6FC4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21A5-2D0A-47CB-9BDB-2C42954A3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1BE9-5E3C-4894-A24A-AB73AE7F3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A803-906A-4924-854F-505204EA5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C1AF-3AB8-4F49-AAC3-B587819EF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8B21-C0EA-48A4-9873-7CC6094D9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5DAE-CCD7-48C5-A4C5-2139E0365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23F7-3CAB-42A2-ADB4-9821FB4EA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0619-3016-40BA-8934-91CD3EAE9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F601A-29E0-4CFE-A2B7-76BFDFBF65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pter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sychology: An 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rowth of Psycholog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ying Perspectives in Psych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sychology has a long past, but a short history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isto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ne Descartes (1596-165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les Darwin (1809-188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uctural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ilhelm Wun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formal psychological laboratory  187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sp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dward Bradford Titche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cience of consciousness- physical sensations, feelings, im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illiam Jam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187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ptions, emotions, images cannot be separ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ciousness flows in a continuous str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ies how an organism learns to function in its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havior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ohn B. Wat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havior is a learned response to something in the environment- conditio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ttle Albe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bula ra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F Skin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inforc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stal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rman psychologists interested in perception- and the tricks the mind plays on itse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stalt means “whole” or “form’- we have a tendency to see patterns, to distinguish an object from its background, to complete a picture with a few c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jected structuralists breaking down of perception and thought into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sychodynamic Psych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gmund Fre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e will” is an il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mans are motivated by unconscious instincts and urges not available to the rational, conscious part of the m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sycho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ated” at s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istential and Humanistic Psycholog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istenti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focuses on the meaninglessness of modern life, how these factors lead to apathy and psychological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uides people towards inner sense of ident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umanistic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uman beings must learn to realize their human potent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ilities of non-verbal experiences, altered states of consciousness, “letting go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urrent Trends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gnitive Psycholog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of the mental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e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emb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ing decisions and judg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velopmental Psycholog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erned with the lifelong process of human mental and physical growth from conception to de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. Child psycholog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olescent psycholog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ysiological Psych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stigate biological basis for human behavior, thoughts, emo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sychobiologis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study the body’s biochemistry- how hormones, medications, drugs affect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uropsychologis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study the brain and the nervous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havioral geneticists- study the impact of heredity on behavi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s psychology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sychology is the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cie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ehavi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ntal process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sychology is not limited to the study of humans, it is intended to include other animals as well as the rationale for animal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sychologists use accepted standard techniques to build a body of knowledge about behavior and mental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erimental Psych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sychologists conduct research on psychological processes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s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ce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o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sonality Psychology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sychologists study the differences among individuals in traits such 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xi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ci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f-este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for achiev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gressiv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cial Psych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cial psychologis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tudy how people influence each 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sonal attr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titude 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jud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form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dustrial and Organizational Psycholog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sychologists concerned with practical issues relating to the work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ing and training personn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oving produ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oving working con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rization and auto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gnitive Psych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of the mental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e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emb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ing decisions and judg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volutionary Psych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of the evolutionary origins of behavior patterns and mental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ks how human beings go to be the way we 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hasis on cultural and gender dif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nical and Counseling Psycholog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0%-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nical Psychologis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interested in diagnosis, cause and treatment of psychological disorders (mood disorde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0%-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unseling Psychologis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interested in normal lifetime adjustments (career, marital problem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ultiple Perspectiv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emporary psychologists are apt to see the various perspectives as complimentary- each approach contributes to our understanding of human behavi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imes the theories mesh beautifully and compliment one another and other times one approach challenges an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how the field of psychology adva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Decade of Behavior: Solving Societies Proble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merican psychological Association (APA) has declared 2000-2010 as the Decade of Behavi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s inclu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moting behavioral and social science re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funding for re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ing the publ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uman Diversity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end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roles, stereotypes, dif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ultu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intangible processes, subcul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ace and ethnici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ethnic ident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sychology: Science and Practi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sychologists beliefs are not built on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ith-based belief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on sen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mpirical evide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evidence gathered through direct sensory experience or obser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sychology and Human Diversity Iss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minist challenges- feminist the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xual ori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hnic and minority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ntended bi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psychologists approach problems? What are the goals of psycholog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cientific metho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lect data through careful, systematic observation (DESCRIB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tempt to explain what they observed by developing theories (UNDERSTAN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new predictions (HYPOTHESES) based on the theories (PREDIC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atically test predictions to determine if correct (CONTRO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earch&gt;facts&gt;the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ory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general principle or set of principles proposed to explain how a number of separate facts are rel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cessary to enable scientists to fit separate pieces of data into meaningful frame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imulate debate and further knowle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ss of questioning findings and then repeating a study with different participants and a different investigator to verify research find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nking like a scienti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itical think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 of objectively evaluating claims, propositions, and conclusions to determine whether they follow logically from the evidence pres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nking is independ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do not accept and believe what is read or he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nking suspends judgm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gather information on all sides of an issue before taking a pos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nking modifies or aband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rior judgment: evaluates new evidence, even when it contradicts pre-existing belief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earch Meth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turalistic Observ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observer b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se Studies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le individual, small number studied in great depth, over extended period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rvey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uses interviews, questionnaires to gather info on attitudes/belie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relational Method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at relationship between two characteristics, events, behavi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erimental Researc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experimental method, independent variable, dependent variable, experimental group, control group, experimenter b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ltimethod 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importance of samp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pulation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tire group of interest to researc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mp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part of population that is studied in order to reach conclusions about an entire pop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presentative s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mirrors the population of interest; important sub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iased samp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does not adequately reflect pop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8T20:51:36Z</dcterms:created>
  <dc:creator>Peter Gianakos</dc:creator>
  <dc:description/>
  <dc:language>en-US</dc:language>
  <cp:lastModifiedBy>Peter Gianakos</cp:lastModifiedBy>
  <dcterms:modified xsi:type="dcterms:W3CDTF">2005-09-04T15:03:02Z</dcterms:modified>
  <cp:revision>3</cp:revision>
  <dc:subject/>
  <dc:title>Chapter 1</dc:title>
</cp:coreProperties>
</file>