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ip2.wav" ContentType="audio/x-wav"/>
  <Override PartName="/ppt/media/image8.gif" ContentType="image/gif"/>
  <Override PartName="/ppt/media/wind.wav" ContentType="audio/x-wav"/>
  <Override PartName="/ppt/media/chimes.wav" ContentType="audio/x-wav"/>
  <Override PartName="/ppt/media/image7.jpeg" ContentType="image/jpeg"/>
  <Override PartName="/ppt/media/image6.jpeg" ContentType="image/jpeg"/>
  <Override PartName="/ppt/media/image4.png" ContentType="image/png"/>
  <Override PartName="/ppt/media/laser.wav" ContentType="audio/x-wav"/>
  <Override PartName="/ppt/media/image3.png" ContentType="image/png"/>
  <Override PartName="/ppt/media/Rave%202.wav" ContentType="audio/x-wav"/>
  <Override PartName="/ppt/media/image17.jpeg" ContentType="image/jpeg"/>
  <Override PartName="/ppt/media/image9.jpeg" ContentType="image/jpeg"/>
  <Override PartName="/ppt/media/image11.jpeg" ContentType="image/jpeg"/>
  <Override PartName="/ppt/media/grow2.wav" ContentType="audio/x-wav"/>
  <Override PartName="/ppt/media/drumroll.wav" ContentType="audio/x-wav"/>
  <Override PartName="/ppt/media/image16.wmf" ContentType="image/x-wmf"/>
  <Override PartName="/ppt/media/image15.jpeg" ContentType="image/jpeg"/>
  <Override PartName="/ppt/media/image14.gif" ContentType="image/gif"/>
  <Override PartName="/ppt/media/image13.jpeg" ContentType="image/jpeg"/>
  <Override PartName="/ppt/media/waterballoon.wav" ContentType="audio/x-wav"/>
  <Override PartName="/ppt/media/image10.gif" ContentType="image/gif"/>
  <Override PartName="/ppt/media/image12.jpeg" ContentType="image/jpeg"/>
  <Override PartName="/ppt/media/image1.jpeg" ContentType="image/jpeg"/>
  <Override PartName="/ppt/media/image2.png" ContentType="image/png"/>
  <Override PartName="/ppt/media/image5.png" ContentType="image/png"/>
  <Override PartName="/ppt/media/whoo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C15-344F-4FA0-B079-C9283809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226-8022-4FA1-A5EB-5225197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B77-F6CF-4F0A-8B52-78AC0AA3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C8F-0FC9-42BA-943A-9034E50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C18-D323-4294-8AAC-7290887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BE0-441E-4157-BD49-85B6DC6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EEC-D98E-446D-9140-0655DAC2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B39-1CDE-4536-B5FC-EF2D2D7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F29-919D-4C15-9628-C0F8F74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DC3-4C56-4166-AECA-F0EEBFE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207-A5F9-4BD3-A708-643F6E4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2DB-E143-4C6C-B800-DCA70E5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F4A-5908-4ADB-A018-4F622E76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grow2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ave%202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ip2.wav"/><Relationship Id="rId2" Type="http://schemas.openxmlformats.org/officeDocument/2006/relationships/audio" Target="../media/whip2.wav"/><Relationship Id="rId3" Type="http://schemas.openxmlformats.org/officeDocument/2006/relationships/audio" Target="../media/whip2.wav"/><Relationship Id="rId4" Type="http://schemas.openxmlformats.org/officeDocument/2006/relationships/audio" Target="../media/whip2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aterballoon.wav"/><Relationship Id="rId3" Type="http://schemas.openxmlformats.org/officeDocument/2006/relationships/audio" Target="../media/waterballoon.wav"/><Relationship Id="rId4" Type="http://schemas.openxmlformats.org/officeDocument/2006/relationships/audio" Target="../media/waterballoon.wav"/><Relationship Id="rId5" Type="http://schemas.openxmlformats.org/officeDocument/2006/relationships/audio" Target="../media/waterballoon.wav"/><Relationship Id="rId6" Type="http://schemas.openxmlformats.org/officeDocument/2006/relationships/audio" Target="../media/waterballoon.wav"/><Relationship Id="rId7" Type="http://schemas.openxmlformats.org/officeDocument/2006/relationships/audio" Target="../media/waterballoon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jpeg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82880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ing Trend of Club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ea 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08000" y="96840"/>
          <a:ext cx="896472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6840"/>
                    <a:ext cx="896472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162920" y="61722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onitoring the Future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ff"/>
            </a:gs>
            <a:gs pos="100000">
              <a:srgbClr val="e9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838080"/>
            <a:ext cx="5105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ug use is incre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Edu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Kids are starting to     understand the da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40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6094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oper Black"/>
              </a:rPr>
              <a:t>What are club dru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704960" cy="448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457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oper Black"/>
              </a:rPr>
              <a:t>Common Places Club Drug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057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night dance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24382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ce Cl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752480"/>
            <a:ext cx="236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the National Criminal Justice Reference Service, the te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b dru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general term used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tain illicit substances that are usually synth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Rave%202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7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R CLUB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MA (Ecsta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yp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3407040" cy="381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88296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1981080"/>
            <a:ext cx="6337080" cy="70866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4" name="whoosh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397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380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rends in the Use of Clu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8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59120" cy="203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3716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gamma hydroxybuty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nervous system depres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difficult to distinguish from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t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o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286000"/>
            <a:ext cx="2057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Black"/>
              </a:rPr>
              <a:t>Stree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ecs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ia Home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199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HB has been involved in poisoning, overdoses, date rapes, and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533520" y="-30492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9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GH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 and trouble breathing when combined with other drugs lik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drawal effects: insomnia, anxiety, tremors, sw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i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i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3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43200" cy="196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609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371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sthetic approved for use in animals and humans.  Ketamine can be injected or sn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048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legally sold Ketamine is intended for veterinar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4572000"/>
            <a:ext cx="3124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fornian FB"/>
              </a:rPr>
              <a:t>STREE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Special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Vitami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572000"/>
            <a:ext cx="396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FFECTS OF 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amine will cause a dream-like state and halluci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-838080"/>
            <a:ext cx="7467840" cy="5106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drumroll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e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High Doses Of Keta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motor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fatal respirator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57229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aterballo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53360" y="5514840"/>
            <a:ext cx="1790640" cy="134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12794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132680" y="0"/>
            <a:ext cx="20113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4648320"/>
            <a:ext cx="25146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oper Black"/>
              </a:rPr>
              <a:t>Stree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Ecstasy          H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Adam           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XTC        Love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3124080"/>
            <a:ext cx="2514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oper Black"/>
              </a:rPr>
              <a:t>Ways it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ill (most com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Sn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In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Sup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286000"/>
            <a:ext cx="23619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oper Black"/>
              </a:rPr>
              <a:t>Type of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Synthetic psychoactive dru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057400" y="152280"/>
            <a:ext cx="5000760" cy="2438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43200" cy="178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8:11:38Z</dcterms:created>
  <dc:creator>class</dc:creator>
  <dc:description/>
  <dc:language>en-US</dc:language>
  <cp:lastModifiedBy>lab</cp:lastModifiedBy>
  <dcterms:modified xsi:type="dcterms:W3CDTF">2003-03-28T20:59:29Z</dcterms:modified>
  <cp:revision>37</cp:revision>
  <dc:subject/>
  <dc:title>Slide 1</dc:title>
</cp:coreProperties>
</file>