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cashreg.wav" ContentType="audio/x-wav"/>
  <Override PartName="/ppt/media/image12.jpeg" ContentType="image/jpeg"/>
  <Override PartName="/ppt/media/explode.wav" ContentType="audio/x-wav"/>
  <Override PartName="/ppt/media/image7.jpeg" ContentType="image/jpeg"/>
  <Override PartName="/ppt/media/image6.png" ContentType="image/png"/>
  <Override PartName="/ppt/media/bomb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2.png" ContentType="image/png"/>
  <Override PartName="/ppt/media/suction.wav" ContentType="audio/x-wav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3B0-DBAA-4D19-BAA3-4F1E0591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066-FAE4-499C-B9AA-B6FC4D94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669-FA1E-4335-9E6F-2169AB75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ABF-006B-4417-9E35-E4DA290A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322-5EF2-4255-8C9A-D238BC45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0C4-13C9-4B80-8205-638B5832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05E-C55A-4475-9E48-1FF1347A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449-9EBE-436B-88D7-2063CF53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ABC-3D7D-4926-83D3-1EBC0A39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C6C-5F59-493B-BAE5-0FED55A6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2C1-CEFF-432C-B711-7B6DE1A7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620-70CE-4A60-9334-9B2DC357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5982-84F3-4AF4-882A-5FB84A877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2.png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11.wmf"/><Relationship Id="rId8" Type="http://schemas.openxmlformats.org/officeDocument/2006/relationships/image" Target="../media/image2.pn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2.png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2.png"/><Relationship Id="rId12" Type="http://schemas.openxmlformats.org/officeDocument/2006/relationships/audio" Target="../media/bomb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0" y="58672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5867280"/>
            <a:ext cx="1067040" cy="99072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807732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9144000" cy="4190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492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3.0)">
                                      <p:cBhvr>
                                        <p:cTn id="6" dur="21892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80880" y="487656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3809880" y="0"/>
            <a:ext cx="1067040" cy="99072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732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1828800"/>
            <a:ext cx="876312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629400" y="2133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0" y="4267080"/>
            <a:ext cx="9144000" cy="1524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4952880" y="2209680"/>
            <a:ext cx="533520" cy="449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0" y="182880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9476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807732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388620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396252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6" action="ppaction://hlinksldjump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0" y="1447920"/>
            <a:ext cx="449568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4495680" y="1447920"/>
            <a:ext cx="4648320" cy="253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0" y="396252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044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U CAN SEE IM FROM 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0" y="5867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388620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4" action="ppaction://hlinksldjump"/>
          </p:cNvPr>
          <p:cNvSpPr/>
          <p:nvPr/>
        </p:nvSpPr>
        <p:spPr>
          <a:xfrm>
            <a:off x="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5" action="ppaction://hlinksldjump"/>
          </p:cNvPr>
          <p:cNvSpPr/>
          <p:nvPr/>
        </p:nvSpPr>
        <p:spPr>
          <a:xfrm>
            <a:off x="388620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07732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0" y="1447920"/>
            <a:ext cx="9144000" cy="4419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693432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2068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0" y="5867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4038480" y="0"/>
            <a:ext cx="1067040" cy="99072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5" action="ppaction://hlinksldjump"/>
          </p:cNvPr>
          <p:cNvSpPr/>
          <p:nvPr/>
        </p:nvSpPr>
        <p:spPr>
          <a:xfrm>
            <a:off x="388620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6" action="ppaction://hlinksldjump"/>
          </p:cNvPr>
          <p:cNvSpPr/>
          <p:nvPr/>
        </p:nvSpPr>
        <p:spPr>
          <a:xfrm>
            <a:off x="807732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57200" y="160020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4495680" y="1447920"/>
            <a:ext cx="4648320" cy="4343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65530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8756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MY GIR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5867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388620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07732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0" y="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3809880" y="5867280"/>
            <a:ext cx="1067040" cy="99072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6" action="ppaction://hlinksldjump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304920" y="1523880"/>
            <a:ext cx="419076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4419720" y="1523880"/>
            <a:ext cx="449568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04920" y="3886200"/>
            <a:ext cx="411480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4419720" y="3886200"/>
            <a:ext cx="449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3049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2052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9:09:17Z</dcterms:created>
  <dc:creator>Administrator</dc:creator>
  <dc:description/>
  <dc:language>en-US</dc:language>
  <cp:lastModifiedBy>Administrator</cp:lastModifiedBy>
  <dcterms:modified xsi:type="dcterms:W3CDTF">2006-09-01T19:07:31Z</dcterms:modified>
  <cp:revision>9</cp:revision>
  <dc:subject/>
  <dc:title>HOME</dc:title>
</cp:coreProperties>
</file>