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947E-8D51-4F0D-A5C3-CF4694D6A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Exorcism is mainly thought of as the rite of driving out the Devil and his demons from possessed persons. Exorcism is mainly performed in incidences of demonic possession that is generally distinguished from spiritual possession. A general assumption is that the Roman Catholic singularly practices the rite of exorcism, but some Protestant denominations such as the Pentecostals and other charismatic groups practice it as well. These groups refer to the practice as "deliverance ministry" where gifted people drive out devils and heal while they touch the persons with their hands, called laying on of hands, and pray over them.</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echnically, exorcism is not driving out the Devil or a demon, but it is placing the Devil or demon on oath. And, in some incidences there may be more than one demon possessing a person. "Exorcism" is derived from the Greek preposition ek with the verb horkizo which means "I cause [someone] to swear" and refers to "putting the spirit or demon on oath," or invoking a higher authority to bind the entity in order to control it and command it to act contrary to its own will.</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n the Christian sense this higher authority is Jesus Christ. This act is based on the belief that the Devil, his demons, and evil spirits are afraid of Christ. The belief itself is based on Scripture. Coming from the sea of Galilee Christ entered the land of the Gerasenes. He was immediately met by a man from the tombs cut into the mountains of the area. The man was said to be possessed of an unclean spirit. Nothing could bind this man, not even chains. He lived in the mountains, crying, and cutting himself with stones. But, so it is told, when seeing Christ approaching, the man went to him seeking help. The unclean demon immediately recognized Christ, and Christ recognized the demon. Christ, then, summoned the spirit to leave the man, and asked his name. "My name is Legion," answered the spirit, "for we are many." Once the demons left the man, Christ sent them into a nearby heard of swine who then jumped in to the sea and drown. Unlike other exorcists, it is believed, that Christ did not exorcise because He did not need to call on a higher authority since He Himself was that higher authority.</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ow, not only did Christ exorcize demons, or unclean spirits, but he gave the powers to his disciples. "...he gave the power against unclean spirits, to cast them out, and to heal all manner of sickness, and all manner of diseas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orcism is mainly thought of as the rite of driving out the Devil and his demons from possessed persons. Exorcism is mainly performed in incidences of demonic possession that is generally distinguished from spiritual possession. A general assumption is that the Roman Catholic singularly practices the rite of exorcism, but some Protestant denominations such as the Pentecostals and other charismatic groups practice it as well. These groups refer to the practice as "deliverance ministry" where gifted people drive out devils and heal while they touch the persons with their hands, called laying on of hands, and pray over them.</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echnically, exorcism is not driving out the Devil or a demon, but it is placing the Devil or demon on oath. And, in some incidences there may be more than one demon possessing a person. "Exorcism" is derived from the Greek preposition ek with the verb horkizo which means "I cause [someone] to swear" and refers to "putting the spirit or demon on oath," or invoking a higher authority to bind the entity in order to control it and command it to act contrary to its own will.</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n the Christian sense this higher authority is Jesus Christ. This act is based on the belief that the Devil, his demons, and evil spirits are afraid of Christ. The belief itself is based on Scripture. Coming from the sea of Galilee Christ entered the land of the Gerasenes. He was immediately met by a man from the tombs cut into the mountains of the area. The man was said to be possessed of an unclean spirit. Nothing could bind this man, not even chains. He lived in the mountains, crying, and cutting himself with stones. But, so it is told, when seeing Christ approaching, the man went to him seeking help. The unclean demon immediately recognized Christ, and Christ recognized the demon. Christ, then, summoned the spirit to leave the man, and asked his name. "My name is Legion," answered the spirit, "for we are many." Once the demons left the man, Christ sent them into a nearby heard of swine who then jumped in to the sea and drown. (Mark 5:1-13) Unlike other exorcists, it is believed, that Christ did not exorcise because He did not need to call on a higher authority since He Himself was that higher authority.</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ow, not only did Christ exorcize demons, or unclean spirits, but he gave the powers to his disciples. "...he gave the power against unclean spirits, to cast them out, and to heal all manner of sickness, and all manner of diseas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orcism is mainly thought of as the rite of driving out the Devil and his demons from possessed persons. Exorcism is mainly performed in incidences of demonic possession that is generally distinguished from spiritual possession. A general assumption is that the Roman Catholic singularly practices the rite of exorcism, but some Protestant denominations such as the Pentecostals and other charismatic groups practice it as well. These groups refer to the practice as "deliverance ministry" where gifted people drive out devils and heal while they touch the persons with their hands, called laying on of hands, and pray over them.</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echnically, exorcism is not driving out the Devil or a demon, but it is placing the Devil or demon on oath. And, in some incidences there may be more than one demon possessing a person. "Exorcism" is derived from the Greek preposition ek with the verb horkizo which means "I cause [someone] to swear" and refers to "putting the spirit or demon on oath," or invoking a higher authority to bind the entity in order to control it and command it to act contrary to its own will.</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n the Christian sense this higher authority is Jesus Christ. This act is based on the belief that the Devil, his demons, and evil spirits are afraid of Christ. The belief itself is based on Scripture. Coming from the sea of Galilee Christ entered the land of the Gerasenes. He was immediately met by a man from the tombs cut into the mountains of the area. The man was said to be possessed of an unclean spirit. Nothing could bind this man, not even chains. He lived in the mountains, crying, and cutting himself with stones. But, so it is told, when seeing Christ approaching, the man went to him seeking help. The unclean demon immediately recognized Christ, and Christ recognized the demon. Christ, then, summoned the spirit to leave the man, and asked his name. "My name is Legion," answered the spirit, "for we are many." Once the demons left the man, Christ sent them into a nearby heard of swine who then jumped in to the sea and drown. (Mark 5:1-13) Unlike other exorcists, it is believed, that Christ did not exorcise because He did not need to call on a higher authority since He Himself was that higher authority.</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ow, not only did Christ exorcize demons, or unclean spirits, but he gave the powers to his disciples. "...he gave the power against unclean spirits, to cast them out, and to heal all manner of sickness, and all manner of diseas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CCA4B-3924-41BC-BC78-DFC0FECC6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A3809-2112-4211-976B-DA1C52E17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83733-961A-4720-85B3-5B8EF2504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830B0-9737-4FE9-B99E-BEBE26A3E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C5839-7B7F-4538-A8F7-E44B22D11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01D7E-8198-48A2-9BC7-3CCF378C8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D21A6-58D5-41EF-9C0F-5FC113280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2F882-4623-46FB-BC33-814086611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D5471-13CF-4409-9A2A-0BF56ED32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EA649-DC38-4B07-98E0-02943E88B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615F3-F169-43C8-9358-C86AFDB1F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B34F-8FBD-4E2C-8D6B-7F3683312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1B634-E693-405F-A653-4623A330F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55FC6-B05B-459B-AA69-8181F691B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9E093-F3B0-4F9C-B6E5-181F83526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3DDB0-CC24-41B6-9F11-B576DE83C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CF4CD-3967-4790-AB5C-C45EE21D8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607C8-67DC-454F-AA08-087CCDAD1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E80B0-7DD9-4058-9342-5309F92BC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B0D1F-75C9-4A56-BF32-21EAF36BC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9B2AB-EE0C-4FAA-A809-C107ED0AD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98A73-4749-46AC-BDA6-37A668F93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C2344-262E-4B0B-BB9F-AE1EC2A80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1CFCB-37FB-4947-A5EA-23921F7DB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615C-0594-4311-82CE-23839D94090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2BA1-7761-42F7-AE3F-5320BA030D5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ffff"/>
                </a:solidFill>
                <a:latin typeface="Times New Roman"/>
              </a:rPr>
              <a:t>  </a:t>
            </a:r>
            <a:r>
              <a:rPr b="1" lang="en-US" sz="6200" spc="-1" strike="noStrike" u="sng">
                <a:solidFill>
                  <a:srgbClr val="ffffff"/>
                </a:solidFill>
                <a:uFillTx/>
                <a:latin typeface="Bookman Old Style"/>
              </a:rPr>
              <a:t>DEMONIC WORSHIP</a:t>
            </a:r>
            <a:r>
              <a:rPr b="0" lang="en-US" sz="6200" spc="-1" strike="noStrike">
                <a:solidFill>
                  <a:srgbClr val="ffffff"/>
                </a:solidFill>
                <a:latin typeface="Times New Roman"/>
              </a:rPr>
              <a:t> </a:t>
            </a: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Y</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1" lang="en-US" sz="2600" spc="-1" strike="noStrike">
                <a:solidFill>
                  <a:srgbClr val="ffffff"/>
                </a:solidFill>
                <a:latin typeface="Arial"/>
              </a:rPr>
              <a:t>ANGELA SILVA</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INA MILIAN</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OHANNA URIBE</a:t>
            </a:r>
            <a:endParaRPr b="0" lang="en-US" sz="2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EXORCISM</a:t>
            </a:r>
            <a:endParaRPr b="0" lang="en-US" sz="5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solidFill>
            <a:srgbClr val="666633"/>
          </a:solidFill>
          <a:ln w="0">
            <a:noFill/>
          </a:ln>
        </p:spPr>
        <p:txBody>
          <a:bodyPr lIns="90000" rIns="90000" tIns="46800" bIns="46800" anchor="t">
            <a:normAutofit/>
          </a:bodyPr>
          <a:p>
            <a:pPr marL="343080" indent="-343080">
              <a:lnSpc>
                <a:spcPct val="90000"/>
              </a:lnSpc>
              <a:spcBef>
                <a:spcPts val="87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The rite of driving out the Devil from possessed persons</a:t>
            </a:r>
            <a:endParaRPr b="0" lang="en-US" sz="3500" spc="-1" strike="noStrike">
              <a:solidFill>
                <a:srgbClr val="ffffff"/>
              </a:solidFill>
              <a:latin typeface="Arial"/>
            </a:endParaRPr>
          </a:p>
          <a:p>
            <a:pPr marL="343080" indent="-343080">
              <a:lnSpc>
                <a:spcPct val="90000"/>
              </a:lnSpc>
              <a:spcBef>
                <a:spcPts val="87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Practiced by Roman Catholic </a:t>
            </a:r>
            <a:endParaRPr b="0" lang="en-US" sz="3500" spc="-1" strike="noStrike">
              <a:solidFill>
                <a:srgbClr val="ffffff"/>
              </a:solidFill>
              <a:latin typeface="Arial"/>
            </a:endParaRPr>
          </a:p>
          <a:p>
            <a:pPr marL="343080" indent="-343080">
              <a:lnSpc>
                <a:spcPct val="90000"/>
              </a:lnSpc>
              <a:spcBef>
                <a:spcPts val="87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Act based on the belief that the Devil, his demons, and evil spirits are afraid of Christ</a:t>
            </a:r>
            <a:endParaRPr b="0" lang="en-US" sz="3500" spc="-1" strike="noStrike">
              <a:solidFill>
                <a:srgbClr val="ffffff"/>
              </a:solidFill>
              <a:latin typeface="Arial"/>
            </a:endParaRPr>
          </a:p>
          <a:p>
            <a:pPr marL="343080" indent="-343080">
              <a:lnSpc>
                <a:spcPct val="90000"/>
              </a:lnSpc>
              <a:spcBef>
                <a:spcPts val="87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Christ did not exorcise</a:t>
            </a:r>
            <a:endParaRPr b="0" lang="en-US" sz="3500" spc="-1" strike="noStrike">
              <a:solidFill>
                <a:srgbClr val="ffffff"/>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   </a:t>
            </a:r>
            <a:r>
              <a:rPr b="0" lang="en-US" sz="6000" spc="-1" strike="noStrike">
                <a:solidFill>
                  <a:srgbClr val="ffffff"/>
                </a:solidFill>
                <a:latin typeface="Times New Roman"/>
              </a:rPr>
              <a:t>OUIJA BOARD</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TS REALLY ANCI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BODY KNOWS WHO INVENTE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T GOES BACK TO 540 B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TS ALSO CALLED EGYPTIAN LUCK BOARD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3" name=""/>
          <p:cNvSpPr/>
          <p:nvPr/>
        </p:nvSpPr>
        <p:spPr>
          <a:xfrm>
            <a:off x="3925800" y="46044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6600" spc="-1" strike="noStrike">
                <a:solidFill>
                  <a:srgbClr val="ffffff"/>
                </a:solidFill>
                <a:latin typeface="Times New Roman"/>
              </a:rPr>
              <a:t>BLACK MAGIC</a:t>
            </a:r>
            <a:r>
              <a:rPr b="0" lang="en-US" sz="6600" spc="-1" strike="noStrike">
                <a:solidFill>
                  <a:srgbClr val="ffffff"/>
                </a:solidFill>
                <a:latin typeface="Times New Roman"/>
              </a:rPr>
              <a:t>	</a:t>
            </a:r>
            <a:endParaRPr b="0" lang="en-US" sz="66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ccults evil spells and curs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t is the use of celestial powers for malicious and evi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uts a block on a persons wisdom and intellegents and all effort to solve problem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estroys the positive energies of the cosmos, spread negativit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14:32:07Z</dcterms:created>
  <dc:creator>6241lab44</dc:creator>
  <dc:description/>
  <dc:language>en-US</dc:language>
  <cp:lastModifiedBy>6241lab44</cp:lastModifiedBy>
  <dcterms:modified xsi:type="dcterms:W3CDTF">2007-03-20T13:24:59Z</dcterms:modified>
  <cp:revision>6</cp:revision>
  <dc:subject/>
  <dc:title>  DEMONIC WORSHIP </dc:title>
</cp:coreProperties>
</file>