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301-B051-4600-8647-2B6380DF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DE70-9C64-44CB-A8D5-99439B4B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ABDF-4A22-445C-B881-6732E451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041-0D12-40FE-B5CF-5867F79E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56FE-3B5E-4BBA-9D6F-52F707C7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D43D-571B-4EE2-8029-2AA83C35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411-98AF-4002-8215-DBAC2E43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CDE-4BBB-4179-8B4C-6272E5B4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F998-0B76-4A6A-8DB8-E8BB30C9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FA1-4EAA-43EC-BCA6-84D49205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C720-B9B9-4D60-B43D-C79B789F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FC48-1903-4819-8556-997B812C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E2F7-1AD5-48C8-9202-07434D830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ngelfire.com/comics/mily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embres.lycos.fr/jawelle/vin_diesel.htm" TargetMode="External"/><Relationship Id="rId2" Type="http://schemas.openxmlformats.org/officeDocument/2006/relationships/hyperlink" Target="http://membres.lycos.fr/jawelle/vin_diesel.htm" TargetMode="External"/><Relationship Id="rId3" Type="http://schemas.openxmlformats.org/officeDocument/2006/relationships/hyperlink" Target="http://membres.lycos.fr/jawelle/vin_diesel.htm" TargetMode="External"/><Relationship Id="rId4" Type="http://schemas.openxmlformats.org/officeDocument/2006/relationships/hyperlink" Target="http://membres.lycos.fr/jawelle/vin_diesel.htm" TargetMode="External"/><Relationship Id="rId5" Type="http://schemas.openxmlformats.org/officeDocument/2006/relationships/hyperlink" Target="http://membres.lycos.fr/jawelle/vin_diesel.htm" TargetMode="External"/><Relationship Id="rId6" Type="http://schemas.openxmlformats.org/officeDocument/2006/relationships/hyperlink" Target="http://membres.lycos.fr/jawelle/vin_diesel.htm" TargetMode="External"/><Relationship Id="rId7" Type="http://schemas.openxmlformats.org/officeDocument/2006/relationships/hyperlink" Target="http://membres.lycos.fr/jawelle/vin_diesel.htm" TargetMode="External"/><Relationship Id="rId8" Type="http://schemas.openxmlformats.org/officeDocument/2006/relationships/hyperlink" Target="http://membres.lycos.fr/jawelle/vin_diesel.htm" TargetMode="External"/><Relationship Id="rId9" Type="http://schemas.openxmlformats.org/officeDocument/2006/relationships/hyperlink" Target="http://membres.lycos.fr/jawelle/vin_diesel.htm" TargetMode="External"/><Relationship Id="rId10" Type="http://schemas.openxmlformats.org/officeDocument/2006/relationships/hyperlink" Target="http://www.angelfire.com/comics/mily" TargetMode="External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0000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n Die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Bonjour moi je vais parler du rêve de presque toute les femmes. Le beau  Vin Dies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Vin84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1447920" y="60199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/>
          </p:cNvPr>
          <p:cNvSpPr/>
          <p:nvPr/>
        </p:nvSpPr>
        <p:spPr>
          <a:xfrm>
            <a:off x="380880" y="60199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9799" y="3837"/>
                </a:moveTo>
                <a:lnTo>
                  <a:pt x="22375" y="6448"/>
                </a:lnTo>
                <a:lnTo>
                  <a:pt x="22375" y="4707"/>
                </a:lnTo>
                <a:lnTo>
                  <a:pt x="24150" y="4707"/>
                </a:lnTo>
                <a:lnTo>
                  <a:pt x="24150" y="8224"/>
                </a:lnTo>
                <a:lnTo>
                  <a:pt x="26762" y="10800"/>
                </a:lnTo>
                <a:lnTo>
                  <a:pt x="25108" y="10800"/>
                </a:lnTo>
                <a:lnTo>
                  <a:pt x="25108" y="17989"/>
                </a:lnTo>
                <a:lnTo>
                  <a:pt x="14489" y="17989"/>
                </a:lnTo>
                <a:lnTo>
                  <a:pt x="14489" y="10800"/>
                </a:lnTo>
                <a:lnTo>
                  <a:pt x="12836" y="10800"/>
                </a:lnTo>
                <a:close/>
              </a:path>
              <a:path fill="darkenLess" w="39597" h="21600">
                <a:moveTo>
                  <a:pt x="22375" y="6448"/>
                </a:moveTo>
                <a:lnTo>
                  <a:pt x="22375" y="4707"/>
                </a:lnTo>
                <a:lnTo>
                  <a:pt x="24150" y="4707"/>
                </a:lnTo>
                <a:lnTo>
                  <a:pt x="24150" y="8224"/>
                </a:lnTo>
                <a:close/>
              </a:path>
              <a:path fill="darkenLess" w="39597" h="21600">
                <a:moveTo>
                  <a:pt x="18876" y="14299"/>
                </a:moveTo>
                <a:lnTo>
                  <a:pt x="20721" y="14299"/>
                </a:lnTo>
                <a:lnTo>
                  <a:pt x="20721" y="17989"/>
                </a:lnTo>
                <a:lnTo>
                  <a:pt x="25108" y="17989"/>
                </a:lnTo>
                <a:lnTo>
                  <a:pt x="25108" y="10800"/>
                </a:lnTo>
                <a:lnTo>
                  <a:pt x="14489" y="10800"/>
                </a:lnTo>
                <a:lnTo>
                  <a:pt x="14489" y="17989"/>
                </a:lnTo>
                <a:lnTo>
                  <a:pt x="18876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graph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4792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Times New Roman"/>
              </a:rPr>
              <a:t>Nom: Mark vinc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Times New Roman"/>
              </a:rPr>
              <a:t>Date de naissance: 18 Juillet 19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Times New Roman"/>
              </a:rPr>
              <a:t>Née à: New y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Times New Roman"/>
              </a:rPr>
              <a:t>Insolite: il a un frère jumeau, Paul Vincent qui est Monteur</a:t>
            </a:r>
            <a:br>
              <a:rPr sz="3200"/>
            </a:br>
            <a:r>
              <a:rPr b="0" lang="fr-CA" sz="3200" spc="-1" strike="noStrike">
                <a:solidFill>
                  <a:srgbClr val="0000ff"/>
                </a:solidFill>
                <a:latin typeface="Times New Roman"/>
              </a:rPr>
              <a:t>État civil: Hé oui! Célibataire</a:t>
            </a:r>
            <a:br>
              <a:rPr sz="3200"/>
            </a:br>
            <a:r>
              <a:rPr b="0" lang="fr-CA" sz="3200" spc="-1" strike="noStrike">
                <a:solidFill>
                  <a:srgbClr val="0000ff"/>
                </a:solidFill>
                <a:latin typeface="Times New Roman"/>
              </a:rPr>
              <a:t>Famille: sa mère est astrologue, son beau père comédien et prof d`art dramatique et il a un frère et deux soe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143000" y="60199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228600" y="60199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0000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mograph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1219320"/>
            <a:ext cx="4114800" cy="36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ff"/>
                </a:solidFill>
                <a:latin typeface="Times New Roman"/>
              </a:rPr>
              <a:t>Les films dans lequel il a jou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XxX ( Triple x)</a:t>
            </a:r>
            <a:br>
              <a:rPr sz="1800"/>
            </a:b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Fast and furious</a:t>
            </a:r>
            <a:br>
              <a:rPr sz="1800"/>
            </a:b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Pitch black</a:t>
            </a:r>
            <a:br>
              <a:rPr sz="1800"/>
            </a:b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Les hommes de mains</a:t>
            </a:r>
            <a:br>
              <a:rPr sz="1800"/>
            </a:b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Les initiés</a:t>
            </a:r>
            <a:br>
              <a:rPr sz="1800"/>
            </a:b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Il faut sauver le soldat Ryan</a:t>
            </a:r>
            <a:br>
              <a:rPr sz="1800"/>
            </a:b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Le géant de fer (voix)</a:t>
            </a:r>
            <a:br>
              <a:rPr sz="1800"/>
            </a:b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strays (us seulement)</a:t>
            </a:r>
            <a:br>
              <a:rPr sz="1800"/>
            </a:b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Multi-Facial (us seulement- court métrage</a:t>
            </a:r>
            <a:br>
              <a:rPr sz="1800"/>
            </a:b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Un homme à pa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4876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ff"/>
                </a:solidFill>
                <a:latin typeface="Times New Roman"/>
              </a:rPr>
              <a:t>Les films qu ’il a réaliser</a:t>
            </a:r>
            <a:br>
              <a:rPr sz="1800"/>
            </a:b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Strays (us seulement)</a:t>
            </a:r>
            <a:br>
              <a:rPr sz="1800"/>
            </a:b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Multi-Facial (us seulement- court mét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Hoo%201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382920" cy="502920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563868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662940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mographie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sui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2960" y="1905120"/>
            <a:ext cx="2727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ff"/>
                </a:solidFill>
                <a:latin typeface="Times New Roman"/>
              </a:rPr>
              <a:t>les films qu'il a produits</a:t>
            </a:r>
            <a:br>
              <a:rPr sz="1800"/>
            </a:b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Multi-Facial (us seulement)</a:t>
            </a:r>
            <a:br>
              <a:rPr sz="1800"/>
            </a:br>
            <a:br>
              <a:rPr sz="1800"/>
            </a:b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3320" y="2819520"/>
            <a:ext cx="266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ff"/>
                </a:solidFill>
                <a:latin typeface="Times New Roman"/>
              </a:rPr>
              <a:t>les film qu'il a écrits</a:t>
            </a:r>
            <a:br>
              <a:rPr sz="1800"/>
            </a:b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Multi-Facial(us seulement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2240" y="3657600"/>
            <a:ext cx="3039840" cy="26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ff"/>
                </a:solidFill>
                <a:latin typeface="Times New Roman"/>
              </a:rPr>
              <a:t>Films pas encore sortis en salle</a:t>
            </a:r>
            <a:br>
              <a:rPr sz="1800"/>
            </a:b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XxX2 (2005)</a:t>
            </a:r>
            <a:br>
              <a:rPr sz="1800"/>
            </a:b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Riddick(2004)</a:t>
            </a:r>
            <a:br>
              <a:rPr sz="1800"/>
            </a:b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Hannibal</a:t>
            </a:r>
            <a:br>
              <a:rPr sz="1800"/>
            </a:b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NY giant</a:t>
            </a:r>
            <a:br>
              <a:rPr sz="1800"/>
            </a:b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Guys and dolls</a:t>
            </a:r>
            <a:br>
              <a:rPr sz="1800"/>
            </a:b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The booster</a:t>
            </a:r>
            <a:br>
              <a:rPr sz="1800"/>
            </a:b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Multi-facial (long métr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vd03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327480" cy="42944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129528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22860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 (changeme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182880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762120" y="59436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560" y="4343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n en 19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vin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1981440" cy="2971800"/>
          </a:xfrm>
          <a:prstGeom prst="rect">
            <a:avLst/>
          </a:prstGeom>
          <a:ln w="0">
            <a:noFill/>
          </a:ln>
        </p:spPr>
      </p:pic>
      <p:pic>
        <p:nvPicPr>
          <p:cNvPr id="70" name="mon" descr=""/>
          <p:cNvPicPr/>
          <p:nvPr/>
        </p:nvPicPr>
        <p:blipFill>
          <a:blip r:embed="rId2"/>
          <a:stretch/>
        </p:blipFill>
        <p:spPr>
          <a:xfrm>
            <a:off x="6781680" y="1600200"/>
            <a:ext cx="2171880" cy="3048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010280" y="48006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mxz" descr=""/>
          <p:cNvPicPr/>
          <p:nvPr/>
        </p:nvPicPr>
        <p:blipFill>
          <a:blip r:embed="rId3"/>
          <a:stretch/>
        </p:blipFill>
        <p:spPr>
          <a:xfrm>
            <a:off x="2286000" y="1828800"/>
            <a:ext cx="2070000" cy="2971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362320" y="4952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n en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Fast" descr=""/>
          <p:cNvPicPr/>
          <p:nvPr/>
        </p:nvPicPr>
        <p:blipFill>
          <a:blip r:embed="rId4"/>
          <a:stretch/>
        </p:blipFill>
        <p:spPr>
          <a:xfrm>
            <a:off x="4572000" y="1752480"/>
            <a:ext cx="2046240" cy="320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0" y="5105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rs du film rapide et dangere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0000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lque site sur lui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18288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fr-CA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://membres.</a:t>
            </a:r>
            <a:r>
              <a:rPr b="0" lang="fr-CA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lycos</a:t>
            </a:r>
            <a:r>
              <a:rPr b="0" lang="fr-CA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fr-CA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fr</a:t>
            </a:r>
            <a:r>
              <a:rPr b="0" lang="fr-CA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fr-CA" sz="1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jawelle</a:t>
            </a:r>
            <a:r>
              <a:rPr b="0" lang="fr-CA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/vin_diesel.</a:t>
            </a:r>
            <a:r>
              <a:rPr b="0" lang="fr-CA" sz="1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9920" y="182880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ici un site avec des arrières pla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2819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ccccff"/>
                </a:solidFill>
                <a:latin typeface="Times New Roman"/>
              </a:rPr>
              <a:t>http://www.starpulse.com/Actors/Diesel,_Vi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2514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 autre site avec des photos et sa biograph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>
            <a:off x="609480" y="594360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10800"/>
                </a:moveTo>
                <a:lnTo>
                  <a:pt x="24293" y="3794"/>
                </a:lnTo>
                <a:lnTo>
                  <a:pt x="2429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11920" y="403848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ccccff"/>
                </a:solidFill>
                <a:latin typeface="Times New Roman"/>
              </a:rPr>
              <a:t>http://lovevindiesel.tripod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4680" y="403848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 site avec plein de pho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0"/>
          </p:cNvPr>
          <p:cNvSpPr/>
          <p:nvPr/>
        </p:nvSpPr>
        <p:spPr>
          <a:xfrm>
            <a:off x="152388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9438" y="3837"/>
                </a:moveTo>
                <a:lnTo>
                  <a:pt x="22014" y="6448"/>
                </a:lnTo>
                <a:lnTo>
                  <a:pt x="22014" y="4707"/>
                </a:lnTo>
                <a:lnTo>
                  <a:pt x="23790" y="4707"/>
                </a:lnTo>
                <a:lnTo>
                  <a:pt x="23790" y="8224"/>
                </a:lnTo>
                <a:lnTo>
                  <a:pt x="26401" y="10800"/>
                </a:lnTo>
                <a:lnTo>
                  <a:pt x="24747" y="10800"/>
                </a:lnTo>
                <a:lnTo>
                  <a:pt x="24747" y="17989"/>
                </a:lnTo>
                <a:lnTo>
                  <a:pt x="14129" y="17989"/>
                </a:lnTo>
                <a:lnTo>
                  <a:pt x="14129" y="10800"/>
                </a:lnTo>
                <a:lnTo>
                  <a:pt x="12475" y="10800"/>
                </a:lnTo>
                <a:close/>
              </a:path>
              <a:path fill="darkenLess" w="38876" h="21600">
                <a:moveTo>
                  <a:pt x="22014" y="6448"/>
                </a:moveTo>
                <a:lnTo>
                  <a:pt x="22014" y="4707"/>
                </a:lnTo>
                <a:lnTo>
                  <a:pt x="23790" y="4707"/>
                </a:lnTo>
                <a:lnTo>
                  <a:pt x="23790" y="8224"/>
                </a:lnTo>
                <a:close/>
              </a:path>
              <a:path fill="darkenLess" w="38876" h="21600">
                <a:moveTo>
                  <a:pt x="18515" y="14299"/>
                </a:moveTo>
                <a:lnTo>
                  <a:pt x="20361" y="14299"/>
                </a:lnTo>
                <a:lnTo>
                  <a:pt x="20361" y="17989"/>
                </a:lnTo>
                <a:lnTo>
                  <a:pt x="24747" y="17989"/>
                </a:lnTo>
                <a:lnTo>
                  <a:pt x="24747" y="10800"/>
                </a:lnTo>
                <a:lnTo>
                  <a:pt x="14129" y="10800"/>
                </a:lnTo>
                <a:lnTo>
                  <a:pt x="14129" y="17989"/>
                </a:lnTo>
                <a:lnTo>
                  <a:pt x="18515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15:03:13Z</dcterms:created>
  <dc:creator>drac</dc:creator>
  <dc:description/>
  <dc:language>en-US</dc:language>
  <cp:lastModifiedBy>drac</cp:lastModifiedBy>
  <dcterms:modified xsi:type="dcterms:W3CDTF">2004-03-09T14:32:17Z</dcterms:modified>
  <cp:revision>6</cp:revision>
  <dc:subject/>
  <dc:title>Vin Diesel</dc:title>
</cp:coreProperties>
</file>