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5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622-6A9D-4F57-8F2E-7EDF02C2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706-0737-4646-B699-EBC6A853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3E0-DE2B-4D5F-99BB-A6F4A619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69B-7F05-4DCA-B362-A0962C26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895-42B0-419D-9BBB-8D14C1D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05D-88F1-46C2-B6D0-3ACC2CC5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87A4-7A98-4DF2-9F4C-52605E31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3243-8F44-49DA-8EE2-696DF2A8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829-EE38-430A-8E73-9EC00817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53F5-FBD0-44EE-947D-20220087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6FEF-00CC-43F7-B4CD-B1F639A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D76-2577-4714-AF34-C4FF2CF5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B624-5CFB-4EC9-B5BF-5DD203A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CBBE-630C-449E-BA45-6F7C976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189F-111E-4CB5-A11D-46D35C01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EE1A-9FD8-454B-8B5A-3AEEB94C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7845-784C-4039-807F-31DF11AC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FC1-BA5E-46EF-B900-3D97D36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EA6-1750-4248-8E03-807E005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D35-395E-4181-A4B0-CC596303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C6F-431B-40AD-B09D-1B66791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3E7-91A0-4E1F-8D2C-BA13FBD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0CE-2230-40F0-9DD7-9824A4D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2A7-BB45-4E97-9454-674392A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2D1D-BA2E-49B9-BBDA-2D4379F6E9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64B-86E7-4F50-AECC-E31EA974D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ipart.com/en/close-up?o=1371037&amp;memlevel=A&amp;a=c&amp;q=www&amp;s=1&amp;e=30&amp;show=all&amp;c=&amp;cid=&amp;findincat=&amp;g=&amp;cc=&amp;page=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clipart.com/en/close-up?o=1372086&amp;memlevel=A&amp;a=c&amp;q=www&amp;s=1&amp;e=30&amp;show=all&amp;c=&amp;cid=&amp;findincat=&amp;g=&amp;cc=&amp;page=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www.clipart.com/en/close-up?o=1261062&amp;memlevel=C&amp;a=c&amp;q=www&amp;s=1&amp;e=30&amp;show=all&amp;c=&amp;cid=&amp;findincat=&amp;g=&amp;cc=&amp;page=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www.mtv.com/" TargetMode="External"/><Relationship Id="rId4" Type="http://schemas.openxmlformats.org/officeDocument/2006/relationships/hyperlink" Target="http://www.mtv.com/" TargetMode="External"/><Relationship Id="rId5" Type="http://schemas.openxmlformats.org/officeDocument/2006/relationships/hyperlink" Target="http://www.mtv.com/" TargetMode="External"/><Relationship Id="rId6" Type="http://schemas.openxmlformats.org/officeDocument/2006/relationships/hyperlink" Target="http://www.mtv.com/" TargetMode="External"/><Relationship Id="rId7" Type="http://schemas.openxmlformats.org/officeDocument/2006/relationships/hyperlink" Target="http://www.ucla.edu/" TargetMode="External"/><Relationship Id="rId8" Type="http://schemas.openxmlformats.org/officeDocument/2006/relationships/hyperlink" Target="http://www.ist.edu/" TargetMode="External"/><Relationship Id="rId9" Type="http://schemas.openxmlformats.org/officeDocument/2006/relationships/hyperlink" Target="http://www.ist.edu/" TargetMode="External"/><Relationship Id="rId10" Type="http://schemas.openxmlformats.org/officeDocument/2006/relationships/hyperlink" Target="http://www.ist.edu/" TargetMode="External"/><Relationship Id="rId11" Type="http://schemas.openxmlformats.org/officeDocument/2006/relationships/hyperlink" Target="http://www.ist.edu/" TargetMode="External"/><Relationship Id="rId12" Type="http://schemas.openxmlformats.org/officeDocument/2006/relationships/hyperlink" Target="http://www.ist.edu/" TargetMode="External"/><Relationship Id="rId13" Type="http://schemas.openxmlformats.org/officeDocument/2006/relationships/hyperlink" Target="http://www.nasa.gov/" TargetMode="External"/><Relationship Id="rId14" Type="http://schemas.openxmlformats.org/officeDocument/2006/relationships/hyperlink" Target="http://www.cia.gov/" TargetMode="External"/><Relationship Id="rId15" Type="http://schemas.openxmlformats.org/officeDocument/2006/relationships/hyperlink" Target="http://www.nato.int/" TargetMode="External"/><Relationship Id="rId16" Type="http://schemas.openxmlformats.org/officeDocument/2006/relationships/hyperlink" Target="http://www.un.int/" TargetMode="External"/><Relationship Id="rId17" Type="http://schemas.openxmlformats.org/officeDocument/2006/relationships/hyperlink" Target="http://www.un.int/" TargetMode="External"/><Relationship Id="rId18" Type="http://schemas.openxmlformats.org/officeDocument/2006/relationships/hyperlink" Target="http://www.un.int/" TargetMode="External"/><Relationship Id="rId19" Type="http://schemas.openxmlformats.org/officeDocument/2006/relationships/hyperlink" Target="http://www.un.int/" TargetMode="External"/><Relationship Id="rId20" Type="http://schemas.openxmlformats.org/officeDocument/2006/relationships/hyperlink" Target="http://www.un.int/" TargetMode="External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.mil/" TargetMode="External"/><Relationship Id="rId3" Type="http://schemas.openxmlformats.org/officeDocument/2006/relationships/hyperlink" Target="http://www.dod.mil/" TargetMode="External"/><Relationship Id="rId4" Type="http://schemas.openxmlformats.org/officeDocument/2006/relationships/hyperlink" Target="http://www.dod.mil/" TargetMode="External"/><Relationship Id="rId5" Type="http://schemas.openxmlformats.org/officeDocument/2006/relationships/hyperlink" Target="http://www.dod.mil/" TargetMode="External"/><Relationship Id="rId6" Type="http://schemas.openxmlformats.org/officeDocument/2006/relationships/hyperlink" Target="http://www.dod.mil/" TargetMode="External"/><Relationship Id="rId7" Type="http://schemas.openxmlformats.org/officeDocument/2006/relationships/hyperlink" Target="http://www.comserver.net/" TargetMode="External"/><Relationship Id="rId8" Type="http://schemas.openxmlformats.org/officeDocument/2006/relationships/hyperlink" Target="http://www.vi.net/" TargetMode="External"/><Relationship Id="rId9" Type="http://schemas.openxmlformats.org/officeDocument/2006/relationships/hyperlink" Target="http://www.vi.net/" TargetMode="External"/><Relationship Id="rId10" Type="http://schemas.openxmlformats.org/officeDocument/2006/relationships/hyperlink" Target="http://www.vi.net/" TargetMode="External"/><Relationship Id="rId11" Type="http://schemas.openxmlformats.org/officeDocument/2006/relationships/hyperlink" Target="http://www.ufo.org/" TargetMode="External"/><Relationship Id="rId12" Type="http://schemas.openxmlformats.org/officeDocument/2006/relationships/hyperlink" Target="http://www.aids.org/" TargetMode="External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mpal.pt/" TargetMode="External"/><Relationship Id="rId3" Type="http://schemas.openxmlformats.org/officeDocument/2006/relationships/hyperlink" Target="http://www.colombo.pt/" TargetMode="External"/><Relationship Id="rId4" Type="http://schemas.openxmlformats.org/officeDocument/2006/relationships/hyperlink" Target="http://www.colombo.pt/" TargetMode="External"/><Relationship Id="rId5" Type="http://schemas.openxmlformats.org/officeDocument/2006/relationships/hyperlink" Target="http://www.colombo.pt/" TargetMode="External"/><Relationship Id="rId6" Type="http://schemas.openxmlformats.org/officeDocument/2006/relationships/hyperlink" Target="http://www.colombo.pt/" TargetMode="External"/><Relationship Id="rId7" Type="http://schemas.openxmlformats.org/officeDocument/2006/relationships/hyperlink" Target="http://www.colombo.pt/" TargetMode="External"/><Relationship Id="rId8" Type="http://schemas.openxmlformats.org/officeDocument/2006/relationships/hyperlink" Target="http://www.elcorteingles.es/" TargetMode="External"/><Relationship Id="rId9" Type="http://schemas.openxmlformats.org/officeDocument/2006/relationships/hyperlink" Target="http://www.rtve.es/" TargetMode="External"/><Relationship Id="rId10" Type="http://schemas.openxmlformats.org/officeDocument/2006/relationships/hyperlink" Target="http://www.rtve.es/" TargetMode="External"/><Relationship Id="rId11" Type="http://schemas.openxmlformats.org/officeDocument/2006/relationships/hyperlink" Target="http://www.rtve.es/" TargetMode="External"/><Relationship Id="rId12" Type="http://schemas.openxmlformats.org/officeDocument/2006/relationships/hyperlink" Target="http://www.rtve.es/" TargetMode="External"/><Relationship Id="rId13" Type="http://schemas.openxmlformats.org/officeDocument/2006/relationships/hyperlink" Target="http://www.fnac.fr/" TargetMode="External"/><Relationship Id="rId14" Type="http://schemas.openxmlformats.org/officeDocument/2006/relationships/hyperlink" Target="http://www.bic.fr/" TargetMode="External"/><Relationship Id="rId15" Type="http://schemas.openxmlformats.org/officeDocument/2006/relationships/hyperlink" Target="http://www.achei.com.br/" TargetMode="External"/><Relationship Id="rId16" Type="http://schemas.openxmlformats.org/officeDocument/2006/relationships/hyperlink" Target="http://www.caetanoveloso.com.br/" TargetMode="External"/><Relationship Id="rId17" Type="http://schemas.openxmlformats.org/officeDocument/2006/relationships/hyperlink" Target="http://www.caetanoveloso.com.br/" TargetMode="External"/><Relationship Id="rId18" Type="http://schemas.openxmlformats.org/officeDocument/2006/relationships/hyperlink" Target="http://www.caetanoveloso.com.br/" TargetMode="External"/><Relationship Id="rId19" Type="http://schemas.openxmlformats.org/officeDocument/2006/relationships/hyperlink" Target="http://www.caetanoveloso.com.br/" TargetMode="External"/><Relationship Id="rId20" Type="http://schemas.openxmlformats.org/officeDocument/2006/relationships/hyperlink" Target="http://www.iso.org/" TargetMode="External"/><Relationship Id="rId21" Type="http://schemas.openxmlformats.org/officeDocument/2006/relationships/image" Target="../media/image18.pn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apo.pt/" TargetMode="External"/><Relationship Id="rId3" Type="http://schemas.openxmlformats.org/officeDocument/2006/relationships/hyperlink" Target="http://www.aeiou.pt/" TargetMode="External"/><Relationship Id="rId4" Type="http://schemas.openxmlformats.org/officeDocument/2006/relationships/hyperlink" Target="http://www.iol.pt/" TargetMode="External"/><Relationship Id="rId5" Type="http://schemas.openxmlformats.org/officeDocument/2006/relationships/hyperlink" Target="http://www.yahoo.com/" TargetMode="External"/><Relationship Id="rId6" Type="http://schemas.openxmlformats.org/officeDocument/2006/relationships/hyperlink" Target="http://www.altavista.com/" TargetMode="External"/><Relationship Id="rId7" Type="http://schemas.openxmlformats.org/officeDocument/2006/relationships/hyperlink" Target="http://www.webcrawler.com/" TargetMode="External"/><Relationship Id="rId8" Type="http://schemas.openxmlformats.org/officeDocument/2006/relationships/hyperlink" Target="http://www.webcrawler.com/" TargetMode="External"/><Relationship Id="rId9" Type="http://schemas.openxmlformats.org/officeDocument/2006/relationships/hyperlink" Target="http://www.webcrawler.com/" TargetMode="External"/><Relationship Id="rId10" Type="http://schemas.openxmlformats.org/officeDocument/2006/relationships/hyperlink" Target="http://www.webcrawler.com/" TargetMode="External"/><Relationship Id="rId11" Type="http://schemas.openxmlformats.org/officeDocument/2006/relationships/hyperlink" Target="http://www.sapo.pt/" TargetMode="External"/><Relationship Id="rId12" Type="http://schemas.openxmlformats.org/officeDocument/2006/relationships/image" Target="../media/image19.png"/><Relationship Id="rId13" Type="http://schemas.openxmlformats.org/officeDocument/2006/relationships/hyperlink" Target="http://www.aeiou.pt/" TargetMode="External"/><Relationship Id="rId14" Type="http://schemas.openxmlformats.org/officeDocument/2006/relationships/image" Target="../media/image20.png"/><Relationship Id="rId15" Type="http://schemas.openxmlformats.org/officeDocument/2006/relationships/image" Target="../media/image21.jpeg"/><Relationship Id="rId16" Type="http://schemas.openxmlformats.org/officeDocument/2006/relationships/image" Target="../media/image22.png"/><Relationship Id="rId17" Type="http://schemas.openxmlformats.org/officeDocument/2006/relationships/hyperlink" Target="http://www.webcrawler.com/_1_54JTVG026YTI81__info.wbcrwl/" TargetMode="External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brandao@mail.telepac.pt" TargetMode="External"/><Relationship Id="rId3" Type="http://schemas.openxmlformats.org/officeDocument/2006/relationships/hyperlink" Target="mailto:brandao@mail.telepac.pt" TargetMode="External"/><Relationship Id="rId4" Type="http://schemas.openxmlformats.org/officeDocument/2006/relationships/hyperlink" Target="mailto:brandao@mail.telepac.pt" TargetMode="External"/><Relationship Id="rId5" Type="http://schemas.openxmlformats.org/officeDocument/2006/relationships/hyperlink" Target="mailto:brandao@mail.telepac.pt" TargetMode="External"/><Relationship Id="rId6" Type="http://schemas.openxmlformats.org/officeDocument/2006/relationships/hyperlink" Target="mailto:brandao@mail.telepac.pt" TargetMode="External"/><Relationship Id="rId7" Type="http://schemas.openxmlformats.org/officeDocument/2006/relationships/hyperlink" Target="mailto:brandao@mail.telepac.pt" TargetMode="External"/><Relationship Id="rId8" Type="http://schemas.openxmlformats.org/officeDocument/2006/relationships/hyperlink" Target="mailto:brandao@mail.telepac.pt" TargetMode="External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ollist.com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star-shareware.com/WebDev/FTP-Archie/cuteftp-screenshot.html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ipart.com/en/close-up?o=750611&amp;memlevel=C&amp;a=c&amp;q=money&amp;s=1&amp;e=30&amp;show=all&amp;c=&amp;cid=&amp;findincat=&amp;g=&amp;cc=&amp;page=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lipart.com/en/close-up?o=808885&amp;memlevel=A&amp;a=c&amp;q=users&amp;s=1&amp;e=15&amp;show=all&amp;c=&amp;cid=&amp;findincat=&amp;g=&amp;cc=&amp;page=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clipart.com/en/close-up?o=807451&amp;memlevel=A&amp;a=c&amp;q=users&amp;s=1&amp;e=15&amp;show=all&amp;c=&amp;cid=&amp;findincat=&amp;g=&amp;cc=&amp;page=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clipart.com/en/close-up?o=805640&amp;memlevel=A&amp;a=c&amp;q=newspaper&amp;s=1&amp;e=30&amp;show=all&amp;c=&amp;cid=&amp;findincat=&amp;g=&amp;cc=&amp;page=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pswitch.com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ipart.com/en/close-up?o=1258965&amp;memlevel=C&amp;a=c&amp;q=usa%20flag&amp;s=1&amp;e=30&amp;show=all&amp;c=&amp;cid=&amp;findincat=&amp;g=&amp;cc=&amp;page=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clipart.com/en/close-up?o=72309&amp;memlevel=C&amp;a=c&amp;q=ussr%20flag&amp;s=1&amp;e=30&amp;show=all&amp;c=&amp;cid=&amp;findincat=&amp;g=&amp;cc=&amp;page=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nd.or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INTRODUÇÃO À INTERNET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PROGRAMA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92360" y="2060280"/>
            <a:ext cx="5689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REDE (ASPECTOS GERA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HISTÓRIA D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RVIÇOS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PROTOCOLOS DE COMUNIC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INGUAGENS DE PROGRAMA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EGURANÇA E PRIVAC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TIQUETA EM RE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WORLD WIDE WEB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5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 World Wide Web (WWW) é a principal responsável pelo crescimento da Interne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Interactivida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Utilização do ra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specto gráfico atrac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Multimé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Imag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Tex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S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nim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O Mundo na ponta dos dedo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443700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42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1628640"/>
            <a:ext cx="19382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WORLD WIDE WEB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BROWSER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Internet Explor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Netscape Navig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Op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osa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35280" y="3068640"/>
            <a:ext cx="3240360" cy="86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Microsoft(R) Internet Explorer"/>
          <p:cNvPicPr/>
          <p:nvPr/>
        </p:nvPicPr>
        <p:blipFill>
          <a:blip r:embed="rId3"/>
          <a:stretch/>
        </p:blipFill>
        <p:spPr>
          <a:xfrm>
            <a:off x="3348000" y="1916280"/>
            <a:ext cx="3672000" cy="880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Opera Software"/>
          <p:cNvPicPr/>
          <p:nvPr/>
        </p:nvPicPr>
        <p:blipFill>
          <a:blip r:embed="rId4"/>
          <a:stretch/>
        </p:blipFill>
        <p:spPr>
          <a:xfrm>
            <a:off x="2268360" y="4292640"/>
            <a:ext cx="2303640" cy="880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195640" y="5516640"/>
            <a:ext cx="1809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DOMÍNIOS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UFIXOS TRÊS LETRA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OM (Empresas Comercia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microsoft.com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mtv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DU (Instituições Educaciona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www.ucla.edu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www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ist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.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GOV (Instituições Governamenta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www.nasa.gov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www.cia.g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INT (Instituições Internaciona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www.nato.int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www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.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un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.</a:t>
            </a:r>
            <a:r>
              <a:rPr b="0" lang="pt-PT" sz="20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DOMÍNIOS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UFIXOS DE TRÊS LETRA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IL (Instituições Milita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af.mil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dod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m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ET (Companhias ou organizações que administram grandes red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www.comserver.net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www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vi.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ORG (Organizações não governamentais e sem fins lucrativ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www.ufo.org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www.aid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DOMÍNIOS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UFIXOS COM DUAS LETRA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PT (Portuga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compal.pt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colombo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p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ES (Espanh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www.elcorteingles.es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www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.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rtve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.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FR (Franç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www.fnac.fr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www.bic.f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BR (Brasi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www.achei.com.br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www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.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caetanoveloso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.com.b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NORMAS ISO 3166 EM 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WWW.ISO.ORG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(INTERNATIONAL ORGANIZATION FOR STANDARDIZATIO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Welcome to ISO"/>
          <p:cNvPicPr/>
          <p:nvPr/>
        </p:nvPicPr>
        <p:blipFill>
          <a:blip r:embed="rId21"/>
          <a:stretch/>
        </p:blipFill>
        <p:spPr>
          <a:xfrm>
            <a:off x="5651640" y="2852640"/>
            <a:ext cx="31320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WORLD WIDE WEB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MOTORES DE PESQUISA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acion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sapo.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aeiou.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iol.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Internacion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www.yaho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www.altavista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www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.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webcrawler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88000" y="2276640"/>
            <a:ext cx="2163960" cy="90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[aeiou]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92360" y="2060640"/>
            <a:ext cx="2781360" cy="600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4284720" y="2997360"/>
            <a:ext cx="1542960" cy="761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Yahoo!"/>
          <p:cNvPicPr/>
          <p:nvPr/>
        </p:nvPicPr>
        <p:blipFill>
          <a:blip r:embed="rId16"/>
          <a:srcRect l="31667" t="0" r="33582" b="-10000"/>
          <a:stretch/>
        </p:blipFill>
        <p:spPr>
          <a:xfrm>
            <a:off x="6264360" y="3573360"/>
            <a:ext cx="2879640" cy="59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WebCrawler.com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500720" y="4437000"/>
            <a:ext cx="3384360" cy="74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ltaVista"/>
          <p:cNvPicPr/>
          <p:nvPr/>
        </p:nvPicPr>
        <p:blipFill>
          <a:blip r:embed="rId19"/>
          <a:stretch/>
        </p:blipFill>
        <p:spPr>
          <a:xfrm>
            <a:off x="6012000" y="5373720"/>
            <a:ext cx="2520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WORLD WIDE WEB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XERCÍCIO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ceder à página www.winmx.com e descarregar o programa de instalação. Depois, efectuar o download de uma música que seja do seu gosto (ficheiro em formato mp3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Copiar um poema de Fernando Pessoa para o Win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Guardar uma fotografia do seu cantor/actor preferido na pasta “As minhas imagen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aber a temperatura para a cidade de Setúb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Qual a idade do ex-presidente dos EUA, Bill Clint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Qual o primeiro comboio com destino ao Port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CORREIO ELECTRÓN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E-mail (Electronic Mai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Essência da rede (+popular, +utilizad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Correspondência rápida, barata e fá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Associado ao conceito de endereç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1a Secção (Nome de Utilizad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2a Secção (Domín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Separador arroba @ (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CORREIO ELECTRÓNICO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NDEREÇO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brandao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@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mail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.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telepac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.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brandao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Nome de utiliz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mail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Nome da máqu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telepac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Nome da organização que fornece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o serviç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pt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Sufixo (do paí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CORREIO ELECTRÓNICO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OFTWARE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 u="sng">
                <a:solidFill>
                  <a:srgbClr val="008000"/>
                </a:solidFill>
                <a:uFillTx/>
                <a:latin typeface="Tahoma"/>
              </a:rPr>
              <a:t>Outloo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4002120" cy="2952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43280" y="1989000"/>
            <a:ext cx="40388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 u="sng">
                <a:solidFill>
                  <a:srgbClr val="ff0000"/>
                </a:solidFill>
                <a:uFillTx/>
                <a:latin typeface="Tahoma"/>
              </a:rPr>
              <a:t>Eudo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716360" y="2852640"/>
            <a:ext cx="3635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A RE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Conjunto de canais de comunicação que se interligam em redor do mundo (te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iversos caminhos para chegar ao mesmo destinat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1989000"/>
            <a:ext cx="403848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80000" y="3068640"/>
            <a:ext cx="1079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00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00720" y="4220640"/>
            <a:ext cx="432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948000" y="422100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77080" y="393372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019640" y="3068640"/>
            <a:ext cx="360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3213000"/>
            <a:ext cx="216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CORREIO ELECTRÓNICO (COMPOSIÇÃO DE MENSAGEN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Cabeçal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ndereço do Remet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ndereço do Destinatá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C (Carbon Cop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BCC (Blind Carbon Cop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Assu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Data e H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Corpo da Mensag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CORREIO ELECTRÓNICO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RROS COMUN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User Unkn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onta de utilizador não exist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rro de escr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utilizador mudou o seu userna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utilizador já não possui acesso ao servi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Host Unkn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omputador de destino não encont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rro de escr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computador não se encontra ligado à re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 computador foi retirado da re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CORREIO ELECTRÓNICO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POSTMASTER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Todos os computadores de rede, que podem enviar e receber mensagens, possuem um endereço denominado Post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O Postmaster é, geralmente, um dos administradores do sist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É sua função gerir o correio electrónico da empresa ou institui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O formato do endereço electrónico do Postmaster é postmaster@dominio (Ex: postmaster@mail.telepac.p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CORREIO ELECTRÓNICO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XERCÍCI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Criação de uma conta de e-mail em www.iol.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fectuar o download do programa de correio electrónico “Eudora” em www.eudora 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Configuração da con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nviar e Receber mensagens de correio electró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MAILING LI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Lista de endereços de electrónicos de pessoas que se interessam por um determinado assu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Obtenção de informações actualiz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Solicitação de ajuda para a resolução de proble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anter contacto com pessoas da mesma área de interes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MAILING LIST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PROPAGAÇÃO DE MENSAGEN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Uma lista possui um endereço de correio electró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Quando uma mensagem é enviada para esse endereço, é reenviada para todos os assin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O resultado deste processo é uma conversaç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MAILING LIST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TIPO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Listas Não Moder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Qualquer mensagem é repassada para todos os assina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Listas Moder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xiste um moderador, normalmente o criador da lista, que recebe todas as mensagens e decide quais delas deverão ser enviadas para os assina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MAILING LIST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XERCÍCI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Criar uma lista de discussão em </a:t>
            </a:r>
            <a:r>
              <a:rPr b="0" lang="pt-PT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coollist.com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(moni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Tornar-se assinante da l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FTP (FILE TRANSFER PROTOCO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Permite a transferência de ficheiros entre compu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ownload (Descarregamento de ficheiros do servid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Upload (Actualização do servid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FTP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OFTWARE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WS_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cuteftp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2852640"/>
            <a:ext cx="3313080" cy="2664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92720" y="1916280"/>
            <a:ext cx="2459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TE_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5661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www.wsftp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www.cuteftp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55640" y="28526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REDE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VANTAGEN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conomia com maior crescimento do mun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Número de Utli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Fontes de Inform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cesso cada vez + rápi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cesso cada vez + bara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posta das Empres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Comercialização de Produ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Apoio a Cli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Publicidade on-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Expansão dos seus merc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844640"/>
            <a:ext cx="1625400" cy="134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2637000"/>
            <a:ext cx="1625400" cy="1079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4076640"/>
            <a:ext cx="1800000" cy="137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04000" y="4076640"/>
            <a:ext cx="1579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FTP (EXERCÍCIO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riar uma conta de FTP gratuita em www.esmartweb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fectuar o download do programa WS_FTP em </a:t>
            </a:r>
            <a:r>
              <a:rPr b="0" lang="pt-PT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ipswitch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onfigurar o programa F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FTP Hostname: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ftpserver.esmartguy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FTP Username: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johndo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FTP Password: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[?????????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Transferir ficheiros bidireccionalmente (cliente/serv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TEL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É o recurso da Internet que permite estabelecer uma ligação permanente com outro computador da re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É possível trabalhar na máquina remota partir de qualquer lo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Para estabelecer essa ligação, é necessári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Ter o programa-consola (Telnet.ex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aber o nome do computador que se pretende ace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aber o nome de utilizador da máqu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aber a palavra-passe de utiliza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195720" y="6237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www.whatismyip.co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TELNET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XERCÍCI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ceder ao servidor FTP da Microsoft (Porta 2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ntrar como convidado (anonymous log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Listar o conteúdo da r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fectuar o download de um qualquer ficheiro de texto para a root da máquina cliente (ver lista de comandos FT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IR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onversação on-line em tempo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anais (salas de conversaçã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Ger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Temá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Tipos de convers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Geral (para o ca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Whisper (priv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Permitida a partilha de fichei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IRC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OFTWARE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4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IR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ICQ (S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SN Messen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Web Chat (www.abola.p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Net Meeting (Video-Ch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www.netmeetinghq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Welcome to the mIRC Homepage!"/>
          <p:cNvPicPr/>
          <p:nvPr/>
        </p:nvPicPr>
        <p:blipFill>
          <a:blip r:embed="rId2"/>
          <a:stretch/>
        </p:blipFill>
        <p:spPr>
          <a:xfrm>
            <a:off x="2987640" y="2565360"/>
            <a:ext cx="2089080" cy="114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CQ.com"/>
          <p:cNvPicPr/>
          <p:nvPr/>
        </p:nvPicPr>
        <p:blipFill>
          <a:blip r:embed="rId3"/>
          <a:stretch/>
        </p:blipFill>
        <p:spPr>
          <a:xfrm>
            <a:off x="5219640" y="2205000"/>
            <a:ext cx="2087640" cy="90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MSN.com"/>
          <p:cNvPicPr/>
          <p:nvPr/>
        </p:nvPicPr>
        <p:blipFill>
          <a:blip r:embed="rId4"/>
          <a:stretch/>
        </p:blipFill>
        <p:spPr>
          <a:xfrm>
            <a:off x="6172200" y="981000"/>
            <a:ext cx="2971800" cy="1273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796000" y="3500280"/>
            <a:ext cx="26701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IRC 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SMILEIS E ABREVIATURA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)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legre, sorrid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(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Triste, contrari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;)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Piscar o ol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Com ócul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Q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Fuma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-[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Vampi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-X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Manter segre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*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Beij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-O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Espanto, surpre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’(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Cho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|-0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o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:-D 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Ri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LOL (Laughing Out Lou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GA (Go Ahea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FYI (For Your Inform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IMHO (In My Humble Opin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BTW (By The Wa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ILY (I Love Yo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MSG (Mess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TOH (On The Other Han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RTFM (Read The xxxx Manu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TIA (Thanks In Adv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IRC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EXERCÍCI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fectue o download do mIRC em www.mirc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Proceda à configuração do programa, no sentido de utilizar servidores nacion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Proceda ao registo do seu nick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ntre no canal #portug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Crie uma sala de conversação com o seu n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ETIQUETA EM RE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Nunca se esqueça que há pessoas do outro lado da lin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Seja cuidadoso com o que fala para e sobre os outr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Seja claro, breve e obj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Use um formato adequ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screva correctamente o endereço do destinatá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Divulgue o que obteve ou recebe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Respeite os direitos de autor (</a:t>
            </a:r>
            <a:r>
              <a:rPr b="0" i="1" lang="pt-PT" sz="2400" spc="-1" strike="noStrike">
                <a:solidFill>
                  <a:srgbClr val="ffffff"/>
                </a:solidFill>
                <a:latin typeface="Tahoma"/>
              </a:rPr>
              <a:t>copyright</a:t>
            </a: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Não faça public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Seja discreto e comedido ao utilizar os recursos da re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HISTÓRIA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PRIMÓRDIO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Surgiu na Guerra Fria (Sputnik 195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Sério problema nos E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O desfasamento tecnológ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A distância geográfica entre centros de pesquisa nucl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A troca de inform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everia ser + ráp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everia ser + seg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292640"/>
            <a:ext cx="1219320" cy="8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68920" y="4270320"/>
            <a:ext cx="115272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HISTÓRIA 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ARPA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5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Surgiu a ARPA (Advanced Research Projects Agency)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irectiva 5105.15 (DoD) de 07-02-195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gilizar o sistema de informação entre os centros de pesquisa nucl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Não permitir que um ataque nuclear ocorres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esde 1996 que a instituição é designada por DARPA (Defense Advanced Research Projects Agenc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department of defense web site"/>
          <p:cNvPicPr/>
          <p:nvPr/>
        </p:nvPicPr>
        <p:blipFill>
          <a:blip r:embed="rId2"/>
          <a:srcRect l="13038" t="0" r="14064" b="41980"/>
          <a:stretch/>
        </p:blipFill>
        <p:spPr>
          <a:xfrm>
            <a:off x="6588000" y="1844640"/>
            <a:ext cx="1614600" cy="1308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13813" t="0" r="17165" b="11082"/>
          <a:stretch/>
        </p:blipFill>
        <p:spPr>
          <a:xfrm>
            <a:off x="6505560" y="378936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43640" y="49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www.darpa.m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Tahoma"/>
              </a:rPr>
              <a:t>www.dod.m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HISTÓRIA 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ARPANET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Década de 60 – Grau de exigência ma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Comunicações lent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Perda de informações durante o processo de transferência na re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m 1969, a ARPA pede ajuda às Universidades e concebe a ARPA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Implementação do conceito de comutação de pacotes (idealizado pela RAND Corporation – </a:t>
            </a:r>
            <a:r>
              <a:rPr b="0" lang="pt-PT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rand.org</a:t>
            </a: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Telnet (emulador remot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Protocolo NCP (Network Control Protoco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Servidores de Rede (UNIX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Tahoma"/>
              </a:rPr>
              <a:t>Criação do primeiro Grupo de Discussão – Usenet (Unix User Network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HISTÓRIA 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IP’S VS DNS’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Década de 80 - Crescimento exponencial de utilizad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Surgiram os primeiros </a:t>
            </a:r>
            <a:r>
              <a:rPr b="0" i="1" lang="pt-PT" sz="2000" spc="-1" strike="noStrike">
                <a:solidFill>
                  <a:srgbClr val="ffffff"/>
                </a:solidFill>
                <a:latin typeface="Tahoma"/>
              </a:rPr>
              <a:t>softwares</a:t>
            </a: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 de integração dos PC’s à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A via “oficial” para obter ligação continuava a ser a ARPA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endereços foram aprimorados com o surgimento do DNS (Domain Name Syste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Os países passaram a ser codific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fanismo Norte-Americano (porque não US?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A HISTÓRIA </a:t>
            </a:r>
            <a:br>
              <a:rPr sz="4000"/>
            </a:br>
            <a:r>
              <a:rPr b="0" lang="pt-PT" sz="4000" spc="-1" strike="noStrike">
                <a:solidFill>
                  <a:srgbClr val="e5ffff"/>
                </a:solidFill>
                <a:latin typeface="Tahoma"/>
              </a:rPr>
              <a:t>(ACTUALIDADE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Em 2002, Portugal tinha quase 4 milhões e meio de utilizadores da re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 “Computer Industry Almanac” prevê, até ao final de 2004, 945 milhões de utilizadores em todo o M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515772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FONTE: cyberatlas.interne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e5ffff"/>
                </a:solidFill>
                <a:latin typeface="Tahoma"/>
              </a:rPr>
              <a:t>SERVIÇOS INTER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World Wide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Correio Electrón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FT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5310360" y="1932120"/>
            <a:ext cx="382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I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Video Confe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ews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3T07:01:25Z</dcterms:created>
  <dc:creator>Henrique</dc:creator>
  <dc:description/>
  <dc:language>en-US</dc:language>
  <cp:lastModifiedBy>.</cp:lastModifiedBy>
  <dcterms:modified xsi:type="dcterms:W3CDTF">2003-07-16T12:52:13Z</dcterms:modified>
  <cp:revision>20</cp:revision>
  <dc:subject/>
  <dc:title>Slide 1</dc:title>
</cp:coreProperties>
</file>