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598-8B36-4ED0-87EA-860CDBC8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164-3D6C-484B-869B-C7049E6F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AE3-910D-437A-84AD-B789DD92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34C-E3D6-47E2-BC6C-4D096B9C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B0E-E4C2-4B24-8EC1-C7915CF5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A85-2229-4A7B-8BA0-588B8D93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7A7-35AC-4673-9EF1-2C96F258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696-3B2F-4992-BAE3-7230B4A3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04A-CD32-469B-9ED6-A14D9F8B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6E0-AC06-4585-89E7-07E39B24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BD3-7E28-41D9-875E-2718496B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B59-1C71-4676-9153-4DCEE79A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30B9-D408-4C23-80AE-5330017D7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12000" y="6165720"/>
            <a:ext cx="10796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k@lexab.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50920" y="189000"/>
            <a:ext cx="8638920" cy="765000"/>
            <a:chOff x="250920" y="189000"/>
            <a:chExt cx="8638920" cy="765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430200" y="378000"/>
              <a:ext cx="2808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3454200" y="593640"/>
              <a:ext cx="5435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0920" y="189000"/>
              <a:ext cx="3203280" cy="765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324000" y="6308640"/>
            <a:ext cx="756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Kap 1-6, 8 och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 – Filsystem NT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Kom tillsammans med Windows N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Informationen om filen är en del av filen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(Namn, Storlek, Data, Rättigheter mm)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Denna lagras i MFT (Master File Table), om filen är &lt;1500 bytes placeras filen i M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Små filer accessas snabbt då den i sin helhet är integrerad med M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 – Filsystem NT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För NTFS-volymer gä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Namn på filar och mappar kan vara upp till 255 tecken inkl. tilläggsna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Filnamn är inte ”case-sensitive”, dock stödjer NTFS POSIX som är case-sensi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Filnamnet kan ej innehålla </a:t>
            </a:r>
            <a:r>
              <a:rPr b="1" lang="sv-SE" sz="2400" spc="-1" strike="noStrike">
                <a:solidFill>
                  <a:srgbClr val="000000"/>
                </a:solidFill>
                <a:latin typeface="Trebuchet MS"/>
              </a:rPr>
              <a:t>/ \ : ; | = , ^ *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Maximal partitions- och fil storlek är 16 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 – Filsystem NT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NTFS stödjer ä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Filk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Transaktionshanterad återställning vid fel. Alla fil och kataloguppdateringar loggas och kan användas för återställ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NTFS reallokerar information som lagras på felaktiga sektor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MacIntosch- f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POSIX (en unix dialek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 – Filsystem NTFS 5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NTFS 5 utökning av NTFS kom till Windows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FS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(Encrypting File System) Krypterar och dekrypterar filer direkt när de skrivs eller lä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Disc quotas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dmin kan begränsa diskutrymmet för använd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 – Filsystem NTFS 5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NTFS 5 stödjer ä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rebuchet MS"/>
              </a:rPr>
              <a:t>Volume Mount Point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Nya volymer kan läggas till i filsystemet utan att tilldelas en enhetsbeteckning, kräver dynamiska disk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rebuchet MS"/>
              </a:rPr>
              <a:t>USN Journal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En logg som kontinuerligt läser av alla ändringar som görs av filerna på voly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 – Startsekv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NTFS 5 stödjer ä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rebuchet MS"/>
              </a:rPr>
              <a:t>Volume Mount Point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Nya volymer kan läggas till i filsystemet utan att tilldelas en enhetsbeteckning, kräver dynamiska disk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rebuchet MS"/>
              </a:rPr>
              <a:t>USN Journal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En logg som kontinuerligt läser av alla ändringar som görs av filerna på voly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6308640"/>
            <a:ext cx="756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12000" y="6165720"/>
            <a:ext cx="10796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k@lexab.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54160" y="216000"/>
            <a:ext cx="8638920" cy="765000"/>
            <a:chOff x="254160" y="216000"/>
            <a:chExt cx="8638920" cy="7650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433440" y="405000"/>
              <a:ext cx="2808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457440" y="620640"/>
              <a:ext cx="5435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4160" y="216000"/>
              <a:ext cx="3203280" cy="765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11280" y="119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rebuchet MS"/>
              </a:rPr>
              <a:t>Boot-proce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2852640"/>
            <a:ext cx="554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1943280" cy="398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Start av d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2709720"/>
            <a:ext cx="360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Letar i BIOS efter boot-en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3429000"/>
            <a:ext cx="4824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Letar efter MBR i början på hårddis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4149720"/>
            <a:ext cx="4680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MBR berättar vilken partition som är aktiv, dvs. Windows systemparti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0072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486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5084640"/>
            <a:ext cx="4680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Systempartitionen startar upp operativsystemet på startparti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6308640"/>
            <a:ext cx="756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12000" y="6165720"/>
            <a:ext cx="10796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k@lexab.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4160" y="216000"/>
            <a:ext cx="8638920" cy="765000"/>
            <a:chOff x="254160" y="216000"/>
            <a:chExt cx="8638920" cy="765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433440" y="405000"/>
              <a:ext cx="2808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457440" y="620640"/>
              <a:ext cx="5435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4160" y="216000"/>
              <a:ext cx="3203280" cy="765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68360" y="1125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rebuchet MS"/>
              </a:rPr>
              <a:t>Windows 2000’s olika partitio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916280"/>
            <a:ext cx="8136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Start av d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startar POST (Power-On Self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Kontrollerar Ram (Hur mycket som finns och att det funger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Kontrollerar Hårddiskar (vilka som finns och om de funk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Kontrollerar Diskenhet (om den finns, och att den funk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Andra enheter (t.ex. tangentbord, möss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6308640"/>
            <a:ext cx="756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12000" y="6165720"/>
            <a:ext cx="10796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k@lexab.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54160" y="216000"/>
            <a:ext cx="8638920" cy="765000"/>
            <a:chOff x="254160" y="216000"/>
            <a:chExt cx="8638920" cy="7650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33440" y="405000"/>
              <a:ext cx="2808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457440" y="620640"/>
              <a:ext cx="5435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4160" y="216000"/>
              <a:ext cx="3203280" cy="765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1128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rebuchet MS"/>
              </a:rPr>
              <a:t>Mer om hårddiskar och bootsek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2852640"/>
            <a:ext cx="554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1989000"/>
            <a:ext cx="1943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Start av d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709720"/>
            <a:ext cx="3600720" cy="703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Letar i BIOS efter boot-en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3429000"/>
            <a:ext cx="4824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Letar efter MBR i början på hårddis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4149720"/>
            <a:ext cx="4680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MBR berättar vilken partition som är aktiv, dvs. Windows systemparti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486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5084640"/>
            <a:ext cx="4680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Systempartitionen startar upp operativsystemet på startparti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6308640"/>
            <a:ext cx="756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12000" y="6165720"/>
            <a:ext cx="10796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k@lexab.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4160" y="216000"/>
            <a:ext cx="8638920" cy="765000"/>
            <a:chOff x="254160" y="216000"/>
            <a:chExt cx="8638920" cy="76500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433440" y="405000"/>
              <a:ext cx="2808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457440" y="620640"/>
              <a:ext cx="5435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160" y="216000"/>
              <a:ext cx="3203280" cy="765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68360" y="1125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rebuchet MS"/>
              </a:rPr>
              <a:t>Windows 2000’s olika partitio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916280"/>
            <a:ext cx="8136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BIOS (Basic Input/Output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Vad en dator kan göra utan att köra program från en disken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Är ett program som har koll på hårddisken, tangentbord, skärm och andra enh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BIOS finns i ett ROM-chip (EPR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Inställningar gjorda i BIOS lagras på ett ställe som kallas CMOS (en form av minne)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Windows 2000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Windows 2000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Windows 2000 Adv.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Windows 2000 Data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6308640"/>
            <a:ext cx="756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6165720"/>
            <a:ext cx="10796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k@lexab.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54160" y="216000"/>
            <a:ext cx="8638920" cy="765000"/>
            <a:chOff x="254160" y="216000"/>
            <a:chExt cx="8638920" cy="76500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433440" y="405000"/>
              <a:ext cx="2808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457440" y="620640"/>
              <a:ext cx="5435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4160" y="216000"/>
              <a:ext cx="3203280" cy="765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1128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rebuchet MS"/>
              </a:rPr>
              <a:t>Mer om hårddiskar och bootsek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2852640"/>
            <a:ext cx="554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1989000"/>
            <a:ext cx="1943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Start av d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2709720"/>
            <a:ext cx="360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Letar i BIOS efter boot-en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3429000"/>
            <a:ext cx="4824360" cy="398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Letar efter MBR i början på hårddis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4149720"/>
            <a:ext cx="4680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MBR berättar vilken partition som är aktiv, dvs. Windows systemparti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00720" y="486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5084640"/>
            <a:ext cx="4680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Systempartitionen startar upp operativsystemet på startparti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6308640"/>
            <a:ext cx="756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12000" y="6165720"/>
            <a:ext cx="10796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k@lexab.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4160" y="216000"/>
            <a:ext cx="8638920" cy="765000"/>
            <a:chOff x="254160" y="216000"/>
            <a:chExt cx="8638920" cy="76500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433440" y="405000"/>
              <a:ext cx="2808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457440" y="620640"/>
              <a:ext cx="5435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160" y="216000"/>
              <a:ext cx="3203280" cy="765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1128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rebuchet MS"/>
              </a:rPr>
              <a:t>Mer om hårddiskar och bootsek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2852640"/>
            <a:ext cx="554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989000"/>
            <a:ext cx="1943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Start av d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71640" y="2709720"/>
            <a:ext cx="360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Letar i BIOS efter boot-en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429000"/>
            <a:ext cx="4824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Letar efter MBR i början på hårddis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4149720"/>
            <a:ext cx="4680000" cy="1008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MBR berättar vilken partition som är aktiv, dvs. Windows systemparti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486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5084640"/>
            <a:ext cx="4680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Systempartitionen startar upp operativsystemet på startpartitionen enligt angiven arc-sökvä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0920" y="6308640"/>
            <a:ext cx="756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12000" y="6165720"/>
            <a:ext cx="10796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k@lexab.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54160" y="216000"/>
            <a:ext cx="8638920" cy="765000"/>
            <a:chOff x="254160" y="216000"/>
            <a:chExt cx="8638920" cy="76500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433440" y="405000"/>
              <a:ext cx="2808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457440" y="620640"/>
              <a:ext cx="5435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4160" y="216000"/>
              <a:ext cx="3203280" cy="765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68360" y="1125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rebuchet MS"/>
              </a:rPr>
              <a:t>Windows 2000’s olika partitio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916280"/>
            <a:ext cx="8136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Systempartition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Här återfinns de startfiler som behövs för att starta Windows 2000 (Ntldr, boot.ini och ntdetect.com)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Berättar hur och var Windows ska sta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Startpartition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Innehåller operativsystemet och dess filer. Är oftast samma som systemparti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Utökad partition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En partition som kan innehålla fler logiska partitio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6308640"/>
            <a:ext cx="756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12000" y="6165720"/>
            <a:ext cx="10796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k@lexab.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4160" y="216000"/>
            <a:ext cx="8638920" cy="765000"/>
            <a:chOff x="254160" y="216000"/>
            <a:chExt cx="8638920" cy="765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433440" y="405000"/>
              <a:ext cx="2808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457440" y="620640"/>
              <a:ext cx="5435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4160" y="216000"/>
              <a:ext cx="3203280" cy="765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1128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rebuchet MS"/>
              </a:rPr>
              <a:t>Mer om hårddiskar och bootsek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2852640"/>
            <a:ext cx="554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1989000"/>
            <a:ext cx="1943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Start av d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2709720"/>
            <a:ext cx="360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Letar i BIOS efter boot-en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3429000"/>
            <a:ext cx="4824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Letar efter MBR i början på hårddis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4149720"/>
            <a:ext cx="4680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MBR berättar vilken partition som är aktiv, dvs. Windows systemparti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486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5084640"/>
            <a:ext cx="4680000" cy="1008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Systempartitionen startar upp operativsystemet på startpartitionen enligt angiven arc-sökvä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0920" y="6308640"/>
            <a:ext cx="756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0" y="6165720"/>
            <a:ext cx="10796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k@lexab.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4160" y="216000"/>
            <a:ext cx="8638920" cy="765000"/>
            <a:chOff x="254160" y="216000"/>
            <a:chExt cx="8638920" cy="7650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433440" y="405000"/>
              <a:ext cx="2808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57440" y="620640"/>
              <a:ext cx="5435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4160" y="216000"/>
              <a:ext cx="3203280" cy="765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68360" y="1125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rebuchet MS"/>
              </a:rPr>
              <a:t>Windows 2000 arc-sökvä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773360"/>
            <a:ext cx="87138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ARC-sökvä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multi(0)disk(0)rdisk(0)partion(1)\WINNT=”W2k” /fastdet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Börjar räkna från 0, förutom partition dvs. första kontrollerkortet är 0, första partition är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multi/scsi = kontrollerkort / scsi utan 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disk = diskenhet iaf. Sc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rdisk = diskenhet iaf. mul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partion = vilken partion på hårddisken som är startpartion dvs. där operativsystemet l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6308640"/>
            <a:ext cx="756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12000" y="6165720"/>
            <a:ext cx="1079640" cy="276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k@lexab.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54160" y="216000"/>
            <a:ext cx="8638920" cy="765000"/>
            <a:chOff x="254160" y="216000"/>
            <a:chExt cx="8638920" cy="76500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433440" y="405000"/>
              <a:ext cx="2808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457440" y="620640"/>
              <a:ext cx="5435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4160" y="216000"/>
              <a:ext cx="3203280" cy="765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95280" y="1197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ulti(0)disk(0)rdisk(0)partion(1)\WINNT=”W2k” /fastdet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4221000"/>
            <a:ext cx="2520720" cy="136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13080" y="5589720"/>
            <a:ext cx="1655640" cy="287280"/>
          </a:xfrm>
          <a:prstGeom prst="rect">
            <a:avLst/>
          </a:prstGeom>
          <a:solidFill>
            <a:srgbClr val="eb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3933720"/>
            <a:ext cx="71640" cy="18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27280" y="3068640"/>
            <a:ext cx="1513080" cy="1297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5157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örsta IDE kontrollerkor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rcRect l="4478" t="4047" r="491" b="3965"/>
          <a:stretch/>
        </p:blipFill>
        <p:spPr>
          <a:xfrm>
            <a:off x="2627280" y="1916280"/>
            <a:ext cx="1513080" cy="1655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356000" y="2276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örsta hårddis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 – Registr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Data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Installerade kompon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Drivrut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Använd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Registrets uppbyggn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HKEY_LOCAL_MACHINE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Användarprogram, drivrutiner, operativsyste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HKEY_CURRENT_USERS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Användarprofil för inloggad, miljövariabler, skrivbordsinställningar, nätverksinställningar, skrivare och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HKEY_USER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Alla användarprofiler inkl. HKEY_CURRENT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Registrets uppbyggn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HKEY_CLASSES_ROOT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Registrerade program, objektlänk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HKEY_CURRENT_CONFIG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Hårdvaruprofil som skapas under uppstart och körning. Sparas inte på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Registret – En p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Består av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Na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Datatyp – Hur värdet spa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Vä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indows 2000 har två olika lä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ntegrerade subsystem (security, workstation, ser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nvironment subsystem (Win32, POSI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Registret – Ett exem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Regedt32.exe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NT’s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HKEY_LOCAL_MACHINE (rotnyckel)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Program, drivrutiner, operativ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Software (Nyck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Microsoft (Undernyck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Command Processor (Undernyck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Registret – Ett exem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CompletionChar (Na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REG_DWORD (Dataty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0x40 (Värd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Användare och grup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Olika typer av ko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Lokala konton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Administreras på den lokala dat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Domänkonton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Administreras med hjälp av en Windows 2000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Använd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Inbyggda ko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Administrator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Fullständiga rättigheter till al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Guest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Begränsade rättigheter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Tillfällig tillgång till datorn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Kan döpas 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Använd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Kontona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Siffror, stora och små bokstä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Max 20 te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Ej ”/\[]:;|=,+*?&l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Inte ”case-senseti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Använd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Löse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Siffror, stora och små bokstä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Ej ”/\[]:;|=,+*?&l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Max 127 te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case-sense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Grup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Tilldela en grupp rättigheter och behörigh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Göra användarna medlemmar i dessa gru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Användare kan vara medlem i flera gru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Grup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Administrators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Fullständiga rättigh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Backup Operators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Kan göra backup och återställa från 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Guests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Minimala rättigh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Power Users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Skapa användarkonton, dela ut resurser, installera de flest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Repl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Users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Normala rättigh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Systemgrup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vänds av operativsyste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an inte tilldelas medlemssk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älla in rättigheter och behörig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Systemgrup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Creator/Owner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Den som har skapat, äger ett ob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System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Hanterar tjänster, web-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Everyone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Alla använ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Interactive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Användare på den lokala dat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Network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Användare från en dator i nätve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Kernel m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indows 2000 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ernel mode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HAL (Hardware abstraction lay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Systemgrup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Creator Group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Apple användare och PO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Anonymous Logon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Loggar in utan användarnam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Authenticated Users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Godkända använ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Batch, Dialup, Service, Terminal Serve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Rättigh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Rättigheter (User rights)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Bestämmer vad en användare kan gö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Behörigheter (Permiss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Bestämmer hur en användare kan använda olika objekt (filer, mappar, skriv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Lokal behörighet på</a:t>
            </a:r>
            <a:br>
              <a:rPr sz="4000"/>
            </a:b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filer och mapp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NTFS installerat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(New Technology File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Högerklicka </a:t>
            </a:r>
            <a:r>
              <a:rPr b="0" lang="sv-S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 Sharing… </a:t>
            </a:r>
            <a:r>
              <a:rPr b="0" lang="sv-S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Behörigh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Gru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Enskilda använd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Grupper och enskilda använd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tandardbehörigh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Ful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Mod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Read &amp; Exec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List Folder Content (endast mapp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rebuchet MS"/>
              </a:rPr>
              <a:t>Wr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tandardbehörigh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ffektiv behörig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n minst restriktiva blir den effektiva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ehörigh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 - Fil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Windows 2000 stödjer följande fil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FAT</a:t>
            </a: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File Allocation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FAT32</a:t>
            </a: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File Allocation Table 32-b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NTFS</a:t>
            </a: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New Technology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CDFS</a:t>
            </a: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rebuchet MS"/>
              </a:rPr>
              <a:t>CD-ROM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 – Filsystem F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DOS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8.3 ( 8 tecken + 3 filty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Maximal volym &amp; filstorlek på 2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Högst 512 filer i rotkatal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Högst 65 535 filer i övriga katalo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VFAT är det filsystem som Windows 95, NT, 2000 använder, detta kommer i fortsättningen att kallas 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 – Filsystem F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Windows, 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Filnamn upp till 255 tecken inkl. sökvä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Filnamnet kan innehålla flera blanka te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Filnamnet måste börja med en bokstav eller siff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Filnamnet kan ej innehålla </a:t>
            </a:r>
            <a:r>
              <a:rPr b="1" lang="sv-SE" sz="2400" spc="-1" strike="noStrike">
                <a:solidFill>
                  <a:srgbClr val="000000"/>
                </a:solidFill>
                <a:latin typeface="Trebuchet MS"/>
              </a:rPr>
              <a:t>/ \ : ; | = , ^ *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Filnamnet kan innehålla flera punkter (fil.1-2.d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Filnamnet skiljer inte på versaler och gemener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fil.1-2.doc = FIL.1-2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Är kompatibel med det ursprunglig 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 – Filsystem F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Största partitionsstorlek är 2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Högst 512 filer i rotkatal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Obegränsat antal filer i övriga mappar/ katalo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FAT är en tabell med länkar som innehåller information om var datablocken som utgör filerna fin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rebuchet MS"/>
              </a:rPr>
              <a:t>Windows 2000 – Filsystem FAT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rebuchet MS"/>
              </a:rPr>
              <a:t>FAT 32 kom med Windows 95 OSR2 och används i Windows 9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rebuchet MS"/>
              </a:rPr>
              <a:t>Högsta partitionsstorlek är 4 TB, (Går bara att formatera upp till 32 GB i Windows 2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rebuchet MS"/>
              </a:rPr>
              <a:t>Högsta filstorlek är 4G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rebuchet MS"/>
              </a:rPr>
              <a:t>Obegränsat antal filer i rot och övriga katalo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rebuchet MS"/>
              </a:rPr>
              <a:t>Windows NT4 kan inte läsa FAT32, däremot kan Win 95 OSR2 samt Win 98 läsa FAT partitioner skapade i Windows NT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17:46:47Z</dcterms:created>
  <dc:creator>Tomas Köhn</dc:creator>
  <dc:description/>
  <dc:language>en-US</dc:language>
  <cp:lastModifiedBy>Tomas Köhn</cp:lastModifiedBy>
  <dcterms:modified xsi:type="dcterms:W3CDTF">2005-10-25T12:29:07Z</dcterms:modified>
  <cp:revision>29</cp:revision>
  <dc:subject/>
  <dc:title>Bild 1</dc:title>
</cp:coreProperties>
</file>