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3.wmf" ContentType="image/x-wmf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450-4E38-4738-8C0A-36C5EBDF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2B8-3F45-4F88-A963-3E2568EC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B95-F6B5-4531-8BB4-4C1F4DC0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3DD-FBA1-441A-8987-53791B8B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BB7-F7FB-4305-B141-F8AB4A7D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A1B-08AD-4FBF-97B5-CB3A9257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409-E5AC-462C-9F23-14FB46DC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EFA-D4FD-4293-8E4B-9E148E16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3E5-E870-4904-BFCD-BD6C4AA7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1C8-DDC0-41FC-BB0D-F7A740EE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79E-D139-4F07-BB70-5261D29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C49-C5E7-496B-9043-4A22AF9E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6F96-6727-43BB-A116-2A6CBCC8B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9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I not Stupid - VCD"/>
          <p:cNvPicPr/>
          <p:nvPr/>
        </p:nvPicPr>
        <p:blipFill>
          <a:blip r:embed="rId3"/>
          <a:stretch/>
        </p:blipFill>
        <p:spPr>
          <a:xfrm>
            <a:off x="2849400" y="2057400"/>
            <a:ext cx="3399120" cy="441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80880"/>
            <a:ext cx="4581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Is Singapore Edu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eading The Right Way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60199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zoommovie.com/idroom.asp?ProductID=35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1760" y="21333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400" y="609480"/>
            <a:ext cx="7162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Advantages of Singapore’s Education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824200"/>
            <a:ext cx="85341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/Regional Recognition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0687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facilitie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754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ine in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4403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248520" y="4572000"/>
            <a:ext cx="18921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2971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isation of Worl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595440" cy="1119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23880" y="1143000"/>
            <a:ext cx="569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ngapore's education syste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7920" y="380880"/>
            <a:ext cx="603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blems and challenges fac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419720"/>
            <a:ext cx="7543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ge and technologic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629400" y="5029200"/>
            <a:ext cx="18892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38360" y="762120"/>
            <a:ext cx="4014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se Study-China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5146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c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3526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ortance of virtue and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6483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phasis on filial piety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788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2514600"/>
          <a:ext cx="8382240" cy="3733920"/>
        </p:xfrm>
        <a:graphic>
          <a:graphicData uri="http://schemas.openxmlformats.org/drawingml/2006/table">
            <a:tbl>
              <a:tblPr/>
              <a:tblGrid>
                <a:gridCol w="4302360"/>
                <a:gridCol w="40798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ingapo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meric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 txBox="1"/>
          <p:nvPr/>
        </p:nvSpPr>
        <p:spPr>
          <a:xfrm>
            <a:off x="1447920" y="419040"/>
            <a:ext cx="623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mparison of educ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19200" y="1219320"/>
            <a:ext cx="783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ystem of U.S.A and Singapor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12408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college entrance requirement to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2133720"/>
            <a:ext cx="2133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905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31240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llege entran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5029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in engaging 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50292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in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26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533520"/>
          <a:ext cx="8229600" cy="5790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ingapo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meric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533520" y="114300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bed order of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143000"/>
            <a:ext cx="4038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more attention to being insp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438280"/>
            <a:ext cx="4267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the ability to interact with othe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514600"/>
            <a:ext cx="3124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fre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2670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4237200"/>
            <a:ext cx="41148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curiosity and ability to deal with problems indepen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0880" y="884160"/>
          <a:ext cx="8458200" cy="353520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ingapo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meric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80880" y="16002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better in tests and exam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1600200"/>
            <a:ext cx="38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s than in tests and exam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004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 firmer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3200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holes is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95880" y="4367160"/>
            <a:ext cx="25084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2:47:46Z</dcterms:created>
  <dc:creator>-</dc:creator>
  <dc:description/>
  <dc:language>en-US</dc:language>
  <cp:lastModifiedBy>-</cp:lastModifiedBy>
  <dcterms:modified xsi:type="dcterms:W3CDTF">2002-10-22T15:18:56Z</dcterms:modified>
  <cp:revision>7</cp:revision>
  <dc:subject/>
  <dc:title>Case Study</dc:title>
</cp:coreProperties>
</file>