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89B-C8BA-4860-A6D0-03A000AE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66F-A978-4491-89B9-E989D68B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C67-A7CE-4CE5-B0FA-9D9EEB49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B8C-8CD4-499B-B43E-870DBDDD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2292-98C2-4258-9AE2-6BE12651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F9E-4B0E-40EB-80E7-02FB5B5C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7684-8499-4259-B427-AFF204D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F370-2B91-4197-839F-AF45F97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94E-D148-4804-ACCB-E5153B3E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2E7-DF70-4F14-B27C-89CFD9B1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49A5-9E12-4A7C-82AB-F66FD25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7B4-525E-410C-B89F-D468616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37C8-9A5A-4CC4-A155-969BFA1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BED5-1BF4-4728-A09D-122D871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31BB-E337-4196-BA0B-EBBA519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0D64-6CB6-4843-AB76-09B5687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4FE-9BE7-4543-92FF-335B1A2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30D-3B40-4674-A375-4E15F647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869-51E4-4C8F-9F9E-313BB008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85E-24C2-4642-8779-FEA95FBE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9D3-2999-4B49-BFA8-800C820D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CB9-0FF4-40D0-B7A7-9BF1E53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9F6-58AE-40CD-9B80-DF352F0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F07-EB44-4C07-8E65-D0200F5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D718-75A2-44C2-9A21-25FE4D07C5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1F6A-D105-4373-8763-7F1F1EDB02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d891"/>
                </a:solidFill>
                <a:latin typeface="High Tower Text"/>
              </a:rPr>
              <a:t>Is there a population of Barred Owls near Boar’s Hog Ga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d891"/>
                </a:solidFill>
                <a:latin typeface="Arial"/>
              </a:rPr>
              <a:t>By: Travis Ha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d891"/>
                </a:solidFill>
                <a:latin typeface="Arial"/>
              </a:rPr>
              <a:t>Biology 3920 Tennessee Tech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inut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ubject Divis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5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 1.  Title, Name, Organization, Add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              2.  Statement of Problem (Introduction and Backgrou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5 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 3.  Objective/Hypothesis Stat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5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    4.  Essential Points of Methods/Materi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   5.  Results and Discussion (Interpretation of Resul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5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    6.  Summary and Conclusions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               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, b., c., 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     7.  Questions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22:37:49Z</dcterms:created>
  <dc:creator>Computer Center</dc:creator>
  <dc:description/>
  <dc:language>en-US</dc:language>
  <cp:lastModifiedBy>Computer Center</cp:lastModifiedBy>
  <dcterms:modified xsi:type="dcterms:W3CDTF">2004-03-31T23:16:25Z</dcterms:modified>
  <cp:revision>2</cp:revision>
  <dc:subject/>
  <dc:title>Is there a population of Barred Owls near Boar’s Hog Gap?</dc:title>
</cp:coreProperties>
</file>