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EEF-F557-457D-B5B1-6495DF33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D0A-368C-4BC4-A86F-7BB26425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BE25E2-7D3E-486F-BF3B-A4133457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F9FB39-28A8-4E22-BE01-21F22378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5B96EF-1F77-472B-A1F0-CA6625C0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F15E20-F865-404C-A6A0-9D0A7E55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450E17-B087-49E0-B2F8-C9B26A0C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739C76-8AF0-47E2-8DB3-323ACBB3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F08E40-0EC2-401E-80C9-671752FD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6365D4-B01A-4113-B0CB-7A5D4067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2CE892-72F2-496C-BC09-2A5BDC19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BD029-7403-4DC7-8284-794D7D4D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21C-6D62-4003-83C8-F1F65D73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0ED26-E62D-496B-9F99-70D2A168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31CA1-4C6D-48F4-B748-2514D684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1C8C7-21B1-4FF7-AB61-727374D2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0FBA2-2CA9-4D7A-B518-72BA999B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526B3-DC34-4498-9FFE-D6937402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4FBA4-3AA9-4743-9467-46168B5D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6F73B-5E1A-4641-9B05-A87F449E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D1BF2-8F3D-4212-BE60-3DD9911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498FF-C81E-416B-B39C-BFE511B0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A1319-A8CD-41E7-8D9B-E348BD16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E81-6C31-4368-B24D-E94675DD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6800E-2821-48A4-8CAC-67005FD7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B7007-CFBD-4880-9CF5-F6818075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6562B-2060-4DE4-848D-1D14ADE7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6416E-E94C-4A65-85AF-6FE6DBDC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4D254-A63C-40DC-BBCE-2C160D4E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C6AC2-91F6-4BE3-AE53-E25B76DE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F042B-250C-4500-B8B9-A01E3A94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FC6B7-BC29-4A8E-9821-0E41673C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95D9A-A858-42C2-8EB5-6C1260C2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5FFD7-858B-4DF6-8583-CECD1E3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43B1-5F39-4D2A-877C-0602FA1F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A57F8-E943-4B49-BE45-D1EDEF70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2372F-37AD-496D-A720-C18A5D83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F4AB5-E2FE-44D2-AB25-386E3062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8EBEE-6057-4E4F-8F85-69C61985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89AED-482B-48FD-94C4-DAF173A2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440FD-CFC4-4600-948D-B3AADFB5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BED2C-16B0-4588-B953-F95E0A86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D853F-EB59-4B89-9C61-FEAA8C3F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68ED7-834F-4868-BBCD-1892BB61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FA914-4C44-4A09-B632-14B2BF34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DC7A-68D7-4285-9F08-91B3B161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66E5D-392B-4BD3-9282-A07B3485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BA609-A1B0-48EA-A44F-4A43A0F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4AD27-25C6-445C-AA4B-F4DD761B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50C16-BC7E-4B32-A74A-62E49254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B8645-62DE-4C8A-BB1C-AA30D956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FC1E65-7870-44F5-9DA5-88C3E085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059CA8-788D-43C7-8F74-4B5080B9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345973-1F45-4D98-9B6F-4A5F6726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861ED9-7E1B-4C36-944A-EE5DD87C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2DBDD9-7907-4963-8E9B-D7E8B23B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A14A-7E57-4B0B-8285-39B14A3B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C6E527-B561-465E-B2BC-493E74EE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34ED12-C8FB-4263-A552-2D53BD31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961069-1151-42DD-8BDB-E24C9EC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72F8E5-AFE3-4E7C-8239-C097BB86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0C262C-312A-4B01-877E-BCAA6798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C0BD18-B527-4ED9-8D1F-D6173852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A9EE71-64FE-4F5D-B87B-BC603B4E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9DD68-FF4F-471A-9308-D1F7A895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911E3-CD31-490A-A189-DC433350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89301-D27B-482D-B978-66C1A377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0EDF-2607-401A-9071-E348D653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43AC1-3794-414C-AA56-B296B85A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29364-C571-4B8E-AFDB-01B0155B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881ED-2DB7-459C-8AF0-D7B5DF4C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3D696-3189-42D7-9D96-67BFDF87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E4D89-A13A-4654-842A-7FB5E8F6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46A9DB-16FD-453C-A37C-5FB09FF8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E973E-9DEA-4CE1-BD9D-0767B7D7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04C586-7067-4F1C-9D1B-0BDF089B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716E9-8DD0-4D8B-824E-7AD0F168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83CCC8-6B50-4AA7-A5A4-611DB915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598A-C271-4A43-92E7-3CF39F0B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1DA81-CE46-41FC-B1AC-843EF015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D65E1-70CD-4414-91A4-47A19B2F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744BD-B196-4019-864B-6BB501D8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0FD11-7B09-4575-A477-C39A99C8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8E3ED8-0486-4B12-B317-DB423332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F2B79-4132-443A-9615-3118E1F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E23A3-56DC-4796-B865-61B6644B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38105-FA4B-45E6-B4DA-99678B9A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733CA4-4E28-4D2A-B4D9-CDD90FA3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B426A-97A1-49B3-AB74-2D586C92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9109-59F3-4D8F-9949-856E77C0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1ABE7-367F-433A-96E5-E7717DF6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FCC98-FF0A-45C0-88CB-C2923E4E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54FD3-F82A-46F3-A40D-C45119AB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F307F-D775-4A86-88C3-DEA97070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0BA3B-DC37-4F57-9B59-1CEEF423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67DF5-9863-4D93-A801-5A02A33B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3AF350-3560-4FF7-84D7-99E778A0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3AB01-4F7D-4547-9DF1-0F92BA38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0377F-3654-4B07-B7BC-45785B2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4935D7-04B6-4688-B32E-AF9F8187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AB7B-EA05-465F-BDA6-D10BA821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3F970-EDC6-4B28-B723-11853C63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26C61-8194-4FFB-BC57-9CAD4C89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3544C-E886-4065-8070-6C6CDE5B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2AB-ED57-4EC4-939E-1CE7E4F0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3347-80AB-4577-8E4C-083B382A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C907-E195-4D69-9B90-CAD1DD13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0B7A-8C1A-4C28-8E17-A0962C89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0262-3D43-4B48-AEF1-09D73323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FDB5-DDFB-4DE0-9518-A37FD604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FBBBA-2900-4C1E-A2E2-5BE0BB0D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7559-9BD6-47DD-A148-EDCEB861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A121-ACC2-4B17-9FC2-2C0E2E46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93E2-633F-45EC-887F-7C912FBC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C444A-5B8A-4E5D-9A7F-74EFF5D0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D8D8-EDAE-4C40-B6DD-BCDEB4A9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7E0C-5A5C-4661-9D34-2E9D1EC1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A6926-E662-48A7-A214-93867232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CF8D-A98F-4BB8-A40E-C043B5F1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CBB0-583D-4C89-AE72-58A325B7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564A-B5D1-43C3-AAFF-E3F40ACA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63BB-597C-4EAE-AF50-0E08B93B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9A7F-3A5C-454F-A9C3-2BC25787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10CA-CE92-4DFD-AB66-A7EF3968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EFD77-AF20-4C74-8355-9E85D41D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ADA5D-3F3B-4ACC-A6AD-27A9FD39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888-C251-4CC3-A28D-F5415E6E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81CF-5258-4E9A-A0E1-CAEA13A4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CB56-4651-4432-91F9-8EBC8CD1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A2E93-91D3-4D1D-A54F-1B6632EB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60E96-E14F-44A7-99D5-A95998B2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3A42E-A7F7-4F22-BF17-DAF31C32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448B6-6C9C-48DC-8F84-A29CF2C4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2C7FE-5F47-4B63-9594-8C7549D4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24BB-1A74-4A55-959A-E31B3F7F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3D318-28F7-4852-B64D-4269C123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6B274-25C1-468E-8398-FD294E8E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B48-439A-44B1-9ADE-51782560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2DBA-F2A1-474F-AF48-30E0D5C1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7259D-D96D-4822-9F55-2B7ACC27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3CA7F-84E5-4239-963A-582B9224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01943-7866-4E11-8005-524037FE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87B67-38DB-41EE-94DB-5044A1B6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CD0B5-209E-42C4-94C6-90E0F5BB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F773B-6390-4821-9D93-5BBF1391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E5A05-05EE-4413-A097-783D1553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22E7E-BD10-4801-B6BA-EEA67588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F5B0-EFFF-418D-8D9B-B1CF91ED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70E-84FE-411E-96CE-62E0EF8F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9F303-D629-4411-84D8-52893F78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238A6-64E5-43F9-9AC3-DA4E3ED4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62F02-51BF-4707-AF10-7A803BFB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BC650-E56E-4E65-BF85-C03A8CA9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5C5AD-D397-4479-B49E-2A04AC7B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FF380-27DC-408A-8903-D6AACB26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C7875-98FD-44B6-B4F3-D112CBC7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12352-E18B-4DEA-8569-9478B461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B771C-9306-42A4-A82E-50C18648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023A1-F6C1-4850-AF5E-40EDE5A6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132-EFE5-4A94-8A96-0F187011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68813-59DB-4A82-A57D-4FCF9773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1907D-C402-480B-9FA5-6159A5F9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93B31-FCA3-432A-A8EC-40925442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2DA71-D01C-4F0F-B19A-7EC94CF0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71585-93B9-4F59-8263-E8364E40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D01C3-423C-41D1-ACC8-9E260247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5EDDA-8E30-4272-9477-BDB0E88D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DBD7F-D848-429B-9126-912B7604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4F44C-8E2A-42A0-9BBC-2CB3CB15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23EF-9853-4F4B-8452-02E2449C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642-CA78-41A9-9534-40D09FCB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9D992-BC45-4401-BC6E-1C23D582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F00BE-F0B8-4831-8472-83054650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935F2-ED6B-406D-993B-CEFEA8D3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4D494-B2D9-4C35-AB83-D207E45D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7A8EE-2419-4DB5-8D84-6D3CB13F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FCB04-571A-4837-B272-1407BE47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D6072-FFB8-439E-A788-EB200FF7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B1FF5-00B5-4C60-9086-C47570CB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37FC6-0A46-46DD-8A40-5D2CE9A3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FC658-1819-4E24-BC3B-09E17F90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D19-A073-4A8A-9A15-396BE57B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109A3-358F-40BA-9382-C6EDFE59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C45FB-8293-4796-9045-E7144C7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C6A78-F969-4BB7-BA64-3594D9D8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6D42D-0684-4545-B375-4366CF5A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94DCE-C659-4CC4-ADA5-63F39838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B708C-4A24-4815-A0B4-6810D424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C28CD-EEF7-4830-9809-23C7D0FC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353A59-FDE8-4719-AA23-B4C0009C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70FEDB-358B-40F6-8D90-AF0D252A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F41C6-43A2-4E66-83BC-F653785E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47B3-750E-4644-9CC7-69F7A0C65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E54C-C720-4441-8D81-83CC6D8C78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F7E3-8D64-4AAD-885F-CECD28315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ftr" idx="3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1E1D-EC28-4BDC-AC61-C0BCC3273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E45A-D605-4890-B247-4AA9BC9F58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7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7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2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2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1AE2-BB61-4BF3-B921-5054E21D45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7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0FE3-9ECA-4F0D-AC67-FCFAB12A05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2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F946-F753-494F-B835-F4C1F51901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F6C3-8254-44D9-B41C-DA62B031E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83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86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89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92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95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B421-B8BD-41BA-A7F6-9BE3230AA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3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4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4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4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A0DD-1D9B-4CA1-A5CC-AE842F58D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9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E764-9E0B-4331-A4D0-0B3E6E555E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816A-1F0D-41BE-B52E-8A3F63C75D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9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0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1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B954-1FDB-499E-B6F2-F7BDEAFDF5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348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2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23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24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A42D-81D9-4E23-A870-9834B2C4AF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06D4-0ED1-4E47-8EC4-CCA4D9A3AE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4160" y="1588680"/>
            <a:ext cx="77724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d891"/>
                </a:solidFill>
                <a:latin typeface="High Tower Text"/>
              </a:rPr>
              <a:t>Is there a population of Barred Owls near Boar’s Hog Gap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d891"/>
                </a:solidFill>
                <a:latin typeface="Arial"/>
              </a:rPr>
              <a:t>By: Travis Harv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d891"/>
                </a:solidFill>
                <a:latin typeface="Arial"/>
              </a:rPr>
              <a:t>Biology 3920 Tennessee Tech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2471400"/>
            <a:ext cx="77724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Chiller"/>
              </a:rPr>
              <a:t>The End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hiller"/>
              </a:rPr>
              <a:t>Any Questio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" dur="2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f1205"/>
                </a:solidFill>
                <a:uFillTx/>
                <a:latin typeface="Century Schoolbook"/>
                <a:ea typeface="AngsanaUPC"/>
              </a:rPr>
              <a:t>Project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Garamond"/>
              </a:rPr>
              <a:t>Is there a population of Barred Owls near the Boar’s Hog Gap area near Bowater Pocket Wilderness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Garamond"/>
              </a:rPr>
              <a:t>Objectiv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Garamond"/>
              </a:rPr>
              <a:t>Gather data on the population of Barred Owls by calling the owls and trying to get them to call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Garamond"/>
              </a:rPr>
              <a:t>Accomplish this by taking several trips out to the area and calling the owls with tapes and owl cal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Garamond"/>
              </a:rPr>
              <a:t>Expected Results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Garamond"/>
              </a:rPr>
              <a:t>Over a period of time to show that there is a population of Barred Owls</a:t>
            </a:r>
            <a:r>
              <a:rPr b="0" lang="en-US" sz="1800" spc="-1" strike="noStrike">
                <a:solidFill>
                  <a:srgbClr val="66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SimHei"/>
              </a:rPr>
              <a:t>Int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re a population of Barred Owls at Boar’s Hog Gap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ed owls are a generalist species that are very adaptable hunters (Levy 199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ed owls traditional range is forests east of the Great Plains and prefer pole-sized timber 30 – 40 years after a clear cut (Levy 199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SzPct val="65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ar’s Hog gap is a popular hiking spot in the Bowater Pocket Wildern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ea is owned by the Bowater paper company and is often cut for timber, creating area suitable for Barred Ow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SzPct val="65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owls will be tempted to call in response to a taped Barred Owl or a Barred Owl ca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4908600" y="3367080"/>
            <a:ext cx="139068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7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Antique Olive"/>
              </a:rPr>
              <a:t>Methods and Materia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Owl ca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all the owls early in the evening or early in the morning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Use data forms to document where the owls where heard and how many where hear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Have several trips to specified locations enabling consistent dat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64ea"/>
                </a:solidFill>
                <a:latin typeface="Georgia"/>
              </a:rPr>
              <a:t>Expected Results and Benefi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High Tower Text"/>
              </a:rPr>
              <a:t>Gain knowledge of population of Barred Owls in the Bowater Pocket Wilderness area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High Tower Text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High Tower Text"/>
              </a:rPr>
              <a:t>Determine predator/prey relationships in the 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High Tower Text"/>
              </a:rPr>
              <a:t>Determine how these owls live in the 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</a:t>
            </a:r>
            <a:r>
              <a:rPr b="1" lang="en-US" sz="4400" spc="-1" strike="noStrike">
                <a:solidFill>
                  <a:srgbClr val="6ed891"/>
                </a:solidFill>
                <a:latin typeface="Garamond"/>
              </a:rPr>
              <a:t>Project Timelin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57200" y="2363400"/>
            <a:ext cx="8229240" cy="3743280"/>
            <a:chOff x="457200" y="2363400"/>
            <a:chExt cx="8229240" cy="3743280"/>
          </a:xfrm>
        </p:grpSpPr>
        <p:cxnSp>
          <p:nvCxnSpPr>
            <p:cNvPr id="782" name="_s64545"/>
            <p:cNvCxnSpPr>
              <a:stCxn id="783" idx="1"/>
              <a:endCxn id="784" idx="2"/>
            </p:cNvCxnSpPr>
            <p:nvPr/>
          </p:nvCxnSpPr>
          <p:spPr>
            <a:xfrm rot="10800000">
              <a:off x="5001840" y="4785840"/>
              <a:ext cx="225000" cy="1101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5" name="_s64543"/>
            <p:cNvCxnSpPr>
              <a:stCxn id="786" idx="1"/>
              <a:endCxn id="784" idx="2"/>
            </p:cNvCxnSpPr>
            <p:nvPr/>
          </p:nvCxnSpPr>
          <p:spPr>
            <a:xfrm rot="10800000">
              <a:off x="5001840" y="4785840"/>
              <a:ext cx="225000" cy="441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7" name="_s64541"/>
            <p:cNvCxnSpPr>
              <a:stCxn id="784" idx="1"/>
              <a:endCxn id="788" idx="2"/>
            </p:cNvCxnSpPr>
            <p:nvPr/>
          </p:nvCxnSpPr>
          <p:spPr>
            <a:xfrm rot="10800000">
              <a:off x="3738600" y="4124160"/>
              <a:ext cx="226440" cy="441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9" name="_s64529"/>
            <p:cNvCxnSpPr>
              <a:stCxn id="788" idx="0"/>
              <a:endCxn id="790" idx="2"/>
            </p:cNvCxnSpPr>
            <p:nvPr/>
          </p:nvCxnSpPr>
          <p:spPr>
            <a:xfrm flipH="1" flipV="1" rot="5400000">
              <a:off x="4188960" y="3012840"/>
              <a:ext cx="221040" cy="1121040"/>
            </a:xfrm>
            <a:prstGeom prst="bentConnector3">
              <a:avLst>
                <a:gd name="adj1" fmla="val 495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1" name="_s64527"/>
            <p:cNvCxnSpPr>
              <a:stCxn id="792" idx="3"/>
              <a:endCxn id="793" idx="2"/>
            </p:cNvCxnSpPr>
            <p:nvPr/>
          </p:nvCxnSpPr>
          <p:spPr>
            <a:xfrm flipV="1">
              <a:off x="2007000" y="3462480"/>
              <a:ext cx="226440" cy="441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4" name="_s64525"/>
            <p:cNvCxnSpPr>
              <a:stCxn id="795" idx="0"/>
              <a:endCxn id="796" idx="2"/>
            </p:cNvCxnSpPr>
            <p:nvPr/>
          </p:nvCxnSpPr>
          <p:spPr>
            <a:xfrm flipV="1" rot="16200000">
              <a:off x="5918760" y="1455840"/>
              <a:ext cx="221040" cy="2914200"/>
            </a:xfrm>
            <a:prstGeom prst="bentConnector3">
              <a:avLst>
                <a:gd name="adj1" fmla="val 495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7" name="_s64524"/>
            <p:cNvCxnSpPr>
              <a:stCxn id="790" idx="0"/>
              <a:endCxn id="796" idx="2"/>
            </p:cNvCxnSpPr>
            <p:nvPr/>
          </p:nvCxnSpPr>
          <p:spPr>
            <a:xfrm flipV="1" rot="16200000">
              <a:off x="4605480" y="2769120"/>
              <a:ext cx="221040" cy="287640"/>
            </a:xfrm>
            <a:prstGeom prst="bentConnector3">
              <a:avLst>
                <a:gd name="adj1" fmla="val 495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8" name="_s64523"/>
            <p:cNvCxnSpPr>
              <a:stCxn id="793" idx="0"/>
              <a:endCxn id="796" idx="2"/>
            </p:cNvCxnSpPr>
            <p:nvPr/>
          </p:nvCxnSpPr>
          <p:spPr>
            <a:xfrm flipH="1" flipV="1" rot="5400000">
              <a:off x="3292200" y="1743120"/>
              <a:ext cx="221040" cy="2339640"/>
            </a:xfrm>
            <a:prstGeom prst="bentConnector3">
              <a:avLst>
                <a:gd name="adj1" fmla="val 495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96" name="_s64519"/>
            <p:cNvSpPr/>
            <p:nvPr/>
          </p:nvSpPr>
          <p:spPr>
            <a:xfrm>
              <a:off x="3877560" y="2363400"/>
              <a:ext cx="1386720" cy="439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tart of proje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_s64520"/>
            <p:cNvSpPr/>
            <p:nvPr/>
          </p:nvSpPr>
          <p:spPr>
            <a:xfrm>
              <a:off x="1032840" y="3023640"/>
              <a:ext cx="2400480" cy="439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Get owl ca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_s64521"/>
            <p:cNvSpPr/>
            <p:nvPr/>
          </p:nvSpPr>
          <p:spPr>
            <a:xfrm>
              <a:off x="3659400" y="3023640"/>
              <a:ext cx="2400480" cy="439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Figure out areas to study i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_s64522"/>
            <p:cNvSpPr/>
            <p:nvPr/>
          </p:nvSpPr>
          <p:spPr>
            <a:xfrm>
              <a:off x="6285960" y="3023640"/>
              <a:ext cx="2400480" cy="439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Get approv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_s64526"/>
            <p:cNvSpPr/>
            <p:nvPr/>
          </p:nvSpPr>
          <p:spPr>
            <a:xfrm>
              <a:off x="457200" y="3683880"/>
              <a:ext cx="1550160" cy="441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Learn to use ca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_s64528"/>
            <p:cNvSpPr/>
            <p:nvPr/>
          </p:nvSpPr>
          <p:spPr>
            <a:xfrm>
              <a:off x="2964600" y="3683880"/>
              <a:ext cx="1550160" cy="441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Go to are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_s64540"/>
            <p:cNvSpPr/>
            <p:nvPr/>
          </p:nvSpPr>
          <p:spPr>
            <a:xfrm>
              <a:off x="3965400" y="4345560"/>
              <a:ext cx="2071080" cy="441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Call the owls, do stu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_s64542"/>
            <p:cNvSpPr/>
            <p:nvPr/>
          </p:nvSpPr>
          <p:spPr>
            <a:xfrm>
              <a:off x="5227200" y="5007240"/>
              <a:ext cx="1528200" cy="439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Write out repor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_s64544"/>
            <p:cNvSpPr/>
            <p:nvPr/>
          </p:nvSpPr>
          <p:spPr>
            <a:xfrm>
              <a:off x="5227200" y="5667480"/>
              <a:ext cx="1528200" cy="439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Finish stu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3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fornian FB"/>
                <a:ea typeface="Gulim"/>
              </a:rPr>
              <a:t>Budg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685800" y="1752480"/>
          <a:ext cx="777240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c Budg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8f8f8"/>
                </a:solidFill>
                <a:uFillTx/>
                <a:latin typeface="Tahoma"/>
              </a:rPr>
              <a:t>Category:         </a:t>
            </a:r>
            <a:r>
              <a:rPr b="1" lang="en-US" sz="1600" spc="-1" strike="noStrike">
                <a:solidFill>
                  <a:srgbClr val="f8f8f8"/>
                </a:solidFill>
                <a:latin typeface="Tahoma"/>
              </a:rPr>
              <a:t>             Trip1                     Trip2                          Trip3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Salary/Wages: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Personnel    $5.00hr                       $5.00hr                         $5.00h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                 </a:t>
            </a: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Secretary    $7.00 hr                     $7.00 hr                        $7.00 h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Total:                            $60.00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Expenses:                    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Gas             $20.00                        $20.00                           $20.00  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Food            $10.00                        $10.00                           $10.00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Lodging</a:t>
            </a: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     $0                              $0</a:t>
            </a: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                             $0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Equipment    15.00                         $15.00                           $15.00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Total:                           $135.00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Miscellaneous Supplies Total:  $50.00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ahoma"/>
              </a:rPr>
              <a:t>Grand Total: $245.00 without ta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64ea"/>
                </a:solidFill>
                <a:latin typeface="Tahoma"/>
                <a:ea typeface="Tunga"/>
              </a:rPr>
              <a:t>Data For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urvey done by:</a:t>
            </a:r>
            <a:r>
              <a:rPr b="0" lang="en-US" sz="1200" spc="-1" strike="noStrike">
                <a:solidFill>
                  <a:srgbClr val="f8f8f8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Location of Survey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ahoma"/>
              </a:rPr>
              <a:t> 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Date of Survey</a:t>
            </a:r>
            <a:r>
              <a:rPr b="0" lang="en-US" sz="1200" spc="-1" strike="noStrike">
                <a:solidFill>
                  <a:srgbClr val="f8f8f8"/>
                </a:solidFill>
                <a:latin typeface="Tahoma"/>
              </a:rPr>
              <a:t>    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No. Participants</a:t>
            </a:r>
            <a:r>
              <a:rPr b="0" lang="en-US" sz="1200" spc="-1" strike="noStrike">
                <a:solidFill>
                  <a:srgbClr val="f8f8f8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Time of Survey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No. of owl calls heard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Breed of owl heard (if known)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No. of owls heard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Device used to get owl response</a:t>
            </a:r>
            <a:r>
              <a:rPr b="0" lang="en-US" sz="1200" spc="-1" strike="noStrike">
                <a:solidFill>
                  <a:srgbClr val="f8f8f8"/>
                </a:solidFill>
                <a:latin typeface="Tahoma"/>
              </a:rPr>
              <a:t>                                                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Was Owl Seen Y/N</a:t>
            </a:r>
            <a:r>
              <a:rPr b="0" lang="en-US" sz="1200" spc="-1" strike="noStrike">
                <a:solidFill>
                  <a:srgbClr val="f8f8f8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If seen was picture taken Y/N</a:t>
            </a:r>
            <a:r>
              <a:rPr b="0" lang="en-US" sz="1200" spc="-1" strike="noStrike">
                <a:solidFill>
                  <a:srgbClr val="f8f8f8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Comments:</a:t>
            </a:r>
            <a:r>
              <a:rPr b="0" lang="en-US" sz="1200" spc="-1" strike="noStrike">
                <a:solidFill>
                  <a:srgbClr val="f8f8f8"/>
                </a:solidFill>
                <a:latin typeface="Tahoma"/>
              </a:rPr>
              <a:t>              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093000" y="3405240"/>
            <a:ext cx="1069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59:54Z</dcterms:created>
  <dc:creator>Computer Center</dc:creator>
  <dc:description/>
  <dc:language>en-US</dc:language>
  <cp:lastModifiedBy>Computer Center</cp:lastModifiedBy>
  <dcterms:modified xsi:type="dcterms:W3CDTF">2004-03-10T21:45:53Z</dcterms:modified>
  <cp:revision>7</cp:revision>
  <dc:subject/>
  <dc:title>Is there a population of Barred Owls near Boar’s Hog Gap?</dc:title>
</cp:coreProperties>
</file>