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D45E-AB81-4D5B-9AE3-F06D8A0C5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F316-46B3-4CBA-8310-69F7BDA35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5715-0C37-4E90-AC50-D30712A09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D602-F2A1-45BE-BBDA-F23E69026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35EE8-069B-4E56-B912-F981FF858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5C4D1-09B1-43B1-9095-096FB5BA8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37D0D-FFAC-4164-AB9D-9B49ED0C3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D683B-9A11-4A5E-A17D-292BA4F81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D8969-D292-4FB0-A77B-07B2B6B1A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89ADB-FC36-44CB-85A2-E65D09069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92329-9360-4CDD-B92A-AF1FC454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ECAA-8C34-49EE-8E2D-3C3F18E1F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ABE30-FC1F-428F-BCAF-74FF77D3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54DA8-BDEC-4DD5-A3D6-3B6E2DB8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55D0B-C7FC-40FE-A0AB-2CCDE9C36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8BD8F-53B7-490C-80BF-81A1A8CF8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594F7-F469-4079-A6AD-6BF3E0F9A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CF9F-19C3-4806-B4B8-580228E75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208D-B277-4BA5-99B1-940FABA04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917B-C29F-42D9-B7B4-1648F0240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041C-0304-4A32-849D-D2DA3485E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E606-FE09-4A73-9B4E-661D8B81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BB24-3655-40E8-9D80-944D1688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D139-BC86-44A5-9B80-53D2BAE1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86C69-1A38-4B5B-A221-DB73EB8277C5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B9186-876D-45AF-B6F9-F9E76215BC7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15108-E581-4746-AF2B-D2B528F03A07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67CFE-2813-4068-9B2E-4E5D450931F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hyperlink" Target="http://www.datapilot.com/" TargetMode="External"/><Relationship Id="rId8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usteen </a:t>
            </a:r>
            <a:br>
              <a:rPr sz="5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Pi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32000" y="3429000"/>
            <a:ext cx="743112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review f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val Medical Center San Diego (NMCS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hris Jen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4E631-08A4-41EF-A5C3-DA8C83A0A2A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D131C08-8081-436B-A082-398D8D6E69B7}" type="datetime1">
              <a:rPr lang="en-US"/>
              <a:t>07/29/26</a:t>
            </a:fld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5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5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Main Features of DataPilot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48000" y="1341000"/>
            <a:ext cx="3124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33b1"/>
                </a:solidFill>
                <a:latin typeface="Times New Roman"/>
              </a:rPr>
              <a:t>Uses for NMC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to manage contact inform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Times New Roman"/>
              </a:rPr>
              <a:t>(Time critical inform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endar for special events for Depart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Times New Roman"/>
              </a:rPr>
              <a:t>(Keep all staff up to date on department meetings, events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e phone as a mod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Times New Roman"/>
              </a:rPr>
              <a:t>(Not important but could be usefu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832360" y="1305000"/>
            <a:ext cx="3311640" cy="7365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867280" y="5229360"/>
            <a:ext cx="3276720" cy="6872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5904000" y="4365720"/>
            <a:ext cx="3240000" cy="6793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5940360" y="3573360"/>
            <a:ext cx="3203640" cy="711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5904000" y="2816280"/>
            <a:ext cx="3240000" cy="718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5867280" y="2023920"/>
            <a:ext cx="3276720" cy="72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 Jen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3190-9997-4CF6-B31A-27679AD9BC3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E596E2-7813-4152-893B-2565C2B9C9F4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trength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48000" y="1233000"/>
            <a:ext cx="64008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ng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005c"/>
                </a:solidFill>
                <a:latin typeface="Arial"/>
              </a:rPr>
              <a:t>Keep your staff in sync with the same department and client contact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mlessly transfer data between your mobile phone and PC or P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ily and quickly save, delete, add and update contact information from your PC 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er contact information from one phone to another if you upgrade or lose your 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niently dial up to the Internet from your laptop anytime and anywhere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your contact data conveniently in one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s easily with IR and Bluetooth technolo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 Jen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E913-589F-43A9-B53D-3D148E41358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847D2B-CD83-4174-8A4A-84366AC2DA6B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eaknes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 connectors need for different ph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 license only for one computer. (cant take full advantage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 Jen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C395-9541-44CC-B3D1-905879F5C9D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F5B2B5-AF0D-4C19-BA72-A27FB3C571B8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How Did We Get it Here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592360" y="2781360"/>
            <a:ext cx="1703520" cy="21715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556000" y="1268280"/>
            <a:ext cx="1908000" cy="565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716360" y="1268280"/>
            <a:ext cx="1862280" cy="5511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2592360" y="1989000"/>
            <a:ext cx="1873440" cy="5558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5003640" y="5445000"/>
            <a:ext cx="2232360" cy="6620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2519280" y="5403960"/>
            <a:ext cx="2268720" cy="6728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032360" y="3357720"/>
            <a:ext cx="27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4005c"/>
                </a:solidFill>
                <a:uFillTx/>
                <a:latin typeface="Arial"/>
                <a:ea typeface="Arial"/>
                <a:hlinkClick r:id="rId7"/>
              </a:rPr>
              <a:t>www.datapilot.co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 Jenn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EF9D-6178-41A5-B4BE-A38A42427B3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E80C43-DD81-45F9-A637-BCB73790641D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Recommendation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chase 1 copy of DataPilot for department lapto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(License works on 1 PC, unlimited phon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chase popular phone cables. i.e. (Nokia, SonyEricson, Motorol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 Jen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CB36-D461-4789-8656-7D6CE955AE2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351D1E-4E0E-4E6E-A0F7-B9E45DD9C937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ITS</cp:lastModifiedBy>
  <dcterms:modified xsi:type="dcterms:W3CDTF">2003-11-25T02:02:15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