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B21-D707-4A18-92E4-486615A2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C99-EED0-4865-8F97-C05EB43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18E-CC33-4D06-B48D-72AD04A4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7CE-AFC5-424F-A692-3EBB718C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8F3-72FF-4D03-8E39-B4F1B16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053-0D16-413A-A365-A2128A8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36F-1C0F-4F7F-BB3D-881B9A0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3DB-3401-44C4-BF17-7B6818DF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703-82B1-4D02-A1D6-D139EE4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D1E-F446-4441-9007-626AEF6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595-32E1-424C-8966-FEE44A47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D13-7886-4D55-86FC-F70BD97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BF94-0520-4E9C-8AE1-01DA9C82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3027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24280" y="3049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9:04:50Z</dcterms:created>
  <dc:creator>Admin</dc:creator>
  <dc:description/>
  <dc:language>en-US</dc:language>
  <cp:lastModifiedBy>Admin</cp:lastModifiedBy>
  <dcterms:modified xsi:type="dcterms:W3CDTF">2006-08-16T09:05:08Z</dcterms:modified>
  <cp:revision>1</cp:revision>
  <dc:subject/>
  <dc:title>Slide 1</dc:title>
</cp:coreProperties>
</file>