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C63-B009-40C1-B67E-4D68CAE6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745-947F-4DD1-9478-11A73F58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52F-4736-4B3D-8DF0-0BA1E296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B9A-851A-4D27-BBAF-8561D92A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18D-8EE2-4C52-B064-CA8C2510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669-05EA-49F7-A165-CCF011D5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B36-0324-4CDB-9D42-EA2394C7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B04-AF76-4F51-BB87-85E88007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0CC-36DD-4A62-9937-A348FBA7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D30-039A-40C0-B193-259A1555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F31-3073-4603-A163-248D44DA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5DE-EEEC-42ED-88B5-CAB9C025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02D0-4809-43FA-8E66-615F80666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14.xml"/><Relationship Id="rId8" Type="http://schemas.openxmlformats.org/officeDocument/2006/relationships/slide" Target="slide21.xml"/><Relationship Id="rId9" Type="http://schemas.openxmlformats.org/officeDocument/2006/relationships/slide" Target="slide6.xml"/><Relationship Id="rId10" Type="http://schemas.openxmlformats.org/officeDocument/2006/relationships/slide" Target="slide10.xml"/><Relationship Id="rId11" Type="http://schemas.openxmlformats.org/officeDocument/2006/relationships/slide" Target="slide13.xml"/><Relationship Id="rId12" Type="http://schemas.openxmlformats.org/officeDocument/2006/relationships/slide" Target="slide18.xml"/><Relationship Id="rId13" Type="http://schemas.openxmlformats.org/officeDocument/2006/relationships/slide" Target="slide7.xml"/><Relationship Id="rId14" Type="http://schemas.openxmlformats.org/officeDocument/2006/relationships/slide" Target="slide11.xml"/><Relationship Id="rId15" Type="http://schemas.openxmlformats.org/officeDocument/2006/relationships/slide" Target="slide16.xml"/><Relationship Id="rId16" Type="http://schemas.openxmlformats.org/officeDocument/2006/relationships/slide" Target="slide5.xml"/><Relationship Id="rId17" Type="http://schemas.openxmlformats.org/officeDocument/2006/relationships/slide" Target="slide12.xml"/><Relationship Id="rId18" Type="http://schemas.openxmlformats.org/officeDocument/2006/relationships/slide" Target="slide17.xml"/><Relationship Id="rId19" Type="http://schemas.openxmlformats.org/officeDocument/2006/relationships/slide" Target="slide22.xml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1066680"/>
            <a:ext cx="4800600" cy="36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609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45720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56386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Sarah James and Shannon 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7621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retain the most amount nutrients when cooking vegetables you should do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4290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wait until the water boils to put them in and take them out as soon as they are d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762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are the best sources of prote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3809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legumes, eggs, meats, fish and nu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609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food group provides more energy per gram than prote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572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ats gro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68580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inking this many glasses of water daily decreases the risk of colon cancer by 45% and the risk of breast cancer by 79% and bladder cancer by 50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1911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5 glasses of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7621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percentage of Americans are chronically dehydra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2767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75%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838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e number one trigger of daytime fatig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114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lack of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7621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ld dehydration will slow down one’s metabolism as much 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3657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3%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3200" y="525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7621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37% of Americans this is so weak it is often mistaken for hu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36576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thirst mechanis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1430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percentage of Americans are considered obe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3809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25%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09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recent study shows that teenagers take in 9% of their calories from this sour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8862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soft drin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00280" y="380880"/>
          <a:ext cx="7543800" cy="625320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tamins and Miner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ood Guide Pyram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6858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6094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0-80% of weight control is determined by this while only 20-30% is controlled by exercis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114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food inta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6094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ter, margarine and vegetable oil should be replaced with these when pos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962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olive oil, canola oil and peanut oi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53352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the nation’s largest casket company they saw a 20% increase in this in the last 5 y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4956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sales of oversized coffi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533520"/>
            <a:ext cx="754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572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2193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food group is the best source of calci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581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dairy group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7920" y="838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are some effects of iodine deficien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733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goiters, creatism, and mental retard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7621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vitamins can slow the progression of age-related macular degene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8862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beta carotene, vitamin C, vitamin E and zin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685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gnant women should make sure they get enough of this vitamin of this to prevent spina bifi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809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folic aci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7621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vitamins help to lower the homocysteine levels and may reduce heart disease and stroke ris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962520"/>
            <a:ext cx="6858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vitamin 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vitamin 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83808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ood Guide Pyramid recommends you eat 3-5 servings of this a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267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fruits and vegetab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85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are good sources of fi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5053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vegetables, beans, whole grains, and fru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5715000"/>
            <a:ext cx="1218960" cy="0"/>
          </a:xfrm>
          <a:prstGeom prst="line">
            <a:avLst/>
          </a:prstGeom>
          <a:ln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16:05:52Z</dcterms:created>
  <dc:creator>class</dc:creator>
  <dc:description/>
  <dc:language>en-US</dc:language>
  <cp:lastModifiedBy>class</cp:lastModifiedBy>
  <dcterms:modified xsi:type="dcterms:W3CDTF">2003-02-06T16:32:23Z</dcterms:modified>
  <cp:revision>4</cp:revision>
  <dc:subject/>
  <dc:title>Slide 1</dc:title>
</cp:coreProperties>
</file>