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540-B397-42DB-8103-768CF4A2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BEB5-802F-44D4-A230-9B09566A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E72-60F4-4DB6-9CEA-9D8AED36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08B-DD86-41DD-97C8-1F820D9B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9D3-D339-4645-8141-895F4227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E52-ACE9-4CC6-95DD-89A97E8E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788B-EE98-49A0-8496-29D0BE0F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E92-0B33-4432-A742-506F2836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3AA-233F-4283-9532-5E42C88E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F02-A655-4B82-8863-14A09426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255-A0CB-45F3-A586-F014830F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8AF6-F73E-4B9B-BECE-34FF7E3B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027C-DAE8-445C-BE5F-A7F29B7DA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audio" Target="file:///tmp/home/.config/libreoffice/4/user/gallery/JAWS2.WAV" TargetMode="External"/><Relationship Id="rId10" Type="http://schemas.microsoft.com/office/2007/relationships/media" Target="file:///tmp/home/.config/libreoffice/4/user/gallery/JAWS2.WAV" TargetMode="External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2938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90800" cy="2971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2921040"/>
            <a:ext cx="3962520" cy="3936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029200" y="41148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267080" y="304920"/>
            <a:ext cx="4876920" cy="36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895480" y="1828800"/>
            <a:ext cx="3124440" cy="2508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133720" y="304920"/>
            <a:ext cx="46479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o Is at Risk?!!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895480"/>
            <a:ext cx="61722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Lighter Natural Skin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amily History of Skin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ersonal History of Skin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Constant Exposure to the sun through work and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 History of sunburns early i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kin that freckles, gets red easily, or painful in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Blue or Green eyes, blond or red 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Certain types of moles and a large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66880" y="990720"/>
            <a:ext cx="34671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Who Is at Risk?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246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746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246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746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246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746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746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746"/>
                            </p:stCondLst>
                            <p:childTnLst>
                              <p:par>
                                <p:cTn id="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1:06:14Z</dcterms:created>
  <dc:creator>AccessPoint Lab Image</dc:creator>
  <dc:description/>
  <dc:language>en-US</dc:language>
  <cp:lastModifiedBy>class</cp:lastModifiedBy>
  <dcterms:modified xsi:type="dcterms:W3CDTF">2003-02-11T16:13:05Z</dcterms:modified>
  <cp:revision>4</cp:revision>
  <dc:subject/>
  <dc:title>Slide 1</dc:title>
</cp:coreProperties>
</file>