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0A3-2BFF-478F-AFDB-52012319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7C3-2613-4138-ABF3-AB322313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578-44BB-423E-A945-0DD6847D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E32-3124-4CA1-A250-48CE5F75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6CE-CBDD-49B6-BDED-6185A3FD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65C-63A1-4FA9-9A94-9344A491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E58-E033-4F55-8B56-98CFE813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9D1-5F22-4AA4-8ECC-5788E632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D06-07D1-414C-908B-07630BDD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AB7-1A86-418C-AAC0-1F3BCD3D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115-2473-408D-B025-F9CE265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834-5B3F-438A-AD11-E2487F9F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E53E-F922-4C98-A527-6C452FAE4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audio" Target="file:///tmp/home/.config/libreoffice/4/user/gallery/SNLpumpyouup.wav" TargetMode="External"/><Relationship Id="rId7" Type="http://schemas.microsoft.com/office/2007/relationships/media" Target="file:///tmp/home/.config/libreoffice/4/user/gallery/SNLpumpyouup.wav" TargetMode="External"/><Relationship Id="rId8" Type="http://schemas.openxmlformats.org/officeDocument/2006/relationships/image" Target="../media/image6.png"/><Relationship Id="rId9" Type="http://schemas.openxmlformats.org/officeDocument/2006/relationships/audio" Target="file:///tmp/home/.config/libreoffice/4/user/gallery/beat%20it%20michael%20jackson.wav" TargetMode="External"/><Relationship Id="rId10" Type="http://schemas.microsoft.com/office/2007/relationships/media" Target="file:///tmp/home/.config/libreoffice/4/user/gallery/beat%20it%20michael%20jackson.wav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2716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43840" y="0"/>
            <a:ext cx="2000160" cy="38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44152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400800" y="4589640"/>
            <a:ext cx="2743200" cy="226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0" y="685800"/>
            <a:ext cx="495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Forte"/>
              </a:rPr>
              <a:t>Be Sun Sma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1828800"/>
            <a:ext cx="3429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o not sunba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void sun exposure from 10 am to 4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When outdoors use sunscreen with SPH 15 or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Wear protective clothing:  long pants, long-sleeved shirts, broad-brimmed hats, UV-protective sung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 skin head to toe once every three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14670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499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999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999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499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499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999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6 -3.05273E-006 C 0.00122 0.01526 0.00295 0.02983 0.00469 0.04486 C 0.00382 0.12049 0.00538 0.19958 -0.00608 0.27451 C -0.00851 0.33904 -0.00642 0.29325 -0.0092 0.33811 C -0.01024 0.35523 -0.01233 0.38945 -0.01233 0.38945 C -0.0118 0.47178 -0.0118 0.55458 -0.01076 0.63737 C -0.01059 0.6487 -0.00278 0.66859 0.00313 0.67622 C 0.00556 0.68871 0.01181 0.70143 0.01997 0.70906 C 0.02309 0.72109 0.03108 0.72965 0.04011 0.73335 C 0.0533 0.74537 0.06441 0.75277 0.08004 0.75809 C 0.09115 0.76804 0.10486 0.76341 0.11702 0.75809 C 0.12083 0.75416 0.12552 0.75185 0.12934 0.74769 C 0.13611 0.74005 0.13906 0.7278 0.14462 0.71901 C 0.15052 0.70999 0.15208 0.71161 0.15695 0.70097 C 0.15886 0.69634 0.15972 0.69103 0.16163 0.6864 C 0.16337 0.68293 0.1658 0.67969 0.16771 0.67622 C 0.17795 0.65541 0.17049 0.66859 0.17691 0.65356 C 0.18038 0.64523 0.18767 0.62928 0.18767 0.62928 C 0.1908 0.61309 0.19358 0.59644 0.2 0.5821 C 0.20573 0.5518 0.19688 0.59597 0.20469 0.56545 C 0.20608 0.5599 0.20747 0.54278 0.20781 0.53885 C 0.20729 0.49607 0.20712 0.45282 0.20625 0.40957 C 0.20469 0.33672 0.19531 0.26272 0.18924 0.19056 C 0.18976 0.15171 0.18993 0.11263 0.1908 0.07377 C 0.19132 0.05342 0.19184 0.06568 0.19392 0.05319 C 0.19931 0.02174 0.20625 -0.00833 0.21389 -0.03885 C 0.21528 -0.04394 0.21997 -0.06661 0.22309 -0.06961 C 0.22865 -0.07493 0.24149 -0.07655 0.24774 -0.07794 C 0.25452 -0.07701 0.26215 -0.07886 0.26771 -0.07378 C 0.27014 -0.07146 0.2717 -0.06799 0.27396 -0.06568 C 0.27691 -0.06267 0.28316 -0.05736 0.28316 -0.05736 C 0.28698 -0.04972 0.2934 -0.04464 0.29705 -0.03677 C 0.29965 -0.03145 0.30139 -0.02521 0.30469 -0.02058 C 0.30764 -0.01665 0.31458 -0.00856 0.31702 -0.00208 C 0.32708 0.02498 0.33212 0.05828 0.33542 0.08788 C 0.33594 0.09898 0.33698 0.11008 0.33698 0.12095 C 0.33802 0.25832 0.33698 0.39523 0.33854 0.53261 C 0.33872 0.55597 0.34757 0.57493 0.35087 0.59644 C 0.35434 0.6191 0.36111 0.64431 0.37083 0.66397 C 0.37465 0.6716 0.37969 0.67831 0.38316 0.6864 C 0.38837 0.69866 0.39288 0.71716 0.40156 0.72525 C 0.40833 0.7389 0.4 0.72525 0.41077 0.73335 C 0.41267 0.73473 0.41372 0.73797 0.41545 0.73959 C 0.41736 0.74144 0.41945 0.74237 0.42153 0.74375 C 0.42691 0.75416 0.44149 0.76295 0.45087 0.76619 C 0.46389 0.77521 0.46424 0.7722 0.48316 0.77035 C 0.48802 0.76804 0.49115 0.76711 0.49549 0.76226 C 0.5 0.75763 0.50781 0.74584 0.50781 0.74584 C 0.51406 0.72803 0.50625 0.74769 0.51858 0.72757 C 0.5224 0.72109 0.52899 0.70236 0.53073 0.69449 C 0.53142 0.69149 0.53177 0.68779 0.53229 0.68432 C 0.53333 0.67877 0.53542 0.66813 0.53542 0.66813 C 0.54063 0.59158 0.5467 0.5074 0.52934 0.43247 C 0.52882 0.41813 0.52865 0.40379 0.52778 0.38945 C 0.52622 0.36424 0.5191 0.33881 0.51702 0.31337 C 0.51545 0.29556 0.51528 0.27613 0.5092 0.25994 C 0.50781 0.24098 0.50469 0.22202 0.50313 0.20259 C 0.50052 0.17114 0.50399 0.18756 0.49844 0.16582 C 0.49705 0.145 0.49618 0.12303 0.49236 0.10245 C 0.49115 0.08881 0.48924 0.0673 0.48924 0.05504 C 0.48924 0.03399 0.4816 0.00555 0.49392 -0.0081 C 0.50313 -0.01827 0.51927 -0.02359 0.53073 -0.0266 C 0.53281 -0.02798 0.5349 -0.0296 0.53698 -0.03076 C 0.53993 -0.03238 0.54618 -0.03492 0.54618 -0.03492 C 0.55226 -0.03423 0.55868 -0.03515 0.56458 -0.03284 C 0.56823 -0.03145 0.57049 -0.02637 0.57396 -0.02452 C 0.58629 -0.01804 0.5934 -0.00971 0.60313 0.00208 C 0.6066 0.00624 0.61042 0.00994 0.61389 0.01434 C 0.62066 0.02289 0.62726 0.03214 0.63386 0.0407 C 0.64705 0.05828 0.65608 0.08187 0.66615 0.10245 C 0.66892 0.11725 0.67222 0.1302 0.67396 0.14547 C 0.67327 0.20398 0.67622 0.27544 0.66458 0.33603 C 0.66406 0.34297 0.66372 0.34967 0.6632 0.35638 C 0.66163 0.37581 0.65851 0.41397 0.65851 0.41397 C 0.65729 0.4475 0.65538 0.49029 0.65538 0.52266 C 0.65538 0.58464 0.63958 0.66628 0.66927 0.7234 C 0.67205 0.73427 0.66858 0.72618 0.67691 0.7315 C 0.6875 0.73844 0.68906 0.74283 0.70156 0.74584 C 0.70417 0.74653 0.7066 0.74699 0.7092 0.74769 C 0.71337 0.74907 0.72153 0.75185 0.72153 0.75185 C 0.7309 0.75092 0.74097 0.75324 0.74931 0.74769 C 0.76267 0.7389 0.77049 0.72109 0.78316 0.71091 C 0.78785 0.70259 0.79358 0.69588 0.79705 0.6864 C 0.8 0.67831 0.80035 0.66952 0.80313 0.66165 C 0.8132 0.63251 0.80851 0.65055 0.81233 0.63506 C 0.81458 0.60361 0.81597 0.57215 0.81858 0.5407 C 0.82101 0.51179 0.82083 0.48612 0.82778 0.45906 C 0.83056 0.42137 0.83368 0.38413 0.83542 0.34644 C 0.83629 0.22363 0.82917 0.12095 0.85243 0.00809 C 0.85573 -0.00786 0.8559 -0.02382 0.86163 -0.03885 C 0.86372 -0.05088 0.86667 -0.06013 0.86927 -0.07169 C 0.87014 -0.07586 0.8724 -0.08395 0.8724 -0.08395 E">
                                      <p:cBhvr>
                                        <p:cTn id="35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"/>
                </p:tgtEl>
              </p:cMediaNode>
            </p:audio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0:39:54Z</dcterms:created>
  <dc:creator>AccessPoint Lab Image</dc:creator>
  <dc:description/>
  <dc:language>en-US</dc:language>
  <cp:lastModifiedBy>class</cp:lastModifiedBy>
  <dcterms:modified xsi:type="dcterms:W3CDTF">2003-02-11T17:21:24Z</dcterms:modified>
  <cp:revision>4</cp:revision>
  <dc:subject/>
  <dc:title>Slide 1</dc:title>
</cp:coreProperties>
</file>