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wmf" ContentType="image/x-wmf"/>
  <Override PartName="/ppt/media/image3.wmf" ContentType="image/x-wmf"/>
  <Override PartName="/ppt/media/image4.wmf" ContentType="image/x-wmf"/>
  <Override PartName="/ppt/media/image28.wmf" ContentType="image/x-wmf"/>
  <Override PartName="/ppt/media/image30.png" ContentType="image/png"/>
  <Override PartName="/ppt/media/image42.wmf" ContentType="image/x-wmf"/>
  <Override PartName="/ppt/media/image9.png" ContentType="image/png"/>
  <Override PartName="/ppt/media/image38.jpeg" ContentType="image/jpeg"/>
  <Override PartName="/ppt/media/image34.png" ContentType="image/png"/>
  <Override PartName="/ppt/media/image17.wmf" ContentType="image/x-wmf"/>
  <Override PartName="/ppt/media/image1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3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8.wmf" ContentType="image/x-wmf"/>
  <Override PartName="/ppt/media/image40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11.wmf" ContentType="image/x-wmf"/>
  <Override PartName="/ppt/media/image44.gif" ContentType="image/gif"/>
  <Override PartName="/ppt/media/image37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C43-1E21-40C0-9896-8FEE6A8B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4FA-E1EA-4004-BC2F-1B9C927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EB9-B701-467A-B86A-C84DA9D4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BCF-7302-41E5-8FA8-16EF3F50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2D2-9F08-4364-B672-D7D6EA18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985-B226-4612-886D-810862FA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D80-81AF-464C-8C34-20D59B7E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6D5-0AAA-4333-814E-4D2C841D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554-E555-4815-8884-DE00A433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9D4-4836-42EB-9FE0-42E86557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52A-2359-432C-B9D4-6F6585D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7B1-7755-4E1E-ADCE-09F5AB7E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773A-08E9-45AA-8CBE-5871D3C8E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rcrash.wav" TargetMode="External"/><Relationship Id="rId2" Type="http://schemas.microsoft.com/office/2007/relationships/media" Target="file:///tmp/home/.config/libreoffice/4/user/gallery/carcrash.wav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27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gi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ourdrinkice.wav" TargetMode="External"/><Relationship Id="rId2" Type="http://schemas.microsoft.com/office/2007/relationships/media" Target="file:///tmp/home/.config/libreoffice/4/user/gallery/pourdrinkice.wav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groan2.wav" TargetMode="External"/><Relationship Id="rId2" Type="http://schemas.microsoft.com/office/2007/relationships/media" Target="file:///tmp/home/.config/libreoffice/4/user/gallery/groan2.wav" TargetMode="External"/><Relationship Id="rId3" Type="http://schemas.openxmlformats.org/officeDocument/2006/relationships/image" Target="../media/image9.png"/><Relationship Id="rId4" Type="http://schemas.openxmlformats.org/officeDocument/2006/relationships/audio" Target="file:///tmp/home/.config/libreoffice/4/user/gallery/giddylaugh.wav" TargetMode="External"/><Relationship Id="rId5" Type="http://schemas.microsoft.com/office/2007/relationships/media" Target="file:///tmp/home/.config/libreoffice/4/user/gallery/giddylaugh.wav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omancry.wav" TargetMode="External"/><Relationship Id="rId2" Type="http://schemas.microsoft.com/office/2007/relationships/media" Target="file:///tmp/home/.config/libreoffice/4/user/gallery/womancry.wav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676520"/>
            <a:ext cx="8001000" cy="23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lcohol and Health Car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46483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ah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95288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60948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ence on alcohol and other drugs is also associated with psychiatric problems such as depression, anxiety, oppositional defiant disorder or antisocial personality diso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80880" y="3505320"/>
            <a:ext cx="1363680" cy="1861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057400" y="4648320"/>
            <a:ext cx="159228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4343400" y="4038480"/>
            <a:ext cx="1709640" cy="1606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629400" y="3886200"/>
            <a:ext cx="21765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72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533520"/>
            <a:ext cx="723888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Alcohol Abu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alcoholism, alcohol abuse does not include an extremely strong craving for alcohol, loss of control over drinking, or physical dependence.  It is a pattern of drinking that results in one or more of the following situations within a 12-month peri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213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9320" y="762120"/>
            <a:ext cx="647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 to fulfill major work, school, or home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2514600" cy="2235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9480" y="3352680"/>
            <a:ext cx="2200320" cy="3048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505320" y="3733920"/>
            <a:ext cx="20397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685800"/>
            <a:ext cx="7238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nking in situations that are physically dangerous, such as while driving a car or operating machin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2362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6748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6094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recurring alcohol-related legal problems, such as being arrested for driving under the influence of alcohol or for physically hurting someone while dr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486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0.7 -7.40741E-007 E">
                                      <p:cBhvr>
                                        <p:cTn id="14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762120"/>
            <a:ext cx="723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 drinking despite having ongoing relationship problems that are caused or worsened by the dr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8120" y="3611520"/>
            <a:ext cx="297180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43800" y="129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1828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Related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666880"/>
            <a:ext cx="79250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s down brain activity affecting alertness, judgment, coordination, and reaction time, increasing chance accidents such as falls, drowning, burns, and f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er the BAC (Blood Alcohol Content) the greater the risk of single-vehicle fatal cr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 limit for most adults who drive after drinking at 0.08 percent but drinking skills are affected at much lower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086600" y="152280"/>
            <a:ext cx="1709640" cy="2210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362320" y="30492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quenc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2133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959"/>
                            </p:stCondLst>
                            <p:childTnLst>
                              <p:par>
                                <p:cTn id="1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959"/>
                            </p:stCondLst>
                            <p:childTnLst>
                              <p:par>
                                <p:cTn id="1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295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304920"/>
            <a:ext cx="754380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 With Medic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ing medication and alcohol can cause problems such as drowsiness, increasing the chance for accident, serious liver damage, and de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150 medications should not be mixed with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1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0080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43000" y="4419720"/>
            <a:ext cx="1550880" cy="2057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038480" y="4724280"/>
            <a:ext cx="99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095880" y="4343400"/>
            <a:ext cx="17780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8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797360" cy="6477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cohol-Related Birth Defec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 alcohol while pregnant can cause a variety of birth defects including fetal alcohol syndrome (FAS).  Children with FAS have severe physical, mental, and behavior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exposed to alcohol before birth significantly increases the risk for lifelong learning and behavior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33526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guments with or separation from spouse and other family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90560" cy="191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cial and Legal Probl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533520"/>
            <a:ext cx="5715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any who drink alcohol, it is a pleasant accompaniment to social activities.  Moderate drinking or up to 2 drinks a day for men and 1 drink a day for women, is not harmful to most adults.  The problem comes when alcohol is abused which can lead to seriou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425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30481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s of employment due to decreased pro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9907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ned relationships with cowor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UTurnArrow"/>
          <p:cNvSpPr/>
          <p:nvPr/>
        </p:nvSpPr>
        <p:spPr>
          <a:xfrm>
            <a:off x="6781680" y="4267080"/>
            <a:ext cx="1771920" cy="177192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0" y="1828800"/>
          <a:ext cx="9039240" cy="40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03924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133720" y="45720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cohol Plays a Role in _____% o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45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952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720" y="3808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-Term Health Problem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371600"/>
            <a:ext cx="77724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permanently damages the brain and central nervous system as well as the heart, liver, kidneys, stomach, and panc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ly increases the risk of cancer of the esophagus, mouth, throat, larynx, colon, rectum, and breast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838080" y="5257800"/>
            <a:ext cx="138456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505320" y="5241960"/>
            <a:ext cx="1523880" cy="142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324480" y="522432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2514600" y="1143000"/>
            <a:ext cx="38098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2746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746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5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0948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forgetfulness and confusion, which may seem like Alzheimer’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may develop alcohol-related health problems sooner than men, even when they drink less alcohol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18576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6094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609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Be D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523880"/>
            <a:ext cx="77724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education of the effects of alcohol, laws and policies against the use of alcohol, identifying alcohol abuse and alcoholism at earlier stages will b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prevent alcoho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AAA (National Institute on Alcohol Abuse and Alcoholism), National Institutes of Health, and U.S. Department of Health and Human Services are sponsoring promising research in vital a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seling, therapy, and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ics Anonym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A) provide help and recovery for alcohol abusers and alcoho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133280" cy="152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914400" y="3049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528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14 million Americans-1 in every 13 adults-abuse alcohol or are alcohol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million more adults engage in risky drinking (binge drinking, heavy drinking etc.) that could lead to alcohol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808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t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1230480" cy="182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400800" y="3048120"/>
            <a:ext cx="2193840" cy="34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505320" y="4114800"/>
            <a:ext cx="17888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31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3049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Young Drink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447920"/>
            <a:ext cx="739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Over three million teenagers are out-and-out alcoholics.  Several million more have a serious drinking problem that they cannot manage on their own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73284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  <a:ea typeface="SimSun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  <a:ea typeface="SimSun"/>
              </a:rPr>
              <a:t>The three leading causes for death in 15-24 year olds are automobile crashes, homicides and suicides and alcohol is a leading factor in all three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80880" y="990720"/>
          <a:ext cx="812484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1248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57200" y="457200"/>
            <a:ext cx="80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of High School Seniors That Have Drunk Alcohol at Leas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487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523880"/>
            <a:ext cx="77724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1 per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llege students met criteria for a diagnosi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ab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per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diagnosi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ast 12 months, according to questionnaire-based self-reports about their dr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28600" y="152280"/>
            <a:ext cx="15494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5.55556E-006 C 0.00173 0.04166 0.00573 0.06689 0.01441 0.10532 C 0.01684 0.11597 0.01614 0.12152 0.01771 0.13333 C 0.02031 0.15347 0.02535 0.1736 0.02899 0.19351 C 0.03351 0.26874 0.02795 0.17013 0.03212 0.34189 C 0.03281 0.36851 0.0408 0.39652 0.0467 0.42152 C 0.05521 0.45786 0.05746 0.49629 0.06285 0.53333 C 0.06788 0.6037 0.07326 0.67476 0.08385 0.74397 C 0.08732 0.76712 0.08889 0.78842 0.09514 0.81064 C 0.10069 0.79953 0.10607 0.7861 0.11441 0.77847 C 0.11632 0.77152 0.12257 0.75902 0.12257 0.75902 C 0.12309 0.75694 0.12344 0.75462 0.12413 0.75277 C 0.125 0.75046 0.12673 0.7486 0.12743 0.74629 C 0.1283 0.74351 0.12795 0.74027 0.12899 0.73772 C 0.13073 0.7331 0.13541 0.72476 0.13541 0.72476 C 0.13698 0.71435 0.13854 0.7081 0.14184 0.69884 C 0.14531 0.68935 0.14548 0.67962 0.15 0.67106 C 0.15278 0.65972 0.15399 0.64953 0.15798 0.63865 C 0.15989 0.62615 0.16337 0.61342 0.16771 0.60208 C 0.16962 0.58935 0.17396 0.57962 0.17743 0.56782 C 0.18351 0.54745 0.18524 0.52615 0.19028 0.50532 C 0.19271 0.48101 0.19531 0.45578 0.2 0.43217 C 0.20312 0.39698 0.2092 0.36203 0.21285 0.32685 C 0.21406 0.29166 0.21458 0.25416 0.22083 0.21944 C 0.22239 0.1949 0.22482 0.1699 0.23055 0.14629 C 0.23351 0.16272 0.23472 0.18147 0.24184 0.1956 C 0.24427 0.20555 0.24583 0.21573 0.24826 0.22569 C 0.24965 0.23842 0.25243 0.24999 0.25486 0.26226 C 0.25677 0.2861 0.26285 0.30786 0.26614 0.33124 C 0.2691 0.35277 0.2717 0.37499 0.27743 0.3956 C 0.27882 0.40717 0.2816 0.41458 0.28385 0.42569 C 0.28472 0.43009 0.28594 0.43425 0.28698 0.43865 C 0.2875 0.44073 0.28871 0.44513 0.28871 0.44513 C 0.29357 0.48518 0.30451 0.52384 0.31128 0.56342 C 0.31302 0.57337 0.31562 0.58356 0.31771 0.59351 C 0.31857 0.59791 0.31979 0.60208 0.32083 0.60647 C 0.32135 0.60856 0.32257 0.61296 0.32257 0.61296 C 0.3243 0.62985 0.3276 0.64235 0.33212 0.6581 C 0.33628 0.67291 0.33923 0.68842 0.3434 0.70323 C 0.34774 0.71828 0.3493 0.73379 0.35486 0.74837 C 0.35972 0.77546 0.35573 0.75578 0.36128 0.77847 C 0.36406 0.78981 0.36285 0.79652 0.37083 0.79999 C 0.37795 0.78147 0.38246 0.76249 0.38541 0.74189 C 0.38871 0.67013 0.38767 0.59837 0.3934 0.52685 C 0.39514 0.47962 0.39705 0.43217 0.4 0.38495 C 0.40278 0.34004 0.40399 0.2905 0.41441 0.24722 C 0.41979 0.26735 0.41041 0.23101 0.41771 0.27106 C 0.41823 0.27407 0.41996 0.27661 0.42083 0.27962 C 0.42205 0.28379 0.42344 0.28796 0.42413 0.29235 C 0.42743 0.31064 0.43229 0.33078 0.44028 0.34629 C 0.44965 0.38518 0.45972 0.42337 0.46927 0.46226 C 0.47378 0.48101 0.47552 0.50393 0.48385 0.52036 C 0.48489 0.52777 0.48576 0.53726 0.48871 0.54397 C 0.49062 0.54837 0.49514 0.55694 0.49514 0.55694 C 0.5 0.57731 0.50486 0.59745 0.51128 0.61712 C 0.51406 0.62546 0.51371 0.6331 0.51771 0.64097 C 0.52101 0.65902 0.52639 0.67546 0.53212 0.69235 C 0.53576 0.70347 0.53663 0.71573 0.54028 0.72685 C 0.54357 0.73703 0.54774 0.74583 0.55 0.75694 C 0.55625 0.75161 0.55781 0.74652 0.56128 0.73772 C 0.55694 0.71573 0.56423 0.69444 0.56771 0.67314 C 0.5684 0.66897 0.5684 0.66435 0.56927 0.66018 C 0.57014 0.65578 0.57257 0.64722 0.57257 0.64722 C 0.575 0.628 0.58038 0.61018 0.58385 0.59143 C 0.5868 0.57522 0.59219 0.55995 0.59514 0.54397 C 0.59896 0.52314 0.59653 0.53217 0.60156 0.5162 C 0.60729 0.47661 0.61823 0.43842 0.62743 0.39999 C 0.63351 0.37476 0.6375 0.34837 0.6467 0.32476 C 0.64826 0.31643 0.65121 0.3111 0.65312 0.30323 C 0.65677 0.31041 0.65729 0.31689 0.65955 0.32476 C 0.66493 0.34397 0.66875 0.36597 0.67743 0.38286 C 0.68021 0.39814 0.68194 0.41481 0.68871 0.428 C 0.70104 0.47939 0.71076 0.5324 0.72083 0.58495 C 0.72448 0.6037 0.72899 0.62198 0.73212 0.64097 C 0.73333 0.6486 0.73541 0.65439 0.73541 0.66226 E">
                                      <p:cBhvr>
                                        <p:cTn id="48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7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27272" t="0" r="0" b="1750"/>
          <a:stretch/>
        </p:blipFill>
        <p:spPr>
          <a:xfrm>
            <a:off x="609480" y="57240"/>
            <a:ext cx="8001000" cy="680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1371600"/>
            <a:ext cx="80010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Alcoholism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coholism: a disease (“alcohol dependence”) that includes four symptom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0102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848720" y="1066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15238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aving:  A strong need, or compulsion, to d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s of control:  The inability to limit one’s drinking on any given occa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6553080" y="4495680"/>
            <a:ext cx="1197000" cy="183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238880" y="228600"/>
            <a:ext cx="159084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0" y="4191120"/>
            <a:ext cx="2027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45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456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8.14815E-006 C 0.01563 -0.00186 0.02952 -0.00649 0.04514 -0.00857 C 0.04948 -0.00996 0.054 -0.00996 0.05799 -0.01274 C 0.07223 -0.02246 0.08872 -0.04515 0.1 -0.06019 C 0.10539 -0.06737 0.11077 -0.07848 0.11771 -0.08172 C 0.11719 -0.0838 0.11493 -0.08635 0.11598 -0.0882 C 0.11945 -0.09468 0.12535 -0.09653 0.13056 -0.09885 C 0.14427 -0.11112 0.14966 -0.10464 0.17084 -0.10325 C 0.18195 -0.09931 0.1908 -0.09098 0.20157 -0.08589 C 0.21268 -0.06644 0.20764 -0.07385 0.21598 -0.06227 C 0.21893 -0.05116 0.22118 -0.04422 0.22257 -0.03218 C 0.22171 -0.01806 0.22535 -0.00024 0.21441 0.00439 C 0.20278 0.0199 0.19184 0.01226 0.17414 0.01087 C 0.15886 0.0037 0.14879 -0.00996 0.14341 -0.0301 C 0.14445 -0.05024 0.14289 -0.08241 0.16129 -0.09028 C 0.16875 -0.10579 0.18716 -0.10857 0.2 -0.11181 C 0.21268 -0.11112 0.22587 -0.11135 0.23872 -0.10973 C 0.25035 -0.10834 0.26268 -0.10047 0.27414 -0.09677 C 0.29618 -0.09746 0.31823 -0.09746 0.34028 -0.09885 C 0.34827 -0.09931 0.35782 -0.10672 0.36598 -0.10973 C 0.38507 -0.12431 0.39341 -0.15649 0.40469 -0.18056 C 0.40677 -0.19584 0.40973 -0.21019 0.41129 -0.2257 C 0.41077 -0.23658 0.41233 -0.24815 0.40955 -0.25811 C 0.40868 -0.26112 0.39046 -0.27593 0.38698 -0.27732 C 0.38212 -0.27663 0.37726 -0.27709 0.37257 -0.27524 C 0.3665 -0.27269 0.36216 -0.26135 0.35799 -0.25579 C 0.35608 -0.24862 0.35469 -0.24306 0.35157 -0.23658 C 0.35018 -0.22709 0.34844 -0.21783 0.34671 -0.20857 C 0.34757 -0.18265 0.34549 -0.11343 0.36285 -0.09028 C 0.36563 -0.07871 0.36302 -0.08519 0.37414 -0.07524 C 0.38716 -0.06366 0.40035 -0.05903 0.41598 -0.05579 C 0.42865 -0.05765 0.44098 -0.05927 0.45313 -0.06436 C 0.45973 -0.07107 0.46754 -0.07501 0.47396 -0.08172 C 0.48577 -0.09399 0.4974 -0.11089 0.50643 -0.12686 C 0.52066 -0.15209 0.54254 -0.20348 0.56598 -0.21505 C 0.57327 -0.22477 0.58212 -0.22524 0.59184 -0.22802 C 0.60955 -0.23311 0.62691 -0.23681 0.64514 -0.23866 C 0.65903 -0.23797 0.67309 -0.23936 0.68698 -0.23658 C 0.69358 -0.23519 0.70816 -0.2213 0.71441 -0.21714 C 0.72431 -0.19769 0.71094 -0.22107 0.72257 -0.20857 C 0.72414 -0.20695 0.72431 -0.20394 0.7257 -0.20209 C 0.72709 -0.20024 0.729 -0.19908 0.73056 -0.19769 C 0.73855 -0.18241 0.75 -0.172 0.75643 -0.15487 C 0.76077 -0.14329 0.76493 -0.13172 0.7691 -0.12038 C 0.77552 -0.10417 0.77743 -0.08519 0.78386 -0.06876 C 0.78681 -0.04121 0.7875 -0.0345 0.78542 -8.14815E-006 C 0.78507 0.00532 0.779 0.01874 0.77726 0.01944 C 0.76719 0.02268 0.77309 0.02106 0.75955 0.0236 C 0.75365 0.02291 0.74757 0.02384 0.74184 0.02152 C 0.72796 0.0162 0.72309 -0.00579 0.71927 -0.02153 C 0.72136 -0.04399 0.71841 -0.0382 0.73212 -0.04306 C 0.7382 -0.0419 0.74532 -0.04376 0.75 -0.03866 C 0.7533 -0.03519 0.75504 -0.02964 0.75799 -0.0257 C 0.75973 -0.01065 0.75955 -0.01714 0.75955 -0.00649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456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43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d4d4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34340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60948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ependence:  Withdrawal symptoms, such as nausea,  sweating, shakiness, and anxiety, occur when alcohol use is stopped after a period of heavy dr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:  The need to drink greater amounts of alcohol in order to “get hig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971800" y="4343400"/>
            <a:ext cx="29718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61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00:20:28Z</dcterms:created>
  <dc:creator>HHPS</dc:creator>
  <dc:description/>
  <dc:language>en-US</dc:language>
  <cp:lastModifiedBy>class</cp:lastModifiedBy>
  <dcterms:modified xsi:type="dcterms:W3CDTF">2003-04-03T18:16:02Z</dcterms:modified>
  <cp:revision>11</cp:revision>
  <dc:subject/>
  <dc:title>Slide 1</dc:title>
</cp:coreProperties>
</file>