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2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63A5-9C19-4CC9-9A1D-56EC2B6F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615-3E1B-4051-8219-B6A8A912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9B1-FEEA-41E5-89C5-47B3BE06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195-832E-4131-A605-89AC8F16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4D8-BDD5-4B10-B678-0143C529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B5F-5922-4862-AE7C-890EC360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FD0-D951-492E-8FF1-F940924E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C15-FA23-4F0F-9EEB-B3ED9625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570-8B42-494E-9B54-EBAAD160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81A-3544-4D25-A4A8-12D8EAF7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B7C-E90E-46DD-8A7E-23EC59E4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AD9-B9FA-4498-ADD4-4B1F5463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17D6-5698-43FE-9FD9-8186A2BE5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4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6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7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9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0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2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24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5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26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7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2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29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30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3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3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34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5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36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37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3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39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40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4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4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4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44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45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46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7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4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49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50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5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5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5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54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55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56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57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5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59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6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60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6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6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6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64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65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66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67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6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69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70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7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7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7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74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75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76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77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7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79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9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09:59:38Z</dcterms:created>
  <dc:creator>אנואר</dc:creator>
  <dc:description/>
  <dc:language>en-US</dc:language>
  <cp:lastModifiedBy>אנואר</cp:lastModifiedBy>
  <dcterms:modified xsi:type="dcterms:W3CDTF">2002-12-30T15:42:08Z</dcterms:modified>
  <cp:revision>23</cp:revision>
  <dc:subject/>
  <dc:title>PowerPoint Presentation</dc:title>
</cp:coreProperties>
</file>