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8B71-4B2E-4EB7-8A5C-48D06D8E1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A881-FE58-494F-A8D3-69753CC1D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8895-A01D-4E25-975F-62230C571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31D7-5D11-4D6F-9A97-6E646856E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1588-2AED-4150-9150-A6A5433CF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BA7F-C06F-479C-A24F-917AEB0F9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4511-E03A-41E2-9F66-03BC4CAD1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D01F-CC62-4D18-97AF-1437D5486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8C69-BB80-4561-9930-5CED8273B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DB35-0499-4B09-B70A-DBFF4D9F5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6D86-A11B-4300-8376-9401911BA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03BB-331E-4E61-BAB8-F977EDBDD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FC17F-5D23-4B08-934B-32857EC94A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11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12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13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14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15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16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17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18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3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4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5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6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7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8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9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10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5T18:36:50Z</dcterms:created>
  <dc:creator>אנואר</dc:creator>
  <dc:description/>
  <dc:language>en-US</dc:language>
  <cp:lastModifiedBy>אנואר</cp:lastModifiedBy>
  <dcterms:modified xsi:type="dcterms:W3CDTF">2003-01-05T18:55:52Z</dcterms:modified>
  <cp:revision>7</cp:revision>
  <dc:subject/>
  <dc:title>PowerPoint Presentation</dc:title>
</cp:coreProperties>
</file>