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4E8-44D3-4B62-B092-825C263B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84DF-295E-4DCF-8D72-DF120C91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F0D-BF30-472A-B45A-37AA6162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0B5-409C-47E4-8357-5F292D00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52E-C528-49B9-8E82-9E4D23D2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5EE-CD56-4868-BFC9-1A85F4C6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5EE-6D24-4B88-856C-AA634919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92A-60EE-47C0-896F-63E7521B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915-4CFF-47D5-945E-A1BDE9A9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162-70DB-4573-9BAB-0CDDEA2F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123A-DF64-44DD-80DE-6569F48C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8B9C-8FC9-4E3C-9B8D-08D95178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10D0-7064-442E-BF1F-B723573E4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3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4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5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6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7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8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9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0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1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22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23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5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6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7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8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9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5T20:08:29Z</dcterms:created>
  <dc:creator>אנואר</dc:creator>
  <dc:description/>
  <dc:language>en-US</dc:language>
  <cp:lastModifiedBy>אנואר</cp:lastModifiedBy>
  <dcterms:modified xsi:type="dcterms:W3CDTF">2003-01-05T20:21:00Z</dcterms:modified>
  <cp:revision>7</cp:revision>
  <dc:subject/>
  <dc:title>PowerPoint Presentation</dc:title>
</cp:coreProperties>
</file>