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E3E-33F3-49D6-A7BE-0F3C6A43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F3A-F84F-48F6-8743-B1D9B03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C7F-5336-44C6-94AC-D8095E05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354-D4E7-4DCD-91C4-3539F23A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E95-2B9D-49A5-8C8D-BE247F2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23B-33C1-4ED1-8C32-830EBE1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766-ABC7-4C3F-9B14-A709887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83E-F41E-4712-85E1-F003BCB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01A-3BE2-426E-9DC7-6B24308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341-7813-40CE-85DD-880F90D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3F3-25C6-4136-B53B-43A624A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B84-FB3C-4B70-BDFF-782BC86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5C2-A65A-4B32-B1A6-0216A005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3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4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8:14:35Z</dcterms:created>
  <dc:creator>אנואר</dc:creator>
  <dc:description/>
  <dc:language>en-US</dc:language>
  <cp:lastModifiedBy>אנואר</cp:lastModifiedBy>
  <dcterms:modified xsi:type="dcterms:W3CDTF">2002-12-29T18:52:00Z</dcterms:modified>
  <cp:revision>13</cp:revision>
  <dc:subject/>
  <dc:title>PowerPoint Presentation</dc:title>
</cp:coreProperties>
</file>