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20B-3F5E-43EF-8290-D9B39739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7EE-5318-46BF-B4B5-118994E5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F6D-3A7B-4D58-9ABB-C62F74F1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332-10DA-4AB1-BA35-5EC312D5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8A6D-A6F0-4103-91EA-44DF9A36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C699-76F1-4A8E-8B14-BE0BE232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32FA-EF0D-44AA-B80C-B8A7A6E6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47D2-BBBB-4A8A-8EA8-6DB5C8D5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9FE7-627A-423D-BFBB-F45DF8BF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D2F5-4ABB-488B-AF26-6B4652E2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1DE4-584D-4D51-863E-94A4A145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508-4B12-4A55-B7FB-677D7ACB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A828-9A9F-44E7-805A-98A1A935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F64D-3D27-463E-8D7C-6A26AEFC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FF5A-22C4-4B38-9EC0-AB59CB2B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D500-D669-47DA-A2FD-B19F7376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F5E6-E4B3-4512-BBB2-21C4DA7A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667-66C5-42E2-8D48-6938CDB9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A2F-89FF-462A-B117-2EDB1FF5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F87-5831-414A-8A76-AEEA0AC8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AA4-F6DF-440A-9094-377C1C86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70E-716F-4AE3-B186-941A6CF0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A00-99CB-4280-B46D-4B0FFC57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2DF-B59C-4674-A246-2145503C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7543-C76B-4426-800A-3DDF65E533C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F683-2856-461F-BD37-1680F46CC06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rt1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4422960" cy="585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486400" y="1295280"/>
            <a:ext cx="28954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c164"/>
                </a:solidFill>
                <a:latin typeface="Impact"/>
              </a:rPr>
              <a:t>現代畫派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ac164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c164"/>
                </a:solidFill>
                <a:latin typeface="Impact"/>
              </a:rPr>
              <a:t>盧梭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ac164"/>
              </a:solidFill>
              <a:latin typeface="Impact"/>
              <a:ea typeface="Impact"/>
            </a:endParaRPr>
          </a:p>
        </p:txBody>
      </p:sp>
      <p:pic>
        <p:nvPicPr>
          <p:cNvPr id="92" name="art2" descr=""/>
          <p:cNvPicPr/>
          <p:nvPr/>
        </p:nvPicPr>
        <p:blipFill>
          <a:blip r:embed="rId2"/>
          <a:stretch/>
        </p:blipFill>
        <p:spPr>
          <a:xfrm>
            <a:off x="5486400" y="3809880"/>
            <a:ext cx="31240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art15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3246480" cy="5851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252400" y="1828800"/>
            <a:ext cx="311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a352"/>
                </a:solidFill>
                <a:latin typeface="Times New Roman"/>
              </a:rPr>
              <a:t>請留意這女人的右下方的小貓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a352"/>
                </a:solidFill>
                <a:latin typeface="Times New Roman"/>
              </a:rPr>
              <a:t>也留意她比樹木還高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a352"/>
                </a:solidFill>
                <a:latin typeface="Times New Roman"/>
              </a:rPr>
              <a:t>証明了這是一幅不合比例的畫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a352"/>
                </a:solidFill>
                <a:latin typeface="Times New Roman"/>
              </a:rPr>
              <a:t>這幅畫我一看就感到奇怪，為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a352"/>
                </a:solidFill>
                <a:latin typeface="Times New Roman"/>
              </a:rPr>
              <a:t>麼她那麼高大呢</a:t>
            </a:r>
            <a:r>
              <a:rPr b="1" lang="en-US" sz="2400" spc="-1" strike="noStrike">
                <a:solidFill>
                  <a:srgbClr val="01a352"/>
                </a:solidFill>
                <a:latin typeface="Times New Roman"/>
              </a:rPr>
              <a:t>? </a:t>
            </a:r>
            <a:r>
              <a:rPr b="1" lang="zh-CN" sz="2400" spc="-1" strike="noStrike">
                <a:solidFill>
                  <a:srgbClr val="01a352"/>
                </a:solidFill>
                <a:latin typeface="Times New Roman"/>
              </a:rPr>
              <a:t>原因很簡單，他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a352"/>
                </a:solidFill>
                <a:latin typeface="Times New Roman"/>
              </a:rPr>
              <a:t>只不過是根自己的感覺去畫，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a352"/>
                </a:solidFill>
                <a:latin typeface="Times New Roman"/>
              </a:rPr>
              <a:t>為他是由他有感而發去畫的嘛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art16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191120" cy="5791320"/>
          </a:xfrm>
          <a:prstGeom prst="rect">
            <a:avLst/>
          </a:prstGeom>
          <a:ln w="0">
            <a:noFill/>
          </a:ln>
        </p:spPr>
      </p:pic>
      <p:pic>
        <p:nvPicPr>
          <p:cNvPr id="121" name="art19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4137120" cy="5105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658120" y="5867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95a5b"/>
                </a:solidFill>
                <a:latin typeface="Times New Roman"/>
              </a:rPr>
              <a:t>兩幅也較特別的畫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ree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568680" cy="4444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5985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38000" y="6172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80"/>
                </a:solidFill>
                <a:latin typeface="Times New Roman"/>
                <a:ea typeface="宋体"/>
              </a:rPr>
              <a:t>在叢林裏的女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now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2438280" cy="444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40600" y="61372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過去和現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abbi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444920" cy="361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33960" y="5681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5a5b"/>
                </a:solidFill>
                <a:latin typeface="華康POP1體W7"/>
                <a:ea typeface="華康POP1體W7"/>
              </a:rPr>
              <a:t>    </a:t>
            </a:r>
            <a:r>
              <a:rPr b="1" lang="zh-CN" sz="2400" spc="-1" strike="noStrike">
                <a:solidFill>
                  <a:srgbClr val="495a5b"/>
                </a:solidFill>
                <a:latin typeface="華康POP1體W7"/>
                <a:ea typeface="華康POP1體W7"/>
              </a:rPr>
              <a:t>食兔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monkeu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695760" cy="4445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219000" y="5986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e386c"/>
                </a:solidFill>
                <a:latin typeface="華康POP1體W7"/>
                <a:ea typeface="華康POP1體W7"/>
              </a:rPr>
              <a:t>有猴子的風景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rt20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765680" cy="356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76080" y="1295280"/>
            <a:ext cx="219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f0582"/>
                </a:solidFill>
                <a:latin typeface="Times New Roman"/>
              </a:rPr>
              <a:t>最後介紹的一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f0582"/>
                </a:solidFill>
                <a:latin typeface="Times New Roman"/>
              </a:rPr>
              <a:t>我也喜歡的一幅，我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f0582"/>
                </a:solidFill>
                <a:latin typeface="Times New Roman"/>
              </a:rPr>
              <a:t>很構圖很特別，而且只是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f0582"/>
                </a:solidFill>
                <a:latin typeface="Times New Roman"/>
              </a:rPr>
              <a:t>用數種顏色便能帶出這種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f0582"/>
                </a:solidFill>
                <a:latin typeface="Times New Roman"/>
              </a:rPr>
              <a:t>令人舒服的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art21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244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76720" y="1066680"/>
            <a:ext cx="2361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總括而言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2089440" y="2362320"/>
            <a:ext cx="530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盧梭的畫能帶給我天真如童話故事的感覺，而且充滿幻想空間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雖然，有當時的人不認同他的畫風，認為他甚麼都只是虛構，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盧梭卻持有一份尊重大自然和真實的心去創造，並不是虛構的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人大後，看的事物都變了，但盧梭卻用孩子之心去看東西。他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特別就是在這裡了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盧梭作為早期的幻想型畫家，還引發了包括超現實主義在內的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觀主義藝術的興盛。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066680" y="1219320"/>
            <a:ext cx="2590920" cy="17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資料來源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2435400" y="3048120"/>
            <a:ext cx="402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新細明體"/>
              </a:rPr>
              <a:t>Letar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新細明體"/>
              </a:rPr>
              <a:t>http://www.letart.co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514600"/>
            <a:ext cx="861048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盧梭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Rousseau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(1844-----l 9l 0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盧梭早年當過兵，做過近二十年海關職員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他用特有的方式訓練自己描繪對象的能力，畫人物肖像時常用尺子來測量五官人體的比例。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盧梭認為藝術需要有純撲和天真，所以有他的作品內，找不到像油畫般的細緻和真實的感覺，反而多了一些親切感和快樂。他畫的東西多是還繞身邊的事物，如人象，風景等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盧梭的畫看來十分天真，事實上他對每一幅畫都十分嚴謹的。盧梭作為早期的幻想型畫家，還引發了包括超現實主義在內的主觀主義藝術的興盛。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9000" y="1523880"/>
            <a:ext cx="236232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ac164"/>
                  </a:solidFill>
                  <a:miter/>
                </a:ln>
                <a:solidFill>
                  <a:srgbClr val="fac164"/>
                </a:solidFill>
                <a:latin typeface="Arial Black"/>
              </a:rPr>
              <a:t>盧梭簡介</a:t>
            </a:r>
            <a:endParaRPr b="0" lang="en-US" sz="4000" spc="1" strike="noStrike">
              <a:ln w="9360">
                <a:solidFill>
                  <a:srgbClr val="fac164"/>
                </a:solidFill>
                <a:miter/>
              </a:ln>
              <a:solidFill>
                <a:srgbClr val="fac164"/>
              </a:solidFill>
              <a:latin typeface="Arial Black"/>
              <a:ea typeface="Arial Black"/>
            </a:endParaRPr>
          </a:p>
        </p:txBody>
      </p:sp>
      <p:pic>
        <p:nvPicPr>
          <p:cNvPr id="95" name="atrme" descr=""/>
          <p:cNvPicPr/>
          <p:nvPr/>
        </p:nvPicPr>
        <p:blipFill>
          <a:blip r:embed="rId1"/>
          <a:stretch/>
        </p:blipFill>
        <p:spPr>
          <a:xfrm>
            <a:off x="6400800" y="914400"/>
            <a:ext cx="1959120" cy="2438280"/>
          </a:xfrm>
          <a:prstGeom prst="rect">
            <a:avLst/>
          </a:prstGeom>
          <a:ln w="0">
            <a:noFill/>
          </a:ln>
        </p:spPr>
      </p:pic>
      <p:pic>
        <p:nvPicPr>
          <p:cNvPr id="96" name="lugin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1884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505320" y="990720"/>
            <a:ext cx="20811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S Gothic"/>
              </a:rPr>
              <a:t>作品介紹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S Gothic"/>
              <a:ea typeface="MS Gothic"/>
            </a:endParaRPr>
          </a:p>
        </p:txBody>
      </p:sp>
      <p:pic>
        <p:nvPicPr>
          <p:cNvPr id="98" name="art4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94280" cy="4057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96320" y="2362320"/>
            <a:ext cx="2100960" cy="3080160"/>
          </a:xfrm>
          <a:prstGeom prst="rect">
            <a:avLst/>
          </a:prstGeom>
          <a:noFill/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我自己覺得這幅畫很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特別，因為在同一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空中，有三樣同時能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在天空飛的東西，很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有趣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而且這幅畫的顏色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很特別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89560" y="26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atr5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5303880" cy="4914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507360" y="2057400"/>
            <a:ext cx="200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00452"/>
                </a:solidFill>
                <a:latin typeface="Times New Roman"/>
              </a:rPr>
              <a:t>這幅畫用的顏色很特別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00452"/>
                </a:solidFill>
                <a:latin typeface="Times New Roman"/>
              </a:rPr>
              <a:t>是同一色系的顏色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00452"/>
                </a:solidFill>
                <a:latin typeface="Times New Roman"/>
              </a:rPr>
              <a:t>這幅畫到底是在畫黃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00452"/>
                </a:solidFill>
                <a:latin typeface="Times New Roman"/>
              </a:rPr>
              <a:t>，還是在畫早上呢？我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00452"/>
                </a:solidFill>
                <a:latin typeface="Times New Roman"/>
              </a:rPr>
              <a:t>覺得是畫早上的，因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00452"/>
                </a:solidFill>
                <a:latin typeface="Times New Roman"/>
              </a:rPr>
              <a:t>畫給我有一種早上清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00452"/>
                </a:solidFill>
                <a:latin typeface="Times New Roman"/>
              </a:rPr>
              <a:t>的感覺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58920" y="591012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f0582"/>
                </a:solidFill>
                <a:latin typeface="華康POP1體W7"/>
                <a:ea typeface="華康POP1體W7"/>
              </a:rPr>
              <a:t>弄蛇女郎</a:t>
            </a:r>
            <a:r>
              <a:rPr b="1" lang="en-US" sz="2400" spc="-1" strike="noStrike">
                <a:solidFill>
                  <a:srgbClr val="9f0582"/>
                </a:solidFill>
                <a:latin typeface="華康POP1體W7"/>
                <a:ea typeface="華康POP1體W7"/>
              </a:rPr>
              <a:t>(1907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rt6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335772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art7" descr=""/>
          <p:cNvPicPr/>
          <p:nvPr/>
        </p:nvPicPr>
        <p:blipFill>
          <a:blip r:embed="rId2"/>
          <a:stretch/>
        </p:blipFill>
        <p:spPr>
          <a:xfrm>
            <a:off x="5105520" y="685800"/>
            <a:ext cx="3449520" cy="4952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16200" y="5459400"/>
            <a:ext cx="4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這兩幅畫是同一類型的，都是畫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同一地方，只不過取景方式不同，左面的是畫遠景，右面的是畫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近景的。我覺很這是畫秋天的景色的，色彩的配合很舒服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rt8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78792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60960" y="3429000"/>
            <a:ext cx="2923920" cy="3020040"/>
          </a:xfrm>
          <a:prstGeom prst="rect">
            <a:avLst/>
          </a:prstGeom>
          <a:solidFill>
            <a:srgbClr val="0308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這幅畫是盧梭較特別的一幅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他將婚禮的人堆砌在自己的圖畫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內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覺得這圖畫沒有幸福和快樂的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覺。但卻正好和盧梭的神祕配合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總是會令你幻想下去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這幅畫的人物都是不合比例的，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像是在夢境發生般似的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art9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78320" cy="5840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10040" y="148896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23a12"/>
                </a:solidFill>
                <a:latin typeface="Times New Roman"/>
              </a:rPr>
              <a:t>這兩幅顯示出盧梭尊重自然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23a12"/>
                </a:solidFill>
                <a:latin typeface="Times New Roman"/>
              </a:rPr>
              <a:t>和尊重現實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23a12"/>
                </a:solidFill>
                <a:latin typeface="Times New Roman"/>
              </a:rPr>
              <a:t>不約而同地，這兩幅畫都是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23a12"/>
                </a:solidFill>
                <a:latin typeface="Times New Roman"/>
              </a:rPr>
              <a:t>有著相同的月亮呢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art0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65904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atr11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876920" cy="3516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52720" y="4800600"/>
            <a:ext cx="25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e386c"/>
                </a:solidFill>
                <a:latin typeface="Times New Roman"/>
              </a:rPr>
              <a:t>很惹人注意的作品，既有趣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e386c"/>
                </a:solidFill>
                <a:latin typeface="Times New Roman"/>
              </a:rPr>
              <a:t>又充滿活力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e386c"/>
                </a:solidFill>
                <a:latin typeface="Times New Roman"/>
              </a:rPr>
              <a:t>盧梭真的很喜歡大自然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e386c"/>
                </a:solidFill>
                <a:latin typeface="Times New Roman"/>
              </a:rPr>
              <a:t>每幅畫也有樹木的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art13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3962520" cy="3235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905080" y="121932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6543"/>
                </a:solidFill>
                <a:latin typeface="Times New Roman"/>
              </a:rPr>
              <a:t>有點像故事書的插圖呢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6543"/>
                </a:solidFill>
                <a:latin typeface="Times New Roman"/>
              </a:rPr>
              <a:t>顏色也比其它畫用得誇張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6543"/>
                </a:solidFill>
                <a:latin typeface="Times New Roman"/>
              </a:rPr>
              <a:t>相比其它同樣是大自然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6543"/>
                </a:solidFill>
                <a:latin typeface="Times New Roman"/>
              </a:rPr>
              <a:t>作品用色豐富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rt14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4686480" cy="5794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23640" y="1828800"/>
            <a:ext cx="256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5569"/>
                </a:solidFill>
                <a:latin typeface="Times New Roman"/>
              </a:rPr>
              <a:t>這幅畫很與眾不同，像一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5569"/>
                </a:solidFill>
                <a:latin typeface="Times New Roman"/>
              </a:rPr>
              <a:t>小孩子，又像一個大人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5569"/>
                </a:solidFill>
                <a:latin typeface="Times New Roman"/>
              </a:rPr>
              <a:t>其實盧梭後期的畫風也偏向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5569"/>
                </a:solidFill>
                <a:latin typeface="Times New Roman"/>
              </a:rPr>
              <a:t>這類型的風格。因為他看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5569"/>
                </a:solidFill>
                <a:latin typeface="Times New Roman"/>
              </a:rPr>
              <a:t>了很多同東西，所以他便從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5569"/>
                </a:solidFill>
                <a:latin typeface="Times New Roman"/>
              </a:rPr>
              <a:t>不同各度觀察事物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5569"/>
                </a:solidFill>
                <a:latin typeface="Times New Roman"/>
              </a:rPr>
              <a:t>充滿了幻想力，真的奇怪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5569"/>
                </a:solidFill>
                <a:latin typeface="Times New Roman"/>
              </a:rPr>
              <a:t>為什麼他要坐在半空</a:t>
            </a:r>
            <a:r>
              <a:rPr b="1" lang="en-US" sz="2400" spc="-1" strike="noStrike">
                <a:solidFill>
                  <a:srgbClr val="3b5569"/>
                </a:solidFill>
                <a:latin typeface="Times New Roman"/>
              </a:rPr>
              <a:t>? </a:t>
            </a:r>
            <a:r>
              <a:rPr b="1" lang="zh-CN" sz="2400" spc="-1" strike="noStrike">
                <a:solidFill>
                  <a:srgbClr val="3b5569"/>
                </a:solidFill>
                <a:latin typeface="Times New Roman"/>
              </a:rPr>
              <a:t>坐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5569"/>
                </a:solidFill>
                <a:latin typeface="Times New Roman"/>
              </a:rPr>
              <a:t>山頂上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50:11Z</dcterms:created>
  <dc:creator>Leung</dc:creator>
  <dc:description/>
  <dc:language>en-US</dc:language>
  <cp:lastModifiedBy>user</cp:lastModifiedBy>
  <dcterms:modified xsi:type="dcterms:W3CDTF">2004-10-20T13:08:26Z</dcterms:modified>
  <cp:revision>19</cp:revision>
  <dc:subject/>
  <dc:title>PowerPoint Presentation</dc:title>
</cp:coreProperties>
</file>