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75A6-092B-4495-9B38-A1D6C993B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b/c a not for profit org’n has no intention of earning a profit does not mean it doesn’t require a source of income.</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s when income exceeds expens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ess revenue is used to either improve the goods and services it provides, reduces the prices of those goods or services or set aside a specific amount of funds in a reserve account for those times in which revenues fall below cost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sector orgs and other NFPs are important to society since they provide for many of society’s essential needs that either can’t or shouldn’t be provided by for-profit organizations – such as police protection . . . Cancer research.</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FPs also play a significant role in maintaining an economic, social, and political system that encourages, facilitate and protects the development and continued existence of for-profit org’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SWS, NFPs were valued customers like schools, state parks, hospitals, HUD housing, VFW’s/clubs and churche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ever, NFPs must compete for resources too just like FPs and thus they must scan their external environment and identity internal strengths and weaknesses</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 – tax revenues or level of don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al – respect for others/ind’l responsibility can influence willingness to volunte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 USP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 Political – Catholic Church/United Wa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NFPs face similar constraints on limited resources, competiton for customers and resources, performance measurement and long run survival just as strategic mgrs at for profit orgs do.  Thus, at some point the strategic mgrs at NFPs must make some decisions about strategies the org’n will use to fulfill its vision and mission(s)</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 Level – face similar choices relative to growth – just more limited range of options – i.e. internal growth yes, but diversification no.</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 Unit – NFPs do need to compete (against other NFPs and FPs) on the basis of keeping costs low, being different, or focusing on a particular niche</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 whether they’re selling license plates, drawing blood from donors . . . Must have resources and capabilities to perform their service/prod goods.  However, they may be more constrained in what they can do – like hiring/firing – </a:t>
            </a:r>
            <a:r>
              <a:rPr b="1" lang="en-US" sz="1800" spc="-1" strike="noStrike">
                <a:solidFill>
                  <a:srgbClr val="000000"/>
                </a:solidFill>
                <a:latin typeface="Arial"/>
              </a:rPr>
              <a:t>mgr discretion more limited</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Ps – particularly public sector orgs (gov’t) are closely intertwined with politics and the political proces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leaders may ignore plans and strategi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utinized by agencies such as courts, legislative bodies and political commisions or 2</a:t>
            </a:r>
            <a:r>
              <a:rPr b="0" lang="en-US" sz="1800" spc="-1" strike="noStrike" baseline="30000">
                <a:solidFill>
                  <a:srgbClr val="000000"/>
                </a:solidFill>
                <a:latin typeface="Arial"/>
              </a:rPr>
              <a:t>nd</a:t>
            </a:r>
            <a:r>
              <a:rPr b="0" lang="en-US" sz="1800" spc="-1" strike="noStrike">
                <a:solidFill>
                  <a:srgbClr val="000000"/>
                </a:solidFill>
                <a:latin typeface="Arial"/>
              </a:rPr>
              <a:t> guessed by individuals who feel they have a right to voice their opin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problems compounded since the NFP may rely upon these stakeholders for revenue!</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 practice where a FP business links up with a social cause that fits well with the company’s product or service – Avon and breast cancer</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hips between a NFP and one or more corp partners who agree to undertake a series of mktg actions that will benefit both such as Darden’s program of donating a portion of their profits in dine out America (transaction based promo) – or teaming up to advertise and dist prods and promo mat’l (join issue promo) or (Licensing) such as Sunbeam and AMA approved.</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ling stuff with one’s name – got to be careful with IRS.</a:t>
            </a:r>
            <a:endParaRPr b="0" lang="en-US" sz="1800" spc="-1" strike="noStrike">
              <a:solidFill>
                <a:srgbClr val="000000"/>
              </a:solidFill>
              <a:latin typeface="Arial"/>
            </a:endParaRPr>
          </a:p>
          <a:p>
            <a:pPr marL="2286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A9B5C-DA81-436B-9EE3-4AE293FDF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3E525-E63F-4B85-832D-5B4E2F18E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BBCFC-228E-4A8D-93BD-BA89F3D5F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FC247-F1A1-454E-AEE4-5354D4EA1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1D314-A4F6-456A-9029-5754D843A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24C84-7E09-49CC-AD62-791429E54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DC7BB-C893-4789-8B1C-4F612B453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AB04B-7A4F-46AD-B81F-5324EF8BA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27AA2-BC7D-4054-A36D-F635F7C07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9F548-70BF-4945-A35D-BA43E6768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7B879-6F65-4866-A496-2526CBDE1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411C4-74D8-483C-8212-82EA1526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75E08-120A-47D0-96FF-1D1F922CA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D3B4D-EECA-498B-ADC6-F49960540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65C0F-E85F-48F9-93A5-E1533C373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FBAF9-DE36-410E-B652-2826F5FDB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E9B36-1B86-46A9-9149-680534396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4F54-87AE-404C-B3EF-26BBE77DE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82078-6C50-4A15-94B0-461635C97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44F75-3CA6-48F8-8D96-129384B34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7CE12-EF7D-4938-BE19-61B514388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E614-5F90-485E-AC66-C25A73570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33CF-CC83-4712-82DF-052D8218E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E9E9B-2111-47BB-B05D-C3E72BA6A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693D-8AF9-4C84-BF52-20EF0F6DD04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F671-5990-4E3D-8B09-A42A8CD318E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ot-for-Profit &amp; Public Organizations</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ot-for-Profit Organizatio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19080">
            <a:solidFill>
              <a:srgbClr val="336666"/>
            </a:solidFill>
            <a:miter/>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ed as one whose purpose is to provide some service or good with no intention or goal of earning a profit and, as such, has met the requirements of Section 501(c)(3) of the IRS tax code as a tax-exempt organiza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Sources</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n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s, user fees &amp; charg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 (goods or services) sal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ations of time or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Not-for-Profit Organizations</a:t>
            </a:r>
            <a:endParaRPr b="0" lang="en-US" sz="4200" spc="-1" strike="noStrike">
              <a:solidFill>
                <a:srgbClr val="000000"/>
              </a:solidFill>
              <a:latin typeface="Arial"/>
            </a:endParaRPr>
          </a:p>
        </p:txBody>
      </p:sp>
      <p:graphicFrame>
        <p:nvGraphicFramePr>
          <p:cNvPr id="104" name=""/>
          <p:cNvGraphicFramePr/>
          <p:nvPr/>
        </p:nvGraphicFramePr>
        <p:xfrm>
          <a:off x="1523880" y="1905120"/>
          <a:ext cx="7010640" cy="4176720"/>
        </p:xfrm>
        <a:graphic>
          <a:graphicData uri="http://schemas.openxmlformats.org/drawingml/2006/table">
            <a:tbl>
              <a:tblPr/>
              <a:tblGrid>
                <a:gridCol w="3505320"/>
                <a:gridCol w="3505320"/>
              </a:tblGrid>
              <a:tr h="822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ional</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itable</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23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ndations</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igious</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2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e Related</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Service</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3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lth Service</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 Sector</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Membership Assoc.</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rnal &amp; Internal Analysi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c Trends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etal Attitud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ological Shif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gal-Political For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 From New Competi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rnal &amp; Internal Analysis</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resources &amp; capabilities does the NFP hav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efficient &amp; effective is the org’n in doing what it do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rategic Choices</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porate Leve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siness Unit Leve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al Unit Lev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Stakeholder</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nified in NFP’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que Strategies Used by NFPs</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use Related Market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FP Marketing Allian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ategic PiggyBack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01:40:35Z</dcterms:created>
  <dc:creator>Grant H. Fenner</dc:creator>
  <dc:description/>
  <dc:language>en-US</dc:language>
  <cp:lastModifiedBy>Grant H. Fenner</cp:lastModifiedBy>
  <dcterms:modified xsi:type="dcterms:W3CDTF">2003-11-04T12:12:39Z</dcterms:modified>
  <cp:revision>3</cp:revision>
  <dc:subject/>
  <dc:title>Not-for-Profit &amp; Public Organiz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28649447</vt:r8>
  </property>
  <property fmtid="{D5CDD505-2E9C-101B-9397-08002B2CF9AE}" pid="3" name="_AuthorEmail">
    <vt:lpwstr>gfenner@midsouth.rr.com</vt:lpwstr>
  </property>
  <property fmtid="{D5CDD505-2E9C-101B-9397-08002B2CF9AE}" pid="4" name="_AuthorEmailDisplayName">
    <vt:lpwstr>Grant H. Fenner</vt:lpwstr>
  </property>
  <property fmtid="{D5CDD505-2E9C-101B-9397-08002B2CF9AE}" pid="5" name="_EmailSubject">
    <vt:lpwstr/>
  </property>
</Properties>
</file>