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AD8F-741A-4EC4-816B-A219626CA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organizational mission is established and the corporate level strategy identified . . . The next appropriate question to ask is, how should we compete in the chosen industry or business? </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 obsolescence relates to preference for technological stability in their org’s which enable them to produce no frills outputs at low costs</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228600" y="4343400"/>
            <a:ext cx="632448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s adopting this strategy produce highly differentiated, need fullfilling products/services for a the specialized needs of a narrow range of customers whose mrkt demand is relatively inelastic &amp; thus can demand higher prices.  </a:t>
            </a:r>
            <a:r>
              <a:rPr b="1" lang="en-US" sz="1800" spc="-1" strike="noStrike">
                <a:solidFill>
                  <a:srgbClr val="000000"/>
                </a:solidFill>
                <a:latin typeface="Times New Roman"/>
              </a:rPr>
              <a:t>Cost reduction not emphasized and are deliberately inefficienct b/c they continuously attempt to create new product and/or mrkt opportunities (or respondto the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prices are acceptable to some customers seeking performance, prestige, safety or secur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hasize:</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l &amp; technological fluidity in order to create or keep pace w/demand</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mp;D spending linked to new product development/improvement</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228600" y="4343400"/>
            <a:ext cx="632448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fact, using niche-differentiation in concert w/ lower costs can be a particularly effect strategy for a number (but, not all) small businesses in select industries.</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can a business simultaneously differentiate its products or services and lower its costs?</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040"/>
            <a:ext cx="510552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methods  which relate to smaller businesses serving a niche apply equally well to larger orgs who adopt a low-cost/differentiation strateg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ty - customer’s perceptions is key criterion - costs of rework, scrap and servicing the product after the sale reduce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 improves efficiency &amp; lowers cos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 can both stimulate demand and lower cos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rage - Saturn’s efforts at public relations and developing a cult following or Ben &amp; Jerry’s image as a “green” and local oriented org’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see how Boston Brewing has lower costs, still has high differentiation, but also has greater mrkt share than Red Hook</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ton’s 25% mrkt share compared of the micro-brewery business compared to a firm like Red Hook’s 4.7% mkt share which has higher costs. </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s using this strategy serve a mass market comprised of price-sensitive customers (elasti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costs in functional areas by seeking discounts from suppliers that offer lowest prices, mass production pursued when possible to lower prod costs, finance seeks to control costs and maximize returns, R&amp;D focused on operational efficiency, and attempts are made to improve logistical &amp; distribution efficiencies.  Shun new prod development and expensive mrktg &amp; advertising cos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from niche low cost which rely on low initial investment &amp; low operating expenses by relying on large mrkt share and scale economies.  Thus, while both strategies seek to keep costs down . . . The means of attaining this goal are different.</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ngle company that operates only w/in 1 industry is also considered a business unit such as McDonalds, Delta Airlines, Wal-Mart or Sherwin-Williams paints - corp level and business unit level strategy are the sam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 . . What is competi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us lead to customers that no longer desire their products.</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s are relatively price insensitive so businesses emphasize quality in functional areas.  I.e., purchases from suppliers offering high-quality raw mat’ls, production focusing on quality in lieu of cost considerations, R&amp;D focused on new or improved products, generously supported marketing and advertising and though finance important . . . Doesn’t domina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se using this strategy attempt to create new product/mrkt opportunities or respond to the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large mrkt share so that it may establish a distinctive image throughout the industry - relying upon patents or strong brands to create loyalty.</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include Merecedes Benz and BMW vs the Lexus . . . Xerox copiers vs Canon . . . Merrill Lynch or Morgan Stanley vs Charles Schwab or Scott Trade</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304560" y="4343400"/>
            <a:ext cx="617220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t be a low cost/differentiated oriented firm - otherwise norms clash.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rg business using low cost unlikely to employ mult strats.  Low cost and niche/low cost is redundant.  Can’t operate in a no-frills environment and also attempt to differentia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bus pursing differentiation unlikely to employ niche-low cost or niche-low cost/differentiation b/c low costs aren’t emphasiz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lrg firms won’t adopt any niche strategies b/c small mrkt share/low sales can’t justify sizeable R&amp;D, operating, and mrktg costs of lrg firms.  Owners of small entrepreneurial firms know this and exploit their niche advantage.</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businesses are more flexible in meeting demands of mrkt or responding to shifts in envrionment - also b/c of lower investment they can capitalize on their small mrkt shares with an image of exclusivity.  Rolls Roy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r businesses have economies of scale and greater bargaining power with supplie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midsize firms have neither advantage of smaller or larger firms</a:t>
            </a:r>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105520" cy="4572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ryo - choice of technology not settled yet - </a:t>
            </a:r>
            <a:r>
              <a:rPr b="1" lang="en-US" sz="1800" spc="-1" strike="noStrike">
                <a:solidFill>
                  <a:srgbClr val="000000"/>
                </a:solidFill>
                <a:latin typeface="Times New Roman"/>
              </a:rPr>
              <a:t>Niche differenti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wth - increasing # of consumers desire product N/LC, ND or N-LC/D for small and LC, D or LC-D or multiple for larg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keout - same as growt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urity - same as growt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ine N-LC or N-LC/D for small and LC or LC/D or multiple for lar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sity of the competition will be governed by wh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umerous of equally balanced customer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industry growt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fixed or storage cos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ck of differentiation or switching cos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 must be added in large incremen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erse competito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strategic stak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exit barrie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eatest competition occurs in situations where there are many sellers and the degree of differentiation among sellers doesn’t exist (pu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etition can be said to rest within an industry as just described, within a market where intensity is governed on how well different org’s are able to meet the needs of customers (the more the merrier) and another approach  is that of identifying competitors within one’s strategic group</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if I’m Mercedes Benz . . . Do I consider the Kia or Hundyi to belong to my strategic group?</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strategic groups in the airline industry (</a:t>
            </a:r>
            <a:r>
              <a:rPr b="1" lang="en-US" sz="1800" spc="-1" strike="noStrike">
                <a:solidFill>
                  <a:srgbClr val="000000"/>
                </a:solidFill>
                <a:latin typeface="Times New Roman"/>
              </a:rPr>
              <a:t>go to the board &amp; identify the X &amp; Y axi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strategic groups in the restaurant business in Jonesbor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 most relevant competitors are those in your strategic group - thus, the level of intensity of competition depends o how effectively each competitor develops a sustainable competitive advantage and on the competitive strategies and competitive actions that each of the competitors in the strategic group uses</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040"/>
            <a:ext cx="5105520" cy="4800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what we learned from internal analysis in identify org’l strengths and weaknesses with respect to its use of resources, distinctive capabilities and core competencies to achieve a sustainable competitive advanta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attempting to create a sustainable competitive to set themselves apart from their competition, they choose a competitive strateg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ms need to exploit its core competencies to set itself apart from its competitors.  One way firms do this is by adopting one of Porter’s Generic Competitive Strategies - they’re generic b/c any firm or org’n of any size in any industry can use them </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iche strategy enables the org to know it market very well . . . Remain close to its customers &amp; respond very quickly to their changing needs (often quicker than their larger competitors pursuing broader mrkts.</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s adopting this strategy produce no-frills products/services for price-sensitive customers in a mrkt niche whose demand for products is characterized as elasti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hasize </a:t>
            </a:r>
            <a:r>
              <a:rPr b="1" lang="en-US" sz="1800" spc="-1" strike="noStrike">
                <a:solidFill>
                  <a:srgbClr val="000000"/>
                </a:solidFill>
                <a:latin typeface="Times New Roman"/>
              </a:rPr>
              <a:t>(Go to Table 6-3 pg 233)</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ing initial investment low (facility or equip)</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ing operating costs down thus purchase from suppliers w/lowest prices, strict financial controls, R&amp;D directed on improving operational processes and seeking to streamline logistical/distribution efficiencie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ly, the small bus unit adopting this strategy competes only where it enjoys a cost advantage relative to large low-cost competitors - short line RR’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AA293-EDF0-4A69-BC55-A0FDE7381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8B43A-4B68-4FCB-9FFD-80F0AE43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0881C-358C-4284-85E5-68E4061C8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75770-9399-48BB-A3E2-E78620452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7236E-9BD6-4267-B83A-1BC69CBB7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24581-8554-42B1-BC85-486AEF13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F62F2-D26D-400F-87FF-E6699778C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58917-87FB-4F94-A32D-232880141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B7AF1-DAC8-4E36-B2B6-2125952CE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5A3FA-1F88-49FC-9CB2-3F037A845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1BF83-C972-4B9E-8149-95767BB71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07CB7-4D85-4128-AAD5-465505DD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5794C-82D9-4694-8C26-C03FBED3C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4D760-08B5-4A9C-808F-BBB8D8349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EBF2E-06CC-457A-8878-C354A754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0C150-35C0-4C4E-9D3D-F106AC652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D36A8-9E0E-4AEC-8EEC-2166F73F1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A019-E9DE-4275-B831-453256890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5C18E-8E30-47F0-AB76-2419163ED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B5C9-91B5-4D61-9ADA-8B5C3145A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90BF-7857-474A-A94D-403BA0737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A5AA-810D-49B0-8D47-74D931533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B4A2-E2ED-4AFE-875A-C86C5AFEC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4FAB-067F-499F-ACA5-EFA67EE99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514E-1C21-4AD4-9382-7DFD7EA28E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6506-F0EA-400B-9058-C6EA2BB0CCA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28440">
            <a:solidFill>
              <a:srgbClr val="000000"/>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siness Unit Level Strategies (Competitive Strategie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e-Low Cost</a:t>
            </a:r>
            <a:endParaRPr b="0" lang="en-US" sz="4000" spc="-1" strike="noStrike">
              <a:solidFill>
                <a:srgbClr val="000000"/>
              </a:solidFill>
              <a:latin typeface="Arial Black"/>
            </a:endParaRPr>
          </a:p>
        </p:txBody>
      </p:sp>
      <p:sp>
        <p:nvSpPr>
          <p:cNvPr id="119" name=""/>
          <p:cNvSpPr/>
          <p:nvPr/>
        </p:nvSpPr>
        <p:spPr>
          <a:xfrm>
            <a:off x="2438280" y="2362320"/>
            <a:ext cx="4267440" cy="350496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6276200">
            <a:off x="1519200" y="40449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21" name=""/>
          <p:cNvSpPr/>
          <p:nvPr/>
        </p:nvSpPr>
        <p:spPr>
          <a:xfrm>
            <a:off x="3580560" y="17524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iation</a:t>
            </a:r>
            <a:endParaRPr b="0" lang="en-US" sz="2400" spc="-1" strike="noStrike">
              <a:solidFill>
                <a:srgbClr val="000000"/>
              </a:solidFill>
              <a:latin typeface="Times New Roman"/>
            </a:endParaRPr>
          </a:p>
        </p:txBody>
      </p:sp>
      <p:sp>
        <p:nvSpPr>
          <p:cNvPr id="122" name=""/>
          <p:cNvSpPr/>
          <p:nvPr/>
        </p:nvSpPr>
        <p:spPr>
          <a:xfrm>
            <a:off x="2971800" y="4648320"/>
            <a:ext cx="114300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t 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24" name="PlaceHolder 2"/>
          <p:cNvSpPr>
            <a:spLocks noGrp="1"/>
          </p:cNvSpPr>
          <p:nvPr>
            <p:ph/>
          </p:nvPr>
        </p:nvSpPr>
        <p:spPr>
          <a:xfrm>
            <a:off x="304920" y="1885680"/>
            <a:ext cx="8534160" cy="4172040"/>
          </a:xfrm>
          <a:prstGeom prst="rect">
            <a:avLst/>
          </a:prstGeom>
          <a:noFill/>
          <a:ln w="0">
            <a:noFill/>
          </a:ln>
        </p:spPr>
        <p:txBody>
          <a:bodyPr lIns="90000" rIns="90000" tIns="46800" bIns="46800"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Low Cost Vulnerabilities</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chnological obsolescence  and thus lose sight of shifting cust preference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w cost competencies imitated</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etition intense in no frill environments &amp; competition may successfully lower their costs more</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26" name="PlaceHolder 2"/>
          <p:cNvSpPr>
            <a:spLocks noGrp="1"/>
          </p:cNvSpPr>
          <p:nvPr>
            <p:ph/>
          </p:nvPr>
        </p:nvSpPr>
        <p:spPr>
          <a:xfrm>
            <a:off x="304920" y="1885680"/>
            <a:ext cx="853416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Differenti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mphasizes offering customers highly differentiated, need fulfilling products or services for a narrow or focused segment (niche) of the marke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e-Differentiation</a:t>
            </a:r>
            <a:endParaRPr b="0" lang="en-US" sz="4000" spc="-1" strike="noStrike">
              <a:solidFill>
                <a:srgbClr val="000000"/>
              </a:solidFill>
              <a:latin typeface="Arial Black"/>
            </a:endParaRPr>
          </a:p>
        </p:txBody>
      </p:sp>
      <p:sp>
        <p:nvSpPr>
          <p:cNvPr id="128" name=""/>
          <p:cNvSpPr/>
          <p:nvPr/>
        </p:nvSpPr>
        <p:spPr>
          <a:xfrm>
            <a:off x="2438280" y="2362320"/>
            <a:ext cx="4267440" cy="350496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6276200">
            <a:off x="1519200" y="40449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30" name=""/>
          <p:cNvSpPr/>
          <p:nvPr/>
        </p:nvSpPr>
        <p:spPr>
          <a:xfrm>
            <a:off x="5257800" y="2666880"/>
            <a:ext cx="114300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kimoto</a:t>
            </a:r>
            <a:endParaRPr b="0" lang="en-US" sz="2000" spc="-1" strike="noStrike">
              <a:solidFill>
                <a:srgbClr val="000000"/>
              </a:solidFill>
              <a:latin typeface="Times New Roman"/>
            </a:endParaRPr>
          </a:p>
        </p:txBody>
      </p:sp>
      <p:sp>
        <p:nvSpPr>
          <p:cNvPr id="131" name=""/>
          <p:cNvSpPr/>
          <p:nvPr/>
        </p:nvSpPr>
        <p:spPr>
          <a:xfrm>
            <a:off x="3504600" y="182880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33" name="PlaceHolder 2"/>
          <p:cNvSpPr>
            <a:spLocks noGrp="1"/>
          </p:cNvSpPr>
          <p:nvPr>
            <p:ph/>
          </p:nvPr>
        </p:nvSpPr>
        <p:spPr>
          <a:xfrm>
            <a:off x="304920" y="1885680"/>
            <a:ext cx="853416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Differentiation Vulnerabil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rg must seek to remain unique despite efforts by competitors to cop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etitors who also emphasize lowering of costs may be able to offer similar products at predatory price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Low Cost/Differenti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mphasizes offering customers highly differentiated, need fulfilling products or services for a narrow or focused segment (niche) of the market while keeping costs low.</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Low Cost/Differenti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dication to qualit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cess innova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t innova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verage through org’l expertise &amp; ima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e Low-Cost/Differentiation</a:t>
            </a:r>
            <a:endParaRPr b="0" lang="en-US" sz="4000" spc="-1" strike="noStrike">
              <a:solidFill>
                <a:srgbClr val="000000"/>
              </a:solidFill>
              <a:latin typeface="Arial Black"/>
            </a:endParaRPr>
          </a:p>
        </p:txBody>
      </p:sp>
      <p:sp>
        <p:nvSpPr>
          <p:cNvPr id="139" name=""/>
          <p:cNvSpPr/>
          <p:nvPr/>
        </p:nvSpPr>
        <p:spPr>
          <a:xfrm>
            <a:off x="2438280" y="2590920"/>
            <a:ext cx="4267440" cy="350496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76200">
            <a:off x="1519200" y="40449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41" name=""/>
          <p:cNvSpPr/>
          <p:nvPr/>
        </p:nvSpPr>
        <p:spPr>
          <a:xfrm>
            <a:off x="5486400" y="2666880"/>
            <a:ext cx="914400" cy="7621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ok</a:t>
            </a:r>
            <a:endParaRPr b="0" lang="en-US" sz="2000" spc="-1" strike="noStrike">
              <a:solidFill>
                <a:srgbClr val="000000"/>
              </a:solidFill>
              <a:latin typeface="Times New Roman"/>
            </a:endParaRPr>
          </a:p>
        </p:txBody>
      </p:sp>
      <p:sp>
        <p:nvSpPr>
          <p:cNvPr id="142" name=""/>
          <p:cNvSpPr/>
          <p:nvPr/>
        </p:nvSpPr>
        <p:spPr>
          <a:xfrm>
            <a:off x="3504600" y="182880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iation</a:t>
            </a:r>
            <a:endParaRPr b="0" lang="en-US" sz="2400" spc="-1" strike="noStrike">
              <a:solidFill>
                <a:srgbClr val="000000"/>
              </a:solidFill>
              <a:latin typeface="Times New Roman"/>
            </a:endParaRPr>
          </a:p>
        </p:txBody>
      </p:sp>
      <p:sp>
        <p:nvSpPr>
          <p:cNvPr id="143" name=""/>
          <p:cNvSpPr/>
          <p:nvPr/>
        </p:nvSpPr>
        <p:spPr>
          <a:xfrm>
            <a:off x="4572000" y="4191120"/>
            <a:ext cx="121932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st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ew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Large Businesses</a:t>
            </a:r>
            <a:endParaRPr b="0" lang="en-US" sz="4000" spc="-1" strike="noStrike">
              <a:solidFill>
                <a:srgbClr val="000000"/>
              </a:solidFill>
              <a:latin typeface="Arial Black"/>
            </a:endParaRPr>
          </a:p>
        </p:txBody>
      </p:sp>
      <p:sp>
        <p:nvSpPr>
          <p:cNvPr id="1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w Cos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fferentiati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w Cost/Differenti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Large Businesses</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w Co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mphasizes keeping overall costs low while serving a broad market industrywid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1" lang="en-US" sz="3200" spc="-1" strike="noStrike">
                <a:solidFill>
                  <a:srgbClr val="000000"/>
                </a:solidFill>
                <a:latin typeface="Tahoma"/>
              </a:rPr>
              <a:t>Business Unit</a:t>
            </a:r>
            <a:r>
              <a:rPr b="0" lang="en-US" sz="3200" spc="-1" strike="noStrike">
                <a:solidFill>
                  <a:srgbClr val="000000"/>
                </a:solidFill>
                <a:latin typeface="Tahoma"/>
              </a:rPr>
              <a:t> is defined as an organizational subsystem that has its own market, a set of competitors, and a mission distinct from those of the other subsystems in the organ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w Cost Strategy</a:t>
            </a:r>
            <a:endParaRPr b="0" lang="en-US" sz="4000" spc="-1" strike="noStrike">
              <a:solidFill>
                <a:srgbClr val="000000"/>
              </a:solidFill>
              <a:latin typeface="Arial Black"/>
            </a:endParaRPr>
          </a:p>
        </p:txBody>
      </p:sp>
      <p:sp>
        <p:nvSpPr>
          <p:cNvPr id="149" name=""/>
          <p:cNvSpPr/>
          <p:nvPr/>
        </p:nvSpPr>
        <p:spPr>
          <a:xfrm>
            <a:off x="2438280" y="2590920"/>
            <a:ext cx="4267440" cy="350496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76200">
            <a:off x="1519200" y="40449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51" name=""/>
          <p:cNvSpPr/>
          <p:nvPr/>
        </p:nvSpPr>
        <p:spPr>
          <a:xfrm>
            <a:off x="3504600" y="182880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iation</a:t>
            </a:r>
            <a:endParaRPr b="0" lang="en-US" sz="2400" spc="-1" strike="noStrike">
              <a:solidFill>
                <a:srgbClr val="000000"/>
              </a:solidFill>
              <a:latin typeface="Times New Roman"/>
            </a:endParaRPr>
          </a:p>
        </p:txBody>
      </p:sp>
      <p:sp>
        <p:nvSpPr>
          <p:cNvPr id="152" name=""/>
          <p:cNvSpPr/>
          <p:nvPr/>
        </p:nvSpPr>
        <p:spPr>
          <a:xfrm>
            <a:off x="2666880" y="4648320"/>
            <a:ext cx="1524240" cy="1143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l Mart</a:t>
            </a:r>
            <a:endParaRPr b="0" lang="en-US" sz="2000" spc="-1" strike="noStrike">
              <a:solidFill>
                <a:srgbClr val="000000"/>
              </a:solidFill>
              <a:latin typeface="Times New Roman"/>
            </a:endParaRPr>
          </a:p>
        </p:txBody>
      </p:sp>
      <p:sp>
        <p:nvSpPr>
          <p:cNvPr id="153" name=""/>
          <p:cNvSpPr/>
          <p:nvPr/>
        </p:nvSpPr>
        <p:spPr>
          <a:xfrm>
            <a:off x="4952880" y="3048120"/>
            <a:ext cx="114300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m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c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Large Businesses</a:t>
            </a:r>
            <a:endParaRPr b="0" lang="en-US" sz="4000" spc="-1" strike="noStrike">
              <a:solidFill>
                <a:srgbClr val="000000"/>
              </a:solidFill>
              <a:latin typeface="Arial Black"/>
            </a:endParaRPr>
          </a:p>
        </p:txBody>
      </p:sp>
      <p:sp>
        <p:nvSpPr>
          <p:cNvPr id="155" name="PlaceHolder 2"/>
          <p:cNvSpPr>
            <a:spLocks noGrp="1"/>
          </p:cNvSpPr>
          <p:nvPr>
            <p:ph/>
          </p:nvPr>
        </p:nvSpPr>
        <p:spPr>
          <a:xfrm>
            <a:off x="457200" y="1886040"/>
            <a:ext cx="8229600" cy="47433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w Cost Vulnerabilities</a:t>
            </a:r>
            <a:endParaRPr b="0" lang="en-US" sz="32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main vulnerable to price competition pressuring margins further aggravated by price war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chnological stability causing firms to avoid responding to new mrkt &amp; product opportunities may become obsolet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Large Businesses</a:t>
            </a: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fferenti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mphasizes offering customers industrywide highly differentiated, need fulfilling products or servic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fferentiation Strategy</a:t>
            </a:r>
            <a:endParaRPr b="0" lang="en-US" sz="4000" spc="-1" strike="noStrike">
              <a:solidFill>
                <a:srgbClr val="000000"/>
              </a:solidFill>
              <a:latin typeface="Arial Black"/>
            </a:endParaRPr>
          </a:p>
        </p:txBody>
      </p:sp>
      <p:sp>
        <p:nvSpPr>
          <p:cNvPr id="159" name=""/>
          <p:cNvSpPr/>
          <p:nvPr/>
        </p:nvSpPr>
        <p:spPr>
          <a:xfrm>
            <a:off x="2438280" y="2590920"/>
            <a:ext cx="4267440" cy="350496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6276200">
            <a:off x="1519200" y="40449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61" name=""/>
          <p:cNvSpPr/>
          <p:nvPr/>
        </p:nvSpPr>
        <p:spPr>
          <a:xfrm>
            <a:off x="4952880" y="3429000"/>
            <a:ext cx="114300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a:t>
            </a:r>
            <a:endParaRPr b="0" lang="en-US" sz="2000" spc="-1" strike="noStrike">
              <a:solidFill>
                <a:srgbClr val="000000"/>
              </a:solidFill>
              <a:latin typeface="Times New Roman"/>
            </a:endParaRPr>
          </a:p>
        </p:txBody>
      </p:sp>
      <p:sp>
        <p:nvSpPr>
          <p:cNvPr id="162" name=""/>
          <p:cNvSpPr/>
          <p:nvPr/>
        </p:nvSpPr>
        <p:spPr>
          <a:xfrm>
            <a:off x="3504600" y="19810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Large Businesses</a:t>
            </a:r>
            <a:endParaRPr b="0" lang="en-US" sz="4000" spc="-1" strike="noStrike">
              <a:solidFill>
                <a:srgbClr val="000000"/>
              </a:solidFill>
              <a:latin typeface="Arial Black"/>
            </a:endParaRPr>
          </a:p>
        </p:txBody>
      </p:sp>
      <p:sp>
        <p:nvSpPr>
          <p:cNvPr id="1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w Cost Vulnerabilit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w competitors with similar products at lower costs (and pric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maining unique in customer’s ey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Large Businesses</a:t>
            </a:r>
            <a:endParaRPr b="0" lang="en-US" sz="4000" spc="-1" strike="noStrike">
              <a:solidFill>
                <a:srgbClr val="000000"/>
              </a:solidFill>
              <a:latin typeface="Arial Black"/>
            </a:endParaRPr>
          </a:p>
        </p:txBody>
      </p:sp>
      <p:sp>
        <p:nvSpPr>
          <p:cNvPr id="1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ultiple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use by an organization of more than one of the previously mentioned strategie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d Size Firms Perform Poorly</a:t>
            </a:r>
            <a:endParaRPr b="0" lang="en-US" sz="4000" spc="-1" strike="noStrike">
              <a:solidFill>
                <a:srgbClr val="000000"/>
              </a:solidFill>
              <a:latin typeface="Arial Black"/>
            </a:endParaRPr>
          </a:p>
        </p:txBody>
      </p:sp>
      <p:sp>
        <p:nvSpPr>
          <p:cNvPr id="16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tuck in the Middl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t possess the advantages of either their smaller or larger competitor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they can hope for is to expand their operations over time &amp; take advantage of economies of scale or retrench and become small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lecting a Generic Strategy</a:t>
            </a:r>
            <a:endParaRPr b="0" lang="en-US" sz="4000" spc="-1" strike="noStrike">
              <a:solidFill>
                <a:srgbClr val="000000"/>
              </a:solidFill>
              <a:latin typeface="Arial Black"/>
            </a:endParaRPr>
          </a:p>
        </p:txBody>
      </p:sp>
      <p:sp>
        <p:nvSpPr>
          <p:cNvPr id="170" name=""/>
          <p:cNvSpPr/>
          <p:nvPr/>
        </p:nvSpPr>
        <p:spPr>
          <a:xfrm>
            <a:off x="2421000" y="1924200"/>
            <a:ext cx="357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ustry Life Cycle</a:t>
            </a:r>
            <a:endParaRPr b="0" lang="en-US" sz="3200" spc="-1" strike="noStrike">
              <a:solidFill>
                <a:srgbClr val="000000"/>
              </a:solidFill>
              <a:latin typeface="Times New Roman"/>
            </a:endParaRPr>
          </a:p>
        </p:txBody>
      </p:sp>
      <p:cxnSp>
        <p:nvCxnSpPr>
          <p:cNvPr id="171" name=""/>
          <p:cNvCxnSpPr/>
          <p:nvPr/>
        </p:nvCxnSpPr>
        <p:spPr>
          <a:xfrm flipV="1">
            <a:off x="1218960" y="3200040"/>
            <a:ext cx="3353400" cy="2286720"/>
          </a:xfrm>
          <a:prstGeom prst="curvedConnector5">
            <a:avLst>
              <a:gd name="adj1" fmla="val 50000"/>
              <a:gd name="adj2" fmla="val 49992"/>
              <a:gd name="adj3" fmla="val 50000"/>
            </a:avLst>
          </a:prstGeom>
          <a:ln w="9360">
            <a:solidFill>
              <a:srgbClr val="000000"/>
            </a:solidFill>
            <a:miter/>
          </a:ln>
        </p:spPr>
      </p:cxnSp>
      <p:cxnSp>
        <p:nvCxnSpPr>
          <p:cNvPr id="172" name=""/>
          <p:cNvCxnSpPr/>
          <p:nvPr/>
        </p:nvCxnSpPr>
        <p:spPr>
          <a:xfrm>
            <a:off x="4572000" y="3200040"/>
            <a:ext cx="3124800" cy="1067400"/>
          </a:xfrm>
          <a:prstGeom prst="curvedConnector5">
            <a:avLst>
              <a:gd name="adj1" fmla="val 49994"/>
              <a:gd name="adj2" fmla="val 50000"/>
              <a:gd name="adj3" fmla="val 49994"/>
            </a:avLst>
          </a:prstGeom>
          <a:ln w="9360">
            <a:solidFill>
              <a:srgbClr val="000000"/>
            </a:solidFill>
            <a:miter/>
          </a:ln>
        </p:spPr>
      </p:cxnSp>
      <p:sp>
        <p:nvSpPr>
          <p:cNvPr id="173" name=""/>
          <p:cNvSpPr/>
          <p:nvPr/>
        </p:nvSpPr>
        <p:spPr>
          <a:xfrm>
            <a:off x="533520" y="571500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bryonic    Growth    Shakeout   Maturity   Decline</a:t>
            </a:r>
            <a:endParaRPr b="0" lang="en-US" sz="2400" spc="-1" strike="noStrike">
              <a:solidFill>
                <a:srgbClr val="000000"/>
              </a:solidFill>
              <a:latin typeface="Times New Roman"/>
            </a:endParaRPr>
          </a:p>
        </p:txBody>
      </p:sp>
      <p:sp>
        <p:nvSpPr>
          <p:cNvPr id="174" name=""/>
          <p:cNvSpPr/>
          <p:nvPr/>
        </p:nvSpPr>
        <p:spPr>
          <a:xfrm>
            <a:off x="2057400" y="5334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429000" y="35812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00600" y="32004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67280" y="35053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tting “Stuck in the Middle”</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oneself between a niche strategy and a broad target market strategy is a recipe for disaster . . . No competitive advantage and thus “below average” performance is the best that one can expe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etition</a:t>
            </a:r>
            <a:r>
              <a:rPr b="0" lang="en-US" sz="3200" spc="-1" strike="noStrike">
                <a:solidFill>
                  <a:srgbClr val="000000"/>
                </a:solidFill>
                <a:latin typeface="Tahoma"/>
              </a:rPr>
              <a:t> amounts to the efforts of multiple organizations that are offering a similar product or service in obtaining desired customers, market share, ranking or resour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rategic Group</a:t>
            </a:r>
            <a:r>
              <a:rPr b="0" lang="en-US" sz="3200" spc="-1" strike="noStrike">
                <a:solidFill>
                  <a:srgbClr val="000000"/>
                </a:solidFill>
                <a:latin typeface="Tahoma"/>
              </a:rPr>
              <a:t> amounts to a set of firms competing within an industry that have similar strategies and resour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100" name="PlaceHolder 2"/>
          <p:cNvSpPr>
            <a:spLocks noGrp="1"/>
          </p:cNvSpPr>
          <p:nvPr>
            <p:ph/>
          </p:nvPr>
        </p:nvSpPr>
        <p:spPr>
          <a:xfrm>
            <a:off x="457200" y="2437920"/>
            <a:ext cx="4013280" cy="4172040"/>
          </a:xfrm>
          <a:prstGeom prst="rect">
            <a:avLst/>
          </a:prstGeom>
          <a:noFill/>
          <a:ln w="28440">
            <a:solidFill>
              <a:srgbClr val="000000"/>
            </a:solidFill>
            <a:miter/>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of vertical integr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ographic scop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of diversific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mp;D expenditu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3"/>
          <p:cNvSpPr>
            <a:spLocks noGrp="1"/>
          </p:cNvSpPr>
          <p:nvPr>
            <p:ph/>
          </p:nvPr>
        </p:nvSpPr>
        <p:spPr>
          <a:xfrm>
            <a:off x="4724280" y="2437920"/>
            <a:ext cx="4013280" cy="4172040"/>
          </a:xfrm>
          <a:prstGeom prst="rect">
            <a:avLst/>
          </a:prstGeom>
          <a:noFill/>
          <a:ln w="28440">
            <a:solidFill>
              <a:srgbClr val="000000"/>
            </a:solidFill>
            <a:miter/>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 Shar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i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characteristic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other relevant strategic factor</a:t>
            </a:r>
            <a:endParaRPr b="0" lang="en-US" sz="2800" spc="-1" strike="noStrike">
              <a:solidFill>
                <a:srgbClr val="000000"/>
              </a:solidFill>
              <a:latin typeface="Tahoma"/>
            </a:endParaRPr>
          </a:p>
        </p:txBody>
      </p:sp>
      <p:sp>
        <p:nvSpPr>
          <p:cNvPr id="102" name=""/>
          <p:cNvSpPr/>
          <p:nvPr/>
        </p:nvSpPr>
        <p:spPr>
          <a:xfrm>
            <a:off x="-40680" y="1523880"/>
            <a:ext cx="892872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u="sng">
                <a:solidFill>
                  <a:srgbClr val="000000"/>
                </a:solidFill>
                <a:uFillTx/>
                <a:latin typeface="Times New Roman"/>
              </a:rPr>
              <a:t>Potential Dimensions Used in Defining Strategic Group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ategy Formulation</a:t>
            </a:r>
            <a:endParaRPr b="0" lang="en-US" sz="40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VIRO Framework for defining a Sustainable Competitive Advantage</a:t>
            </a:r>
            <a:endParaRPr b="0" lang="en-US" sz="3200" spc="-1" strike="noStrike">
              <a:solidFill>
                <a:srgbClr val="000000"/>
              </a:solidFill>
              <a:latin typeface="Tahoma"/>
            </a:endParaRPr>
          </a:p>
          <a:p>
            <a:pPr marL="339480" indent="-33948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Value - does it provide a comp advantage?</a:t>
            </a:r>
            <a:endParaRPr b="0" lang="en-US" sz="3000" spc="-1" strike="noStrike">
              <a:solidFill>
                <a:srgbClr val="000000"/>
              </a:solidFill>
              <a:latin typeface="Tahoma"/>
            </a:endParaRPr>
          </a:p>
          <a:p>
            <a:pPr marL="339480" indent="-33948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Rareness - do other competitors have it?</a:t>
            </a:r>
            <a:endParaRPr b="0" lang="en-US" sz="3000" spc="-1" strike="noStrike">
              <a:solidFill>
                <a:srgbClr val="000000"/>
              </a:solidFill>
              <a:latin typeface="Tahoma"/>
            </a:endParaRPr>
          </a:p>
          <a:p>
            <a:pPr marL="339480" indent="-33948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mitability - Is it costly for others to imitate?</a:t>
            </a:r>
            <a:endParaRPr b="0" lang="en-US" sz="3000" spc="-1" strike="noStrike">
              <a:solidFill>
                <a:srgbClr val="000000"/>
              </a:solidFill>
              <a:latin typeface="Tahoma"/>
            </a:endParaRPr>
          </a:p>
          <a:p>
            <a:pPr marL="339480" indent="-339480">
              <a:spcBef>
                <a:spcPts val="7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rganization - is the firm organized to exploit the resource?</a:t>
            </a:r>
            <a:endParaRPr b="0" lang="en-US" sz="3000" spc="-1" strike="noStrike">
              <a:solidFill>
                <a:srgbClr val="000000"/>
              </a:solidFill>
              <a:latin typeface="Tahoma"/>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rter’s Generic Competitive Business Unit Strategies</a:t>
            </a:r>
            <a:endParaRPr b="0" lang="en-US" sz="3600" spc="-1" strike="noStrike">
              <a:solidFill>
                <a:srgbClr val="000000"/>
              </a:solidFill>
              <a:latin typeface="Arial Black"/>
            </a:endParaRPr>
          </a:p>
        </p:txBody>
      </p:sp>
      <p:sp>
        <p:nvSpPr>
          <p:cNvPr id="106" name="PlaceHolder 2"/>
          <p:cNvSpPr>
            <a:spLocks noGrp="1"/>
          </p:cNvSpPr>
          <p:nvPr>
            <p:ph/>
          </p:nvPr>
        </p:nvSpPr>
        <p:spPr>
          <a:xfrm>
            <a:off x="456840" y="1886040"/>
            <a:ext cx="8178840" cy="4667040"/>
          </a:xfrm>
          <a:prstGeom prst="rect">
            <a:avLst/>
          </a:prstGeom>
          <a:noFill/>
          <a:ln w="28440">
            <a:solidFill>
              <a:srgbClr val="000000"/>
            </a:solidFill>
            <a:miter/>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critical to envision org’s that are determined to both:</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 a narrow or focused market niche versus a broad market (in terms of customers or product).</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ct to to compete on the basis of having the lowest costs (not price) or by being distinctively different (or differentiated).</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08" name="PlaceHolder 2"/>
          <p:cNvSpPr>
            <a:spLocks noGrp="1"/>
          </p:cNvSpPr>
          <p:nvPr>
            <p:ph/>
          </p:nvPr>
        </p:nvSpPr>
        <p:spPr>
          <a:xfrm>
            <a:off x="0" y="1885680"/>
            <a:ext cx="9144000" cy="497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Low Cos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Differentiati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Low Cost/Differentiation</a:t>
            </a:r>
            <a:endParaRPr b="0" lang="en-US" sz="3200" spc="-1" strike="noStrike">
              <a:solidFill>
                <a:srgbClr val="000000"/>
              </a:solidFill>
              <a:latin typeface="Tahoma"/>
            </a:endParaRPr>
          </a:p>
        </p:txBody>
      </p:sp>
      <p:sp>
        <p:nvSpPr>
          <p:cNvPr id="109" name=""/>
          <p:cNvSpPr/>
          <p:nvPr/>
        </p:nvSpPr>
        <p:spPr>
          <a:xfrm>
            <a:off x="914400" y="5257800"/>
            <a:ext cx="175248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ganiz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y</a:t>
            </a:r>
            <a:endParaRPr b="0" lang="en-US" sz="1800" spc="-1" strike="noStrike">
              <a:solidFill>
                <a:srgbClr val="000000"/>
              </a:solidFill>
              <a:latin typeface="Times New Roman"/>
            </a:endParaRPr>
          </a:p>
        </p:txBody>
      </p:sp>
      <p:sp>
        <p:nvSpPr>
          <p:cNvPr id="110" name=""/>
          <p:cNvSpPr/>
          <p:nvPr/>
        </p:nvSpPr>
        <p:spPr>
          <a:xfrm>
            <a:off x="7086600" y="5715000"/>
            <a:ext cx="175248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duct</a:t>
            </a:r>
            <a:endParaRPr b="0" lang="en-US" sz="2200" spc="-1" strike="noStrike">
              <a:solidFill>
                <a:srgbClr val="000000"/>
              </a:solidFill>
              <a:latin typeface="Times New Roman"/>
            </a:endParaRPr>
          </a:p>
        </p:txBody>
      </p:sp>
      <p:sp>
        <p:nvSpPr>
          <p:cNvPr id="111" name=""/>
          <p:cNvSpPr/>
          <p:nvPr/>
        </p:nvSpPr>
        <p:spPr>
          <a:xfrm>
            <a:off x="5486400" y="5257800"/>
            <a:ext cx="175248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stomer</a:t>
            </a:r>
            <a:endParaRPr b="0" lang="en-US" sz="2200" spc="-1" strike="noStrike">
              <a:solidFill>
                <a:srgbClr val="000000"/>
              </a:solidFill>
              <a:latin typeface="Times New Roman"/>
            </a:endParaRPr>
          </a:p>
        </p:txBody>
      </p:sp>
      <p:sp>
        <p:nvSpPr>
          <p:cNvPr id="112" name=""/>
          <p:cNvSpPr/>
          <p:nvPr/>
        </p:nvSpPr>
        <p:spPr>
          <a:xfrm>
            <a:off x="3809880" y="4724280"/>
            <a:ext cx="1752840" cy="914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ographical</a:t>
            </a:r>
            <a:endParaRPr b="0" lang="en-US" sz="2200" spc="-1" strike="noStrike">
              <a:solidFill>
                <a:srgbClr val="000000"/>
              </a:solidFill>
              <a:latin typeface="Times New Roman"/>
            </a:endParaRPr>
          </a:p>
        </p:txBody>
      </p:sp>
      <p:sp>
        <p:nvSpPr>
          <p:cNvPr id="113" name=""/>
          <p:cNvSpPr/>
          <p:nvPr/>
        </p:nvSpPr>
        <p:spPr>
          <a:xfrm flipV="1">
            <a:off x="2666880" y="5257800"/>
            <a:ext cx="114300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90920" y="5638680"/>
            <a:ext cx="2895480" cy="152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90920" y="5715000"/>
            <a:ext cx="472428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neric Strategies for Small Businesses</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iche-Low Cos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mphasizes keeping overall costs low while serving a narrow or focused segment (niche) of the mark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14:12:33Z</dcterms:created>
  <dc:creator>Grant H. Fenner</dc:creator>
  <dc:description/>
  <dc:language>en-US</dc:language>
  <cp:lastModifiedBy>Grant H. Fenner</cp:lastModifiedBy>
  <dcterms:modified xsi:type="dcterms:W3CDTF">2003-09-10T13:41:42Z</dcterms:modified>
  <cp:revision>11</cp:revision>
  <dc:subject/>
  <dc:title>Strategy Form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0287395</vt:r8>
  </property>
  <property fmtid="{D5CDD505-2E9C-101B-9397-08002B2CF9AE}" pid="3" name="_AuthorEmail">
    <vt:lpwstr>gfenner@midsouth.rr.com</vt:lpwstr>
  </property>
  <property fmtid="{D5CDD505-2E9C-101B-9397-08002B2CF9AE}" pid="4" name="_AuthorEmailDisplayName">
    <vt:lpwstr>Grant H. Fenner</vt:lpwstr>
  </property>
  <property fmtid="{D5CDD505-2E9C-101B-9397-08002B2CF9AE}" pid="5" name="_EmailSubject">
    <vt:lpwstr>chapter 6 slides</vt:lpwstr>
  </property>
</Properties>
</file>