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BD9C8-7917-47E1-A211-B61B544CB5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hallenge in implementing the org’s business level strategy is to create and exploit a sustainable competitive advantage.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etitive advantage comes from the org’s ability to use its resources to develop capabilities that may, in turn, become distinctive.  All of these details happen though the actual strategies being used in the org’s various functional work units.</a:t>
            </a:r>
            <a:endParaRPr b="0" lang="en-US" sz="1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cut internal costs essential to firms with a N/LC, NlLC-D,  LC or  LC-D  strategy while promoting differention, and quality  thru a faster response to the mrkt’s needs vital to firms following a N/D N/LC, D or L/C-D strategy.</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PS, FedEx and WalMart each believes that the leader in information mgmt will be a leader in their respective businesses.  UPS &amp; FedEx both being in the info business and WalMart using info processing to lower costs and streamline operation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rategic decisions may rest on outsourcing IS or parts of I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304920" y="4343400"/>
            <a:ext cx="6248160" cy="44956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ms using N/LC or LC strategies may seek to lower their financial costs by attempting to keep their costs within the limits of the funds generating internally by it operations.  If borrowing funds . . . Will wait till time when borrowing costs are relatively low or to sell stock to coincide with a bull market.  Capital investment decisions will center on plant and equipment, technology, R&amp;D efforts that can lower their cost positions even mor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sinesses following N/D or D strategies pursue financial strategies that fund quality enhancements or to stay in step w/competitors product improvments or innovation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LC-D or LC-D or mult Stats use financial strategies to  lower costs on one hand and to promote quality enhancements on the other.  B/c these firms are typically good performers . . . They have good financial positions that offer them greater options at better costs.</a:t>
            </a: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r a business units generic strategy to be successful, ea. Functional area must do more than operate effectively . . . Strategic success requires all functional activities be tightly integrated so that their operations mesh smoothly with one another so they can attain a competitive advantage by way of:</a:t>
            </a:r>
            <a:endParaRPr b="0" lang="en-US" sz="1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ining a competitive advantage thru superior design involves all functional area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well designed  product is attractive, EZ to build, market, use, and maintain but superior product desig is not sufficient to gain a substantial competitive edge . . . Must combined with superior service.</a:t>
            </a:r>
            <a:endParaRPr b="0" lang="en-US" sz="1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105520" cy="449568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functional areas must work together to provide the customer with product and service value</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0" lang="en-US" sz="1800" spc="-1" strike="noStrike">
                <a:solidFill>
                  <a:srgbClr val="000000"/>
                </a:solidFill>
                <a:latin typeface="Times New Roman"/>
              </a:rPr>
              <a:t>Carrying the products that customers desire at competitive prices means that purchasing, inventory, IS, and finance functions must communicate closely</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mployess able to respond to cust inquires - HRM </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tock sufficient quantities of items it advertises - purchasing, inventory, AIS and Mrktg</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 means for customers to check out their purchases accuarately and quickly IS and HRM.</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QM means that a company must perceive the world through the eyes of the customer.</a:t>
            </a:r>
            <a:endParaRPr b="0" lang="en-US" sz="1800" spc="-1" strike="noStrike">
              <a:solidFill>
                <a:srgbClr val="000000"/>
              </a:solidFill>
              <a:latin typeface="Times New Roman"/>
            </a:endParaRPr>
          </a:p>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105520" cy="449568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anyone think of a favorable or unfavorable guarantee response from a firm they did business with?</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Crew</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erox</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formance Bicycl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omer service 899 #’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about United Airlines?</a:t>
            </a:r>
            <a:endParaRPr b="0" lang="en-US" sz="18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304920" y="4343400"/>
            <a:ext cx="6248160" cy="449568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ditionally:</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rktg mgr authorizes mrkt research study</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ordinates report results to mrktg mgr</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rktg mgr discusses results w/a VP</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P &amp; mrktg mgr presents to mfg mgr</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 mgr asks prod engineers develop prototype</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prototype acceptable to mrktg, procure parts</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sonnel charged w/determining costs by contacting suppliers</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supplier costs too high, may go back to production to revise product specifications permit less costly components</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evised product specifications must then be approved by mrktg</a:t>
            </a:r>
            <a:endParaRPr b="0" lang="en-US" sz="1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critical importance is the recognition that functional strategies cannot view their roles introspectively and independently of other functions, but instead, view themselves in an interrelated manner . . . Recognizing a change or action in one department will surely affect and impact another department which may contribute or hinder the ability of the functional areas to help the business unit achieve overall strategi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se functions are charged with acquiring, coordinating,   processing, and tranforming the the org’s inputs into outputs which are delivered to the org’s customers.</a:t>
            </a:r>
            <a:endParaRPr b="0" lang="en-US" sz="1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s begin w/ production-operations which amounts to the functional process of creating goods and services in which the org’s inputs (resources) are transformed into org’l outputs (products or servic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s such areas as purchasing and materials management as well as the elements critical to manufacturing the product or producing the service.</a:t>
            </a:r>
            <a:endParaRPr b="0" lang="en-US" sz="1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0" y="4191120"/>
            <a:ext cx="6858000" cy="495288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1) Process focus appropriate for producing high-variety, low-volume products,  (2) product focused appropriate for producing high volume/low variety products and (3) repetitive focused which falls between the above and uses standardized compenents in assembling products typical to an assembly line.</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emand mgmt with strategies designed to respond to demands shifts such as staffing changes, purchase/buy/lease decisions, improving work methods to be more efficient or redesigning the product  versus capacity strategies that deal with effectively and efficiently using current faciliti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cation factors such as labor costs &amp; availability, proximity to raw mat’ls or mrkts, state &amp; local policies and regulations, utility costs, quality of life, etc.</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b specialization, job enlargement, ergonomics, work methods, motivation  incentive systems (what gets rewarded . . . Quality or quantity?) &amp; developing stds for different job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xed position, process oriented (low volume/high variety or job shop), office layout, retail service layout, warehouse layout, production-oriented layout (organized around a product or group of similar high volume/low variety prods</a:t>
            </a:r>
            <a:endParaRPr b="0" lang="en-US" sz="16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0" y="4343040"/>
            <a:ext cx="6858000" cy="48006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roduction -operations mgmt strategies include such things as purchasing , JIT systems, and maintainenc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at kind of purchasing strategy will be employed by firms with a niche low cost or low cost strategy?  (large firms use bargaining power - small firms  join industry networks.)  The key is </a:t>
            </a:r>
            <a:r>
              <a:rPr b="1" lang="en-US" sz="1600" spc="-1" strike="noStrike">
                <a:solidFill>
                  <a:srgbClr val="000000"/>
                </a:solidFill>
                <a:latin typeface="Times New Roman"/>
              </a:rPr>
              <a:t>best cos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How about niche differentiation or differentiatio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IT systems are likely to work well for US companies when the manufacturer has greater bargaining power that its suppliers  Threats to JIT are firms with inconsistent deliveries . . . Work stoppag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old way was to work one supplier against the other for the lowest price . . . The ew way is for buyers and suppliers to work together in a long term relationship where information is readily shared so both orgs can meet shared goal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rketing: process of assessing &amp; meeting individual’s or group’s wants and needs by creating, offering and exchanging products of value</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rkt segments - are customers seeking a Rolls Royce different from customers seeking a Chevy?</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rktg Mix - product, price,promotion &amp; plac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C or N/LC will have undifferentiated or minimally differentiated products vs a D or N/D which will seek to maximize differentiation.  The approach taken by LC need not be considered cheap or shoddy as evidenced by Motel 6 or Waffle House with no frill rooms/meals but reamain clean and consistent.  Charge low prices . . . Located at intersections on busy hwys using low cost promotions strategies intended to convey satisfactory economy lodging or breakfast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ploying  mrktg strategies consistent with products and where they exist within the product life cycl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priority for business units regardless of their generic strategy is that of developing commitment among their employees to the org’n and to the job.</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t how have the mergers, acquisitions and massive restructurings of the past 20 years affected commitment to company and job in the wake of massive layoffs of as much as 20% of the workforce with regard to the remaining survivor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4710C0-0695-4C25-A2BC-3325A3EA47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DBAFD-266C-401A-AE9C-28F793597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4EAD1B-7702-4615-9965-CF845884B9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F071C6-CCA1-4821-A277-DD6A53A05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51F3D4-7FCD-4A97-99C5-8D104E76A4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942CE8-8855-430B-90BF-AE539F4045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09B8C9-1B3B-4FB4-8B2F-74F4B19ED1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A4DF0A-9D71-4CC3-B84C-31E34C10C9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B24A70-467E-4FB0-B5A0-641E374C8E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EE584D-8623-4ED1-9C16-BD59F250DC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D7AEE-F683-4128-BF5E-15A44F90C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6E39A-B067-4258-BE70-A01DA8AB8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78F90-8F0F-4710-B4DE-2FAEF4DA0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D38A6-6A9F-48CF-B628-69CB5C7D6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8781F1-DAF4-4D4C-B06B-1D78F7DCF7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8FE5E8-E279-4058-A353-3FF7F8B26C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5F06F2-DA1F-4B1B-85B7-48FCA9060C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ADBC8-5B3F-4223-A471-32FB055A6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08A97-999B-4358-B72E-799AE2C2A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A6C03-6C61-491D-A1C0-66B4DB157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E5391-5AB1-4FEC-9E9C-047916EF9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54991-4EAA-47A1-B907-E53A7A403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427B6-D0C2-4639-8316-8493F21C1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9D904-BAD9-4C70-A9F9-77700D3DB0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8E8DE-BA1E-41A9-AA0A-ADF7B510F35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54CF4-4901-4280-BEFA-746A1636D89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unctional Strategies</a:t>
            </a:r>
            <a:endParaRPr b="0" lang="en-US" sz="4000" spc="-1" strike="noStrike">
              <a:solidFill>
                <a:srgbClr val="000000"/>
              </a:solidFill>
              <a:latin typeface="Arial Black"/>
            </a:endParaRPr>
          </a:p>
        </p:txBody>
      </p:sp>
      <p:sp>
        <p:nvSpPr>
          <p:cNvPr id="92" name="PlaceHolder 2"/>
          <p:cNvSpPr>
            <a:spLocks noGrp="1"/>
          </p:cNvSpPr>
          <p:nvPr>
            <p:ph type="subTitle"/>
          </p:nvPr>
        </p:nvSpPr>
        <p:spPr>
          <a:xfrm>
            <a:off x="2133720" y="3885840"/>
            <a:ext cx="6400800" cy="1771560"/>
          </a:xfrm>
          <a:prstGeom prst="rect">
            <a:avLst/>
          </a:prstGeom>
          <a:noFill/>
          <a:ln w="28440">
            <a:solidFill>
              <a:srgbClr val="000000"/>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xploiting one’s distinctive competencies at the tactical level.</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search &amp; Development Strategies</a:t>
            </a:r>
            <a:endParaRPr b="0" lang="en-US" sz="4000" spc="-1" strike="noStrike">
              <a:solidFill>
                <a:srgbClr val="000000"/>
              </a:solidFill>
              <a:latin typeface="Arial Black"/>
            </a:endParaRPr>
          </a:p>
        </p:txBody>
      </p:sp>
      <p:sp>
        <p:nvSpPr>
          <p:cNvPr id="110" name="PlaceHolder 2"/>
          <p:cNvSpPr>
            <a:spLocks noGrp="1"/>
          </p:cNvSpPr>
          <p:nvPr>
            <p:ph/>
          </p:nvPr>
        </p:nvSpPr>
        <p:spPr>
          <a:xfrm>
            <a:off x="456840" y="1885680"/>
            <a:ext cx="8178840" cy="4172040"/>
          </a:xfrm>
          <a:prstGeom prst="rect">
            <a:avLst/>
          </a:prstGeom>
          <a:noFill/>
          <a:ln w="2844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 Component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duct/Service R&amp;D - efforts that ultimately lead to improvements or innovations in the company’s output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cess R&amp;D - which aims at reducing the costs of operations and making them more efficien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formation System Strategies</a:t>
            </a:r>
            <a:endParaRPr b="0" lang="en-US" sz="4000" spc="-1" strike="noStrike">
              <a:solidFill>
                <a:srgbClr val="000000"/>
              </a:solidFill>
              <a:latin typeface="Arial Black"/>
            </a:endParaRPr>
          </a:p>
        </p:txBody>
      </p:sp>
      <p:sp>
        <p:nvSpPr>
          <p:cNvPr id="112" name="PlaceHolder 2"/>
          <p:cNvSpPr>
            <a:spLocks noGrp="1"/>
          </p:cNvSpPr>
          <p:nvPr>
            <p:ph/>
          </p:nvPr>
        </p:nvSpPr>
        <p:spPr>
          <a:xfrm>
            <a:off x="456840" y="1885680"/>
            <a:ext cx="8178840" cy="4172040"/>
          </a:xfrm>
          <a:prstGeom prst="rect">
            <a:avLst/>
          </a:prstGeom>
          <a:noFill/>
          <a:ln w="28440">
            <a:solidFill>
              <a:srgbClr val="000000"/>
            </a:solidFill>
            <a:miter/>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ll designed information systems benefit all functional areas by permitting each area access to the information it needs and to communicate electronically to other functional departments to enhance interdepartmental (or transfunctional) communic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inancial Strategies</a:t>
            </a:r>
            <a:endParaRPr b="0" lang="en-US" sz="4000" spc="-1" strike="noStrike">
              <a:solidFill>
                <a:srgbClr val="000000"/>
              </a:solidFill>
              <a:latin typeface="Arial Black"/>
            </a:endParaRPr>
          </a:p>
        </p:txBody>
      </p:sp>
      <p:sp>
        <p:nvSpPr>
          <p:cNvPr id="114" name="PlaceHolder 2"/>
          <p:cNvSpPr>
            <a:spLocks noGrp="1"/>
          </p:cNvSpPr>
          <p:nvPr>
            <p:ph/>
          </p:nvPr>
        </p:nvSpPr>
        <p:spPr>
          <a:xfrm>
            <a:off x="456840" y="1885680"/>
            <a:ext cx="8178840" cy="4172040"/>
          </a:xfrm>
          <a:prstGeom prst="rect">
            <a:avLst/>
          </a:prstGeom>
          <a:noFill/>
          <a:ln w="2844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compass cash management as well as the use of credit and decisions regarding capital investmen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tegrating the Functions</a:t>
            </a:r>
            <a:endParaRPr b="0" lang="en-US" sz="4000" spc="-1" strike="noStrike">
              <a:solidFill>
                <a:srgbClr val="000000"/>
              </a:solidFill>
              <a:latin typeface="Arial Black"/>
            </a:endParaRPr>
          </a:p>
        </p:txBody>
      </p:sp>
      <p:sp>
        <p:nvSpPr>
          <p:cNvPr id="11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erior Product Design</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erior Customer Service</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erior Speed</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erior Guarante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tegrating the Functions</a:t>
            </a:r>
            <a:endParaRPr b="0" lang="en-US" sz="4000" spc="-1" strike="noStrike">
              <a:solidFill>
                <a:srgbClr val="000000"/>
              </a:solidFill>
              <a:latin typeface="Arial Black"/>
            </a:endParaRPr>
          </a:p>
        </p:txBody>
      </p:sp>
      <p:sp>
        <p:nvSpPr>
          <p:cNvPr id="118" name="PlaceHolder 2"/>
          <p:cNvSpPr>
            <a:spLocks noGrp="1"/>
          </p:cNvSpPr>
          <p:nvPr>
            <p:ph/>
          </p:nvPr>
        </p:nvSpPr>
        <p:spPr>
          <a:xfrm>
            <a:off x="228600" y="1885680"/>
            <a:ext cx="8686800" cy="4172040"/>
          </a:xfrm>
          <a:prstGeom prst="rect">
            <a:avLst/>
          </a:prstGeom>
          <a:noFill/>
          <a:ln w="28440">
            <a:solidFill>
              <a:srgbClr val="000000"/>
            </a:solidFill>
            <a:miter/>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Superior Product Desig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til recently appearance oriented but now:</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se of manufacturabilty</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roved product functionability</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roved quality</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tegrating the Functions</a:t>
            </a:r>
            <a:endParaRPr b="0" lang="en-US" sz="4000" spc="-1" strike="noStrike">
              <a:solidFill>
                <a:srgbClr val="000000"/>
              </a:solidFill>
              <a:latin typeface="Arial Black"/>
            </a:endParaRPr>
          </a:p>
        </p:txBody>
      </p:sp>
      <p:sp>
        <p:nvSpPr>
          <p:cNvPr id="120" name="PlaceHolder 2"/>
          <p:cNvSpPr>
            <a:spLocks noGrp="1"/>
          </p:cNvSpPr>
          <p:nvPr>
            <p:ph/>
          </p:nvPr>
        </p:nvSpPr>
        <p:spPr>
          <a:xfrm>
            <a:off x="228600" y="1886040"/>
            <a:ext cx="8686800" cy="4743360"/>
          </a:xfrm>
          <a:prstGeom prst="rect">
            <a:avLst/>
          </a:prstGeom>
          <a:noFill/>
          <a:ln w="28440">
            <a:solidFill>
              <a:srgbClr val="000000"/>
            </a:solidFill>
            <a:miter/>
          </a:ln>
        </p:spPr>
        <p:txBody>
          <a:bodyPr lIns="90000" rIns="90000" tIns="46800" bIns="46800" anchor="t">
            <a:normAutofit fontScale="95000"/>
          </a:bodyPr>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Superior Customer Service in Grocery Business</a:t>
            </a:r>
            <a:endParaRPr b="0" lang="en-US" sz="3200" spc="-1" strike="noStrike">
              <a:solidFill>
                <a:srgbClr val="000000"/>
              </a:solidFill>
              <a:latin typeface="Tahoma"/>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rrying products customers desire</a:t>
            </a:r>
            <a:endParaRPr b="0" lang="en-US" sz="3200" spc="-1" strike="noStrike">
              <a:solidFill>
                <a:srgbClr val="000000"/>
              </a:solidFill>
              <a:latin typeface="Tahoma"/>
            </a:endParaRPr>
          </a:p>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mployees responding to customer inquiries</a:t>
            </a:r>
            <a:endParaRPr b="0" lang="en-US" sz="3200" spc="-1" strike="noStrike">
              <a:solidFill>
                <a:srgbClr val="000000"/>
              </a:solidFill>
              <a:latin typeface="Tahoma"/>
            </a:endParaRPr>
          </a:p>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ock sufficient quantities of items advertised</a:t>
            </a:r>
            <a:endParaRPr b="0" lang="en-US" sz="3200" spc="-1" strike="noStrike">
              <a:solidFill>
                <a:srgbClr val="000000"/>
              </a:solidFill>
              <a:latin typeface="Tahoma"/>
            </a:endParaRPr>
          </a:p>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 means for customers to check out purchases accurately and quickly</a:t>
            </a:r>
            <a:endParaRPr b="0" lang="en-US" sz="3200" spc="-1" strike="noStrike">
              <a:solidFill>
                <a:srgbClr val="000000"/>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tegrating the Functions</a:t>
            </a:r>
            <a:endParaRPr b="0" lang="en-US" sz="4000" spc="-1" strike="noStrike">
              <a:solidFill>
                <a:srgbClr val="000000"/>
              </a:solidFill>
              <a:latin typeface="Arial Black"/>
            </a:endParaRPr>
          </a:p>
        </p:txBody>
      </p:sp>
      <p:sp>
        <p:nvSpPr>
          <p:cNvPr id="122" name="PlaceHolder 2"/>
          <p:cNvSpPr>
            <a:spLocks noGrp="1"/>
          </p:cNvSpPr>
          <p:nvPr>
            <p:ph/>
          </p:nvPr>
        </p:nvSpPr>
        <p:spPr>
          <a:xfrm>
            <a:off x="228600" y="1885680"/>
            <a:ext cx="8686800" cy="4172040"/>
          </a:xfrm>
          <a:prstGeom prst="rect">
            <a:avLst/>
          </a:prstGeom>
          <a:noFill/>
          <a:ln w="28440">
            <a:solidFill>
              <a:srgbClr val="000000"/>
            </a:solidFill>
            <a:miter/>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Superior Speed</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ed in developing, making, and distributing products and services can give a business a significant competitive advant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tegrating the Functions</a:t>
            </a:r>
            <a:endParaRPr b="0" lang="en-US" sz="4000" spc="-1" strike="noStrike">
              <a:solidFill>
                <a:srgbClr val="000000"/>
              </a:solidFill>
              <a:latin typeface="Arial Black"/>
            </a:endParaRPr>
          </a:p>
        </p:txBody>
      </p:sp>
      <p:sp>
        <p:nvSpPr>
          <p:cNvPr id="124" name="PlaceHolder 2"/>
          <p:cNvSpPr>
            <a:spLocks noGrp="1"/>
          </p:cNvSpPr>
          <p:nvPr>
            <p:ph/>
          </p:nvPr>
        </p:nvSpPr>
        <p:spPr>
          <a:xfrm>
            <a:off x="228600" y="1885680"/>
            <a:ext cx="8686800" cy="4172040"/>
          </a:xfrm>
          <a:prstGeom prst="rect">
            <a:avLst/>
          </a:prstGeom>
          <a:noFill/>
          <a:ln w="28440">
            <a:solidFill>
              <a:srgbClr val="000000"/>
            </a:solidFill>
            <a:miter/>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Superior Guarante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ighly successful companies go to great lengths to back their guarante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tegrating the Functions</a:t>
            </a:r>
            <a:endParaRPr b="0" lang="en-US" sz="4000" spc="-1" strike="noStrike">
              <a:solidFill>
                <a:srgbClr val="000000"/>
              </a:solidFill>
              <a:latin typeface="Arial Black"/>
            </a:endParaRPr>
          </a:p>
        </p:txBody>
      </p:sp>
      <p:sp>
        <p:nvSpPr>
          <p:cNvPr id="126" name="PlaceHolder 2"/>
          <p:cNvSpPr>
            <a:spLocks noGrp="1"/>
          </p:cNvSpPr>
          <p:nvPr>
            <p:ph/>
          </p:nvPr>
        </p:nvSpPr>
        <p:spPr>
          <a:xfrm>
            <a:off x="228600" y="1885680"/>
            <a:ext cx="8686800" cy="4172040"/>
          </a:xfrm>
          <a:prstGeom prst="rect">
            <a:avLst/>
          </a:prstGeom>
          <a:noFill/>
          <a:ln w="28440">
            <a:solidFill>
              <a:srgbClr val="000000"/>
            </a:solidFill>
            <a:miter/>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Cross-Functional Teams &amp; Process Mgm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hifting from functional to process mgr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unctional Strategy</a:t>
            </a:r>
            <a:endParaRPr b="0" lang="en-US" sz="4000" spc="-1" strike="noStrike">
              <a:solidFill>
                <a:srgbClr val="000000"/>
              </a:solidFill>
              <a:latin typeface="Arial Black"/>
            </a:endParaRPr>
          </a:p>
        </p:txBody>
      </p:sp>
      <p:sp>
        <p:nvSpPr>
          <p:cNvPr id="94" name="PlaceHolder 2"/>
          <p:cNvSpPr>
            <a:spLocks noGrp="1"/>
          </p:cNvSpPr>
          <p:nvPr>
            <p:ph/>
          </p:nvPr>
        </p:nvSpPr>
        <p:spPr>
          <a:xfrm>
            <a:off x="456840" y="1885680"/>
            <a:ext cx="8178840" cy="4172040"/>
          </a:xfrm>
          <a:prstGeom prst="rect">
            <a:avLst/>
          </a:prstGeom>
          <a:noFill/>
          <a:ln w="38160">
            <a:solidFill>
              <a:srgbClr val="000000"/>
            </a:solidFill>
            <a:miter/>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d as those short term strategies performed at the functional level designed to exploit the functional area’s resources, capabilities and core competencies in pursuit of achieving business unit strategi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unctional Strategies</a:t>
            </a:r>
            <a:endParaRPr b="0" lang="en-US" sz="4000" spc="-1" strike="noStrike">
              <a:solidFill>
                <a:srgbClr val="000000"/>
              </a:solidFill>
              <a:latin typeface="Arial Black"/>
            </a:endParaRPr>
          </a:p>
        </p:txBody>
      </p:sp>
      <p:sp>
        <p:nvSpPr>
          <p:cNvPr id="96" name="PlaceHolder 2"/>
          <p:cNvSpPr>
            <a:spLocks noGrp="1"/>
          </p:cNvSpPr>
          <p:nvPr>
            <p:ph/>
          </p:nvPr>
        </p:nvSpPr>
        <p:spPr>
          <a:xfrm>
            <a:off x="456840" y="1885680"/>
            <a:ext cx="8178840" cy="4172040"/>
          </a:xfrm>
          <a:prstGeom prst="rect">
            <a:avLst/>
          </a:prstGeom>
          <a:noFill/>
          <a:ln w="2844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roduction/Operat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Marke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Human Resource Managemen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 Research &amp; Developmen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Information Systems/Technology</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6. Finance/Accounti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duction/Operations</a:t>
            </a:r>
            <a:endParaRPr b="0" lang="en-US" sz="4000" spc="-1" strike="noStrike">
              <a:solidFill>
                <a:srgbClr val="000000"/>
              </a:solidFill>
              <a:latin typeface="Arial Black"/>
            </a:endParaRPr>
          </a:p>
        </p:txBody>
      </p:sp>
      <p:sp>
        <p:nvSpPr>
          <p:cNvPr id="98" name="PlaceHolder 2"/>
          <p:cNvSpPr>
            <a:spLocks noGrp="1"/>
          </p:cNvSpPr>
          <p:nvPr>
            <p:ph/>
          </p:nvPr>
        </p:nvSpPr>
        <p:spPr>
          <a:xfrm>
            <a:off x="456840" y="1886040"/>
            <a:ext cx="8381880" cy="4667040"/>
          </a:xfrm>
          <a:prstGeom prst="rect">
            <a:avLst/>
          </a:prstGeom>
          <a:noFill/>
          <a:ln w="28440">
            <a:solidFill>
              <a:srgbClr val="000000"/>
            </a:solidFill>
            <a:miter/>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duction Process Strategies </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pacity Strategie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cation Strategie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ork Design Strategie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yout Strategie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duction Operations-Mgmt Strategie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urrent Production-Operation Mgmt Strategi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lete this slide after master print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arketing Strategies</a:t>
            </a:r>
            <a:endParaRPr b="0" lang="en-US" sz="4000" spc="-1" strike="noStrike">
              <a:solidFill>
                <a:srgbClr val="000000"/>
              </a:solidFill>
              <a:latin typeface="Arial Black"/>
            </a:endParaRPr>
          </a:p>
        </p:txBody>
      </p:sp>
      <p:sp>
        <p:nvSpPr>
          <p:cNvPr id="10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gmentation</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rget Market Selection</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fferentiation</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sitioning</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rketing Mix</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Human Resource Strategies</a:t>
            </a:r>
            <a:endParaRPr b="0" lang="en-US" sz="4000" spc="-1" strike="noStrike">
              <a:solidFill>
                <a:srgbClr val="000000"/>
              </a:solidFill>
              <a:latin typeface="Arial Black"/>
            </a:endParaRPr>
          </a:p>
        </p:txBody>
      </p:sp>
      <p:sp>
        <p:nvSpPr>
          <p:cNvPr id="10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lude major activities such as planning for future human resource needs, designing jobs, recruiting personnel, placing people in jobs, rewarding them, evaluating their performance, developing them into more effective employees and enhancing their work environmen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Human Resource Mgmt</a:t>
            </a:r>
            <a:endParaRPr b="0" lang="en-US" sz="4000" spc="-1" strike="noStrike">
              <a:solidFill>
                <a:srgbClr val="000000"/>
              </a:solidFill>
              <a:latin typeface="Arial Black"/>
            </a:endParaRPr>
          </a:p>
        </p:txBody>
      </p:sp>
      <p:sp>
        <p:nvSpPr>
          <p:cNvPr id="106" name="PlaceHolder 2"/>
          <p:cNvSpPr>
            <a:spLocks noGrp="1"/>
          </p:cNvSpPr>
          <p:nvPr>
            <p:ph/>
          </p:nvPr>
        </p:nvSpPr>
        <p:spPr>
          <a:xfrm>
            <a:off x="457200" y="1885680"/>
            <a:ext cx="8153280" cy="4438440"/>
          </a:xfrm>
          <a:prstGeom prst="rect">
            <a:avLst/>
          </a:prstGeom>
          <a:noFill/>
          <a:ln w="28440">
            <a:solidFill>
              <a:srgbClr val="000000"/>
            </a:solidFill>
            <a:miter/>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Organizational Climat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hared perspective held by org’l members concerning the critical elements of their org’n, influenced by management and, in turn, serves to guide their actions on the job.</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Schneider (199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Human Resource Mgmt</a:t>
            </a:r>
            <a:endParaRPr b="0" lang="en-US" sz="4000" spc="-1" strike="noStrike">
              <a:solidFill>
                <a:srgbClr val="000000"/>
              </a:solidFill>
              <a:latin typeface="Arial Black"/>
            </a:endParaRPr>
          </a:p>
        </p:txBody>
      </p:sp>
      <p:sp>
        <p:nvSpPr>
          <p:cNvPr id="108" name="PlaceHolder 2"/>
          <p:cNvSpPr>
            <a:spLocks noGrp="1"/>
          </p:cNvSpPr>
          <p:nvPr>
            <p:ph/>
          </p:nvPr>
        </p:nvSpPr>
        <p:spPr>
          <a:xfrm>
            <a:off x="304920" y="1676160"/>
            <a:ext cx="8534160" cy="4971960"/>
          </a:xfrm>
          <a:prstGeom prst="rect">
            <a:avLst/>
          </a:prstGeom>
          <a:noFill/>
          <a:ln w="28440">
            <a:solidFill>
              <a:srgbClr val="000000"/>
            </a:solidFill>
            <a:miter/>
          </a:ln>
        </p:spPr>
        <p:txBody>
          <a:bodyPr lIns="90000" rIns="90000" tIns="46800" bIns="46800" anchor="t">
            <a:normAutofit fontScale="96000"/>
          </a:bodyPr>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Organizational Climate Influences Actions of Employees thru:</a:t>
            </a:r>
            <a:endParaRPr b="0" lang="en-US" sz="32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Organizational goals</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Methods advocated by org’n to perform one’s job</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Degree to which rewards aligned with job performance</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Employee perceptions of being provided necessary resources to perform the job</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Employee feelings of consideration extended by the org’n to themselves and co-work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0T23:26:35Z</dcterms:created>
  <dc:creator>Grant H. Fenner</dc:creator>
  <dc:description/>
  <dc:language>en-US</dc:language>
  <cp:lastModifiedBy>Grant H. Fenner</cp:lastModifiedBy>
  <dcterms:modified xsi:type="dcterms:W3CDTF">2003-09-10T14:55:58Z</dcterms:modified>
  <cp:revision>6</cp:revision>
  <dc:subject/>
  <dc:title>Functional Strategi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63178168</vt:r8>
  </property>
  <property fmtid="{D5CDD505-2E9C-101B-9397-08002B2CF9AE}" pid="3" name="_AuthorEmail">
    <vt:lpwstr>gfenner@midsouth.rr.com</vt:lpwstr>
  </property>
  <property fmtid="{D5CDD505-2E9C-101B-9397-08002B2CF9AE}" pid="4" name="_AuthorEmailDisplayName">
    <vt:lpwstr>Grant H. Fenner</vt:lpwstr>
  </property>
  <property fmtid="{D5CDD505-2E9C-101B-9397-08002B2CF9AE}" pid="5" name="_EmailSubject">
    <vt:lpwstr>chap 5 slides</vt:lpwstr>
  </property>
</Properties>
</file>