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0D45-4EFF-4DFC-9C5A-FF46C6DC8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m Resourc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cial resources - potential debt &amp; equity of fir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resources - machines, bldgs, raw mat’l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man resources - experiences, wisdom, skill &amp; comptenci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angiblel resources - brand names, reputation, patents, trademarks, and copywrit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ational resources - history, culture, work systems, trust, working relationships, &amp; organizational polici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due to technology or shifting demographic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cess grounded in intangibles like information, people, ideas, and knowledg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graphy playing a lessened role with the world as your market . . . As your compeitito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has reduced the distance with which firms communicate and/or conduct business globally to that of seconds</a:t>
            </a: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 just being tolerant of change, but seeking it out and using it to one’s advantag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Changing process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 Changing imag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 Change marke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veloping novel approaches to doing work, offering unique solutions to problems . . . Both w/in the org’n and with regard to the marketplace</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oming an org’n that continually acquires and utilizes knowledge in its strategic decisions and actions in order to be the best that it can be whether that world is Jonesboro or the entire globe</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coconut palms grow in Jonesboro?</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ould you rate the customer loyalty at most bars or restaurant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only what a firm wants to do, but how it’s going to do it.</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single act. But a set of related decisions and action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ized by some for being overly rigid/inflexible - although it may be misapplied . . . It’s not dead.</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ategy is for everyone in the org’n to participate i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rategy is not just planning, but doing . . . Formulating, implementing monitoring . . . As defined, a series of decisions and actions designed to determine the long term performance of the org’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rategies are no more stable and constant than the environment in which orgs operate i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at’s the perfect strategy?  What strategic mgmt offers is a systematic approach to  analyzing critical info . . . And using this info to design, implement and evaluate appropriate strategies </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 Strat - concerned w/broad &amp; LT ?’s like what business(s) are we i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 Level Strat concerned w/how firm is going to compete in a specific business or industr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 Strat are short term goal directed decisions &amp; actions of the org’s functional dep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at implementation is process of putting org’s strats into action - plans mades as strat formulate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 strats implemented as well as outc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ttlefield strats designed to gain edge on enem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es that fail to adapt to changes in their environment are doomed &amp; eventually b/c extinct</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dler - when org’s change strategy, they had to change their structure to carry out strateg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off - provides common thread for 5 org’l decisions (1) prod/mrkt scope (2) growth alts (3) competitive advantage (4) synergy and (5) make or buy decision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rned, et al - business policy text written in 1965 was first to address the concept of orgs internal strength &amp; weaknesses and external opportunities &amp; threats</a:t>
            </a: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ttlefield strats designed to gain edge on enem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es that fail to adapt to changes in their environment are doomed &amp; eventually b/c extinct</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dler - when org’s change strategy, they had to change their structure to carry out strategy</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off - provides common thread for 5 org’l decisions (1) prod/mrkt scope (2) growth alts (3) competitive advantage (4) synergy and (5) make or buy decision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rned, et al - business policy text written in 1965 was first to address the concept of orgs internal strength &amp; weaknesses and external opportunities &amp; threats</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istic b/c it assumes that an org’s survival depends upon its ability to adapt to industry forces</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cus of I/O is on industry forces - Industries with favorable forces offer opportunities for higher returns</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er - gaining &amp; keeping a competitive adv means analyzing external forces and basing strategies on findings - since all firms have essentially the same environment . . . It’s all in how one stacks up to the competition.</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us, like Chamberlin . . . Contingency theorists view org’s asheterogeneous firm that can choose their own operating environments or proactively choose to operate in environments where the environmental opportunities &amp; threats match the firms strengths &amp; weakness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28E32-1B9C-4F22-A9AF-CF406AD5C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F68FB-C213-414D-8DDC-5273E7F33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B803D-FA60-4D8C-B391-0C564AC95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448DE-A0CF-49BA-B869-E45764BFA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445C3-9660-4007-B52E-7EDBE8FFC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9068A-BB9B-4ABF-8EA2-ACF86A113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81B20-E5E6-4B78-B969-A0979851B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20156-27FF-4C00-B408-605846EFB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18256-D078-425F-80EF-9CF2142BA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1996C-6663-4F1D-B696-D64BAF9D9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245C8-03E9-4395-9BCD-A49137E0D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C8421-7ACC-4489-AB03-B2FF39001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17338-564A-4547-8B39-D0D31C785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201A6-C96E-4CC1-B2AD-CD92FB687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9681B-BC04-47AF-AF13-FD20810B4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F90AA-9461-43C1-9EEB-34D098EA6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B702E-84DD-4B4F-8F85-38389B633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CEB27-2C5C-4EFD-A9CF-819D4591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DEE4F-9EBA-4494-AFCA-4363EB5F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9BDA5-DBE4-4B60-92BB-844851E4C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CDA62-FABA-4637-B607-E3B5DA12E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1B485-72BC-462D-BE75-83B761C2C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FD4A-3D91-4039-970B-E74C91236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37647-7AE3-4C23-B081-68CDF4968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389F-83CA-4D26-9F70-04631E5EE0C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8EBA-4582-4C21-877D-7D17199E491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ic Analysis</a:t>
            </a:r>
            <a:endParaRPr b="0" lang="en-US" sz="4000" spc="-1" strike="noStrike">
              <a:solidFill>
                <a:srgbClr val="000000"/>
              </a:solidFill>
              <a:latin typeface="Arial Black"/>
            </a:endParaRPr>
          </a:p>
        </p:txBody>
      </p:sp>
      <p:sp>
        <p:nvSpPr>
          <p:cNvPr id="91" name="PlaceHolder 2"/>
          <p:cNvSpPr>
            <a:spLocks noGrp="1"/>
          </p:cNvSpPr>
          <p:nvPr>
            <p:ph/>
          </p:nvPr>
        </p:nvSpPr>
        <p:spPr>
          <a:xfrm>
            <a:off x="228600" y="1885680"/>
            <a:ext cx="8686800" cy="4172040"/>
          </a:xfrm>
          <a:prstGeom prst="rect">
            <a:avLst/>
          </a:prstGeom>
          <a:noFill/>
          <a:ln w="28440">
            <a:solidFill>
              <a:srgbClr val="000000"/>
            </a:solidFill>
            <a:miter/>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he Commercial Airline Industry</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active or unattractive industry to be in?</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 Environmental Factors - both external to the industry and within the industry</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2. Compare and contrast a successful vs unsuccessful firm in this industry and explain the reasons behind their success or lack of</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Based Theory</a:t>
            </a:r>
            <a:endParaRPr b="0" lang="en-US" sz="4000" spc="-1" strike="noStrike">
              <a:solidFill>
                <a:srgbClr val="000000"/>
              </a:solidFill>
              <a:latin typeface="Arial Black"/>
            </a:endParaRPr>
          </a:p>
        </p:txBody>
      </p:sp>
      <p:sp>
        <p:nvSpPr>
          <p:cNvPr id="129" name="PlaceHolder 2"/>
          <p:cNvSpPr>
            <a:spLocks noGrp="1"/>
          </p:cNvSpPr>
          <p:nvPr>
            <p:ph/>
          </p:nvPr>
        </p:nvSpPr>
        <p:spPr>
          <a:xfrm>
            <a:off x="228600" y="1886040"/>
            <a:ext cx="8686800" cy="4743360"/>
          </a:xfrm>
          <a:prstGeom prst="rect">
            <a:avLst/>
          </a:prstGeom>
          <a:noFill/>
          <a:ln w="28440">
            <a:solidFill>
              <a:srgbClr val="000000"/>
            </a:solidFill>
            <a:miter/>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icated on managerial choice &amp; action</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es on individual firms not competitive environment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m’s resources more important than industry structure in remaining competitive</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that are valuable, rare &amp; subject to imperfect imitation and have no substitutes offer sustainable competitive advant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Based Theory</a:t>
            </a:r>
            <a:endParaRPr b="0" lang="en-US" sz="4000" spc="-1" strike="noStrike">
              <a:solidFill>
                <a:srgbClr val="000000"/>
              </a:solidFill>
              <a:latin typeface="Arial Black"/>
            </a:endParaRPr>
          </a:p>
        </p:txBody>
      </p:sp>
      <p:sp>
        <p:nvSpPr>
          <p:cNvPr id="131" name="PlaceHolder 2"/>
          <p:cNvSpPr>
            <a:spLocks noGrp="1"/>
          </p:cNvSpPr>
          <p:nvPr>
            <p:ph/>
          </p:nvPr>
        </p:nvSpPr>
        <p:spPr>
          <a:xfrm>
            <a:off x="228600" y="1886040"/>
            <a:ext cx="8686800" cy="4743360"/>
          </a:xfrm>
          <a:prstGeom prst="rect">
            <a:avLst/>
          </a:prstGeom>
          <a:noFill/>
          <a:ln w="28440">
            <a:solidFill>
              <a:srgbClr val="000000"/>
            </a:solidFill>
            <a:miter/>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uable: exploit environmental opportunities or negate its threat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re: no other competitors possess it</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mitable: can’t be duplicated or substituted</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rg’n must be able to exploit these resources in order to achieve a sustainable competitive advant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uerrilla View of Strategy</a:t>
            </a:r>
            <a:endParaRPr b="0" lang="en-US" sz="40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s competitive advantage is at best temporary</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b/c environments are constantly changing</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ccessful org’s disrupt the status quo, change the rules &amp; surprise competitors w/strategic actions that keep them off bala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certainty in the Environment</a:t>
            </a:r>
            <a:endParaRPr b="0" lang="en-US" sz="4000" spc="-1" strike="noStrike">
              <a:solidFill>
                <a:srgbClr val="000000"/>
              </a:solidFill>
              <a:latin typeface="Arial Black"/>
            </a:endParaRPr>
          </a:p>
        </p:txBody>
      </p:sp>
      <p:sp>
        <p:nvSpPr>
          <p:cNvPr id="135" name="PlaceHolder 2"/>
          <p:cNvSpPr>
            <a:spLocks noGrp="1"/>
          </p:cNvSpPr>
          <p:nvPr>
            <p:ph/>
          </p:nvPr>
        </p:nvSpPr>
        <p:spPr>
          <a:xfrm>
            <a:off x="456840" y="1752120"/>
            <a:ext cx="8458200" cy="4876920"/>
          </a:xfrm>
          <a:prstGeom prst="rect">
            <a:avLst/>
          </a:prstGeom>
          <a:noFill/>
          <a:ln w="28440">
            <a:solidFill>
              <a:srgbClr val="000000"/>
            </a:solidFill>
            <a:miter/>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s are uncertain</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 Uncertain on how or why the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elements change</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2. Uncertain about the cause/effec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relationships concerning environmental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events</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3. Lacking the knowledge of what to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do</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Milliken (198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certainty in the Environment</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752120"/>
            <a:ext cx="8458200" cy="4876920"/>
          </a:xfrm>
          <a:prstGeom prst="rect">
            <a:avLst/>
          </a:prstGeom>
          <a:noFill/>
          <a:ln w="28440">
            <a:solidFill>
              <a:srgbClr val="000000"/>
            </a:solidFill>
            <a:miter/>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s may be:</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 </a:t>
            </a:r>
            <a:r>
              <a:rPr b="1" lang="en-US" sz="3200" spc="-1" strike="noStrike">
                <a:solidFill>
                  <a:srgbClr val="000000"/>
                </a:solidFill>
                <a:latin typeface="Tahoma"/>
              </a:rPr>
              <a:t>Munificent</a:t>
            </a:r>
            <a:r>
              <a:rPr b="0" lang="en-US" sz="3200" spc="-1" strike="noStrike">
                <a:solidFill>
                  <a:srgbClr val="000000"/>
                </a:solidFill>
                <a:latin typeface="Tahoma"/>
              </a:rPr>
              <a:t> - rich in resources</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2. </a:t>
            </a:r>
            <a:r>
              <a:rPr b="1" lang="en-US" sz="3200" spc="-1" strike="noStrike">
                <a:solidFill>
                  <a:srgbClr val="000000"/>
                </a:solidFill>
                <a:latin typeface="Tahoma"/>
              </a:rPr>
              <a:t>Dynamic</a:t>
            </a:r>
            <a:r>
              <a:rPr b="0" lang="en-US" sz="3200" spc="-1" strike="noStrike">
                <a:solidFill>
                  <a:srgbClr val="000000"/>
                </a:solidFill>
                <a:latin typeface="Tahoma"/>
              </a:rPr>
              <a:t> - degree to which changes </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occur rapidly and are difficult to </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dic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3. </a:t>
            </a:r>
            <a:r>
              <a:rPr b="1" lang="en-US" sz="3200" spc="-1" strike="noStrike">
                <a:solidFill>
                  <a:srgbClr val="000000"/>
                </a:solidFill>
                <a:latin typeface="Tahoma"/>
              </a:rPr>
              <a:t>Complex</a:t>
            </a:r>
            <a:r>
              <a:rPr b="0" lang="en-US" sz="3200" spc="-1" strike="noStrike">
                <a:solidFill>
                  <a:srgbClr val="000000"/>
                </a:solidFill>
                <a:latin typeface="Tahoma"/>
              </a:rPr>
              <a:t> - heterogeneity or range of </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organizational activities</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Dess &amp; Beard (198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alities of the Business Environment</a:t>
            </a:r>
            <a:endParaRPr b="0" lang="en-US" sz="4000" spc="-1" strike="noStrike">
              <a:solidFill>
                <a:srgbClr val="000000"/>
              </a:solidFill>
              <a:latin typeface="Arial Black"/>
            </a:endParaRPr>
          </a:p>
        </p:txBody>
      </p:sp>
      <p:sp>
        <p:nvSpPr>
          <p:cNvPr id="139"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al turbulence &amp; Chan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d need for physical asse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nishing Distan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ressed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 . . . What must firms do to succeed?</a:t>
            </a:r>
            <a:endParaRPr b="0" lang="en-US" sz="4000" spc="-1" strike="noStrike">
              <a:solidFill>
                <a:srgbClr val="000000"/>
              </a:solidFill>
              <a:latin typeface="Arial Black"/>
            </a:endParaRPr>
          </a:p>
        </p:txBody>
      </p:sp>
      <p:sp>
        <p:nvSpPr>
          <p:cNvPr id="141"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brace and thrive on chan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ill creativity and innovation within the organiz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ome a world class organ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 World Class Organization</a:t>
            </a:r>
            <a:endParaRPr b="0" lang="en-US" sz="4000" spc="-1" strike="noStrike">
              <a:solidFill>
                <a:srgbClr val="000000"/>
              </a:solidFill>
              <a:latin typeface="Arial Black"/>
            </a:endParaRPr>
          </a:p>
        </p:txBody>
      </p:sp>
      <p:sp>
        <p:nvSpPr>
          <p:cNvPr id="143" name=""/>
          <p:cNvSpPr/>
          <p:nvPr/>
        </p:nvSpPr>
        <p:spPr>
          <a:xfrm>
            <a:off x="3657600" y="3657600"/>
            <a:ext cx="182880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ld Clas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n</a:t>
            </a:r>
            <a:endParaRPr b="0" lang="en-US" sz="1600" spc="-1" strike="noStrike">
              <a:solidFill>
                <a:srgbClr val="000000"/>
              </a:solidFill>
              <a:latin typeface="Times New Roman"/>
            </a:endParaRPr>
          </a:p>
        </p:txBody>
      </p:sp>
      <p:sp>
        <p:nvSpPr>
          <p:cNvPr id="144" name=""/>
          <p:cNvSpPr/>
          <p:nvPr/>
        </p:nvSpPr>
        <p:spPr>
          <a:xfrm>
            <a:off x="6705720" y="4495680"/>
            <a:ext cx="13716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exib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za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a:t>
            </a:r>
            <a:endParaRPr b="0" lang="en-US" sz="1600" spc="-1" strike="noStrike">
              <a:solidFill>
                <a:srgbClr val="000000"/>
              </a:solidFill>
              <a:latin typeface="Times New Roman"/>
            </a:endParaRPr>
          </a:p>
        </p:txBody>
      </p:sp>
      <p:sp>
        <p:nvSpPr>
          <p:cNvPr id="145" name=""/>
          <p:cNvSpPr/>
          <p:nvPr/>
        </p:nvSpPr>
        <p:spPr>
          <a:xfrm>
            <a:off x="1143000" y="4572000"/>
            <a:ext cx="13716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galitaria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mate</a:t>
            </a:r>
            <a:endParaRPr b="0" lang="en-US" sz="1600" spc="-1" strike="noStrike">
              <a:solidFill>
                <a:srgbClr val="000000"/>
              </a:solidFill>
              <a:latin typeface="Times New Roman"/>
            </a:endParaRPr>
          </a:p>
        </p:txBody>
      </p:sp>
      <p:sp>
        <p:nvSpPr>
          <p:cNvPr id="146" name=""/>
          <p:cNvSpPr/>
          <p:nvPr/>
        </p:nvSpPr>
        <p:spPr>
          <a:xfrm>
            <a:off x="1143000" y="2590920"/>
            <a:ext cx="13716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gnifican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ica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a:t>
            </a:r>
            <a:endParaRPr b="0" lang="en-US" sz="1600" spc="-1" strike="noStrike">
              <a:solidFill>
                <a:srgbClr val="000000"/>
              </a:solidFill>
              <a:latin typeface="Times New Roman"/>
            </a:endParaRPr>
          </a:p>
        </p:txBody>
      </p:sp>
      <p:sp>
        <p:nvSpPr>
          <p:cNvPr id="147" name=""/>
          <p:cNvSpPr/>
          <p:nvPr/>
        </p:nvSpPr>
        <p:spPr>
          <a:xfrm>
            <a:off x="3886200" y="5410080"/>
            <a:ext cx="13716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iv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a:t>
            </a:r>
            <a:endParaRPr b="0" lang="en-US" sz="1600" spc="-1" strike="noStrike">
              <a:solidFill>
                <a:srgbClr val="000000"/>
              </a:solidFill>
              <a:latin typeface="Times New Roman"/>
            </a:endParaRPr>
          </a:p>
        </p:txBody>
      </p:sp>
      <p:sp>
        <p:nvSpPr>
          <p:cNvPr id="148" name=""/>
          <p:cNvSpPr/>
          <p:nvPr/>
        </p:nvSpPr>
        <p:spPr>
          <a:xfrm>
            <a:off x="3809880" y="1981080"/>
            <a:ext cx="13716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ong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cus</a:t>
            </a:r>
            <a:endParaRPr b="0" lang="en-US" sz="1600" spc="-1" strike="noStrike">
              <a:solidFill>
                <a:srgbClr val="000000"/>
              </a:solidFill>
              <a:latin typeface="Times New Roman"/>
            </a:endParaRPr>
          </a:p>
        </p:txBody>
      </p:sp>
      <p:sp>
        <p:nvSpPr>
          <p:cNvPr id="149" name=""/>
          <p:cNvSpPr/>
          <p:nvPr/>
        </p:nvSpPr>
        <p:spPr>
          <a:xfrm>
            <a:off x="6629400" y="2438280"/>
            <a:ext cx="13716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inu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r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rovement</a:t>
            </a:r>
            <a:endParaRPr b="0" lang="en-US" sz="1600" spc="-1" strike="noStrike">
              <a:solidFill>
                <a:srgbClr val="000000"/>
              </a:solidFill>
              <a:latin typeface="Times New Roman"/>
            </a:endParaRPr>
          </a:p>
        </p:txBody>
      </p:sp>
      <p:sp>
        <p:nvSpPr>
          <p:cNvPr id="150" name=""/>
          <p:cNvSpPr/>
          <p:nvPr/>
        </p:nvSpPr>
        <p:spPr>
          <a:xfrm flipV="1">
            <a:off x="2438280" y="4191120"/>
            <a:ext cx="12193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514600" y="2971800"/>
            <a:ext cx="121932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572000" y="289548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572000" y="45720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a:off x="5486040" y="4191120"/>
            <a:ext cx="12193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334120" y="2743200"/>
            <a:ext cx="129528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is strategic management?</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d: As a set of managerial decisions and actions that determine the long run performance of the firm . . . Or, that assures a beneficial fit of the organization with its enviro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is strategic management important?</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6040"/>
            <a:ext cx="8381880" cy="3828960"/>
          </a:xfrm>
          <a:prstGeom prst="rect">
            <a:avLst/>
          </a:prstGeom>
          <a:noFill/>
          <a:ln w="28440">
            <a:solidFill>
              <a:srgbClr val="000000"/>
            </a:solidFill>
            <a:miter/>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Not the sole domain of top mgmt</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Managing strategically affects performance</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hange is a fact of life in busines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Org’s composed of diverse divisions, functions and work activities that must be coordinated and focused on org’l goal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sconceptions About Strategic Management</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y &amp; planning are dea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y is strictly for top manage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y is about plan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y is stable &amp; consta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management outlines the ultimate destination and rou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ic Management Model</a:t>
            </a:r>
            <a:endParaRPr b="0" lang="en-US" sz="4000" spc="-1" strike="noStrike">
              <a:solidFill>
                <a:srgbClr val="000000"/>
              </a:solidFill>
              <a:latin typeface="Arial Black"/>
            </a:endParaRPr>
          </a:p>
        </p:txBody>
      </p:sp>
      <p:sp>
        <p:nvSpPr>
          <p:cNvPr id="99" name=""/>
          <p:cNvSpPr/>
          <p:nvPr/>
        </p:nvSpPr>
        <p:spPr>
          <a:xfrm>
            <a:off x="1219320" y="1676520"/>
            <a:ext cx="685800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xternal Environmental Opportunities &amp; Threats</a:t>
            </a:r>
            <a:endParaRPr b="0" lang="en-US" sz="16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roenvironment                              Industry Environ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
          <p:cNvSpPr/>
          <p:nvPr/>
        </p:nvSpPr>
        <p:spPr>
          <a:xfrm>
            <a:off x="1295280" y="3581280"/>
            <a:ext cx="68580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u="sng">
                <a:solidFill>
                  <a:srgbClr val="000000"/>
                </a:solidFill>
                <a:uFillTx/>
                <a:latin typeface="Times New Roman"/>
              </a:rPr>
              <a:t>Strategy Formu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porate Lev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Business Unit Lev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	</a:t>
            </a:r>
            <a:r>
              <a:rPr b="1" lang="en-US" sz="1600" spc="-1" strike="noStrike">
                <a:solidFill>
                  <a:srgbClr val="000000"/>
                </a:solidFill>
                <a:latin typeface="Times New Roman"/>
              </a:rPr>
              <a:t>Functional Unit Lev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 name=""/>
          <p:cNvSpPr/>
          <p:nvPr/>
        </p:nvSpPr>
        <p:spPr>
          <a:xfrm>
            <a:off x="1219320" y="2590920"/>
            <a:ext cx="6858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he Internal Environ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m Resources, Organizational Mission &amp; Goa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1219320" y="4800600"/>
            <a:ext cx="685800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u="sng">
                <a:solidFill>
                  <a:srgbClr val="000000"/>
                </a:solidFill>
                <a:uFillTx/>
                <a:latin typeface="Times New Roman"/>
              </a:rPr>
              <a:t>Strategy Implementation</a:t>
            </a:r>
            <a:r>
              <a:rPr b="1" lang="en-US" sz="1600" spc="-1" strike="noStrike" u="sng">
                <a:solidFill>
                  <a:srgbClr val="000000"/>
                </a:solidFill>
                <a:uFillTx/>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zational Structure</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Leadership/Power/Organization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ult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1219320" y="6019920"/>
            <a:ext cx="685800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rategic 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ategic Control &amp; Performa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
          <p:cNvSpPr/>
          <p:nvPr/>
        </p:nvSpPr>
        <p:spPr>
          <a:xfrm>
            <a:off x="4572000" y="1905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62720" y="4114800"/>
            <a:ext cx="1218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2819520" y="388620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572000" y="2286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572000" y="2285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4572000" y="3276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72000" y="3276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572000" y="4495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4572000" y="4495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715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572000" y="5714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62120" y="289548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762120" y="6324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212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62120" y="41148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luences on strategic management</a:t>
            </a:r>
            <a:endParaRPr b="0" lang="en-US" sz="4000" spc="-1" strike="noStrike">
              <a:solidFill>
                <a:srgbClr val="000000"/>
              </a:solidFill>
              <a:latin typeface="Arial Black"/>
            </a:endParaRPr>
          </a:p>
        </p:txBody>
      </p:sp>
      <p:sp>
        <p:nvSpPr>
          <p:cNvPr id="121" name="PlaceHolder 2"/>
          <p:cNvSpPr>
            <a:spLocks noGrp="1"/>
          </p:cNvSpPr>
          <p:nvPr>
            <p:ph/>
          </p:nvPr>
        </p:nvSpPr>
        <p:spPr>
          <a:xfrm>
            <a:off x="228600" y="1885680"/>
            <a:ext cx="8610480" cy="4172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s/actions used by military org’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rwin’s theory of evolutionary chang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60’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 Chandler - structure followed strate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2. Ansoff - strategy common threa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3. Learned, et al. - SWO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luences on strategic management</a:t>
            </a:r>
            <a:endParaRPr b="0" lang="en-US" sz="4000" spc="-1" strike="noStrike">
              <a:solidFill>
                <a:srgbClr val="000000"/>
              </a:solidFill>
              <a:latin typeface="Arial Black"/>
            </a:endParaRPr>
          </a:p>
        </p:txBody>
      </p:sp>
      <p:sp>
        <p:nvSpPr>
          <p:cNvPr id="123" name="PlaceHolder 2"/>
          <p:cNvSpPr>
            <a:spLocks noGrp="1"/>
          </p:cNvSpPr>
          <p:nvPr>
            <p:ph/>
          </p:nvPr>
        </p:nvSpPr>
        <p:spPr>
          <a:xfrm>
            <a:off x="228600" y="1885680"/>
            <a:ext cx="8610480" cy="4172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ustrial-Organization View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mberlin’s Economic Theor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gency Theor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Based theor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errilla 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ustrial-Organization View</a:t>
            </a:r>
            <a:endParaRPr b="0" lang="en-US" sz="4000" spc="-1" strike="noStrike">
              <a:solidFill>
                <a:srgbClr val="000000"/>
              </a:solidFill>
              <a:latin typeface="Arial Black"/>
            </a:endParaRPr>
          </a:p>
        </p:txBody>
      </p:sp>
      <p:sp>
        <p:nvSpPr>
          <p:cNvPr id="125"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istic theory w/ external focu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phasizes choosing the “right” industries &amp; maintaining most advantageous posi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critical forces &amp; what’s happening w/them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ingency Theory</a:t>
            </a:r>
            <a:endParaRPr b="0" lang="en-US" sz="4000" spc="-1" strike="noStrike">
              <a:solidFill>
                <a:srgbClr val="000000"/>
              </a:solidFill>
              <a:latin typeface="Arial Black"/>
            </a:endParaRPr>
          </a:p>
        </p:txBody>
      </p:sp>
      <p:sp>
        <p:nvSpPr>
          <p:cNvPr id="127"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l performance viewed as the joint outcome of environmental forces &amp; strategic ac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er financial returns associated w/those firms developing a beneficial fit w/their environmen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7:32:02Z</dcterms:created>
  <dc:creator>Grant H. Fenner</dc:creator>
  <dc:description/>
  <dc:language>en-US</dc:language>
  <cp:lastModifiedBy>Grant H. Fenner</cp:lastModifiedBy>
  <dcterms:modified xsi:type="dcterms:W3CDTF">2003-09-10T13:37:17Z</dcterms:modified>
  <cp:revision>6</cp:revision>
  <dc:subject/>
  <dc:title>Strategic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38232297</vt:r8>
  </property>
  <property fmtid="{D5CDD505-2E9C-101B-9397-08002B2CF9AE}" pid="3" name="_AuthorEmail">
    <vt:lpwstr>gfenner@midsouth.rr.com</vt:lpwstr>
  </property>
  <property fmtid="{D5CDD505-2E9C-101B-9397-08002B2CF9AE}" pid="4" name="_AuthorEmailDisplayName">
    <vt:lpwstr>Grant H. Fenner</vt:lpwstr>
  </property>
  <property fmtid="{D5CDD505-2E9C-101B-9397-08002B2CF9AE}" pid="5" name="_EmailSubject">
    <vt:lpwstr>PowerPoint Slides</vt:lpwstr>
  </property>
</Properties>
</file>