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C88B-EF06-4D12-A1C2-5F4546067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trategies focused on competing in their industry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results of the various strateg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y having their intended eff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we successfully exploiting our competitive advant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 using specific quantitative and qualitative  measures for each of the functional 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many net new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ales leads produced at the tra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days outstanding are A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inventory days on 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andards with which these measures are compared are the goals established in each of the functional 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goal of a new plant safety program was to reduce work related accidents by 25% . . . Did this occur?  If not, why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trategic change necessary – analyze the current situation and then formulate appropriate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goals and objectives tend to be broader, more comprehensive and more long run than business unit level and functional level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oals amount to measures related to org’l Efficiency, Effectiveness and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/c overall org’l performance is a result of the interaction of a vast variety of work activities at many different levels and in different areas of the org’n . . . These three measures can serve as a means of determining how well or how successfully the organization is working and how well it’s doing at traveling in the desired corpora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. . . What are the limitations of these types of measur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nues  and ROI can be influence by business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nings can be affected by dramatic changes in the prices of materials or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ed depreciation will produce more favorable RO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I and earnings are sensitive to book value and investments made in the future of the org’n.   Investments held down or assets sold off can inflate RO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pan is short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is a way of broadening the array of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overall performance of the firm up to the standards of the “best in the worl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irlines studied Indy 500 pit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view by Bain and associates of 460 firms of various sizes across all industries revealed that 70% used benchmarking and achieved cost reductions of 15%-45% - also influences sales, improved goal setting and boosting of employee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iations – benchmarking tends to work best for firms that are already well managed.  Poorly managed firms can become overwhelmed by the discrepancies in perform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 – business unit that has a large share of high growth mkt (10% or more) – although profitable, consume lots of cash to continue growth/fight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Marks are bus units with w/low shares of high growth mkts – often just entering mrkts – if they can grow to become mrkt leaders they become Stars – if not, divested or liquid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Cows – has a large share of a slow-growth mrkt (&lt;10% annual growth) – b/c they dominate mrkt . . . Little competition and thus more profitable.  The excess cash they generate can be used to support its stars and question mar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gs – are business units with small market share in slow-growth (or declining) mrkts.  Are marginal businesses that incur losses (spin off) or small profits (harv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implicity of this framework is greatest strength and weakn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9C5-4AF4-4403-84E4-0E5DBA8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3B0-8652-400D-A5D9-FE8BC82A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BD9-DF58-461F-ADBD-60D3870C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02B-611E-4544-8C05-878F5661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8EB5-0E48-4033-90A0-3A35E0FF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5C0-6537-41CE-B964-15C02DBD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632-604A-41CF-A09B-358D4DB4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9F89-517F-465B-A4B4-37A4442C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58DE-2B66-4B98-A252-E3B2D35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37C8-B363-4DD1-97B7-825156A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30A-7DFA-4E73-99A9-FA373DF5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989-F9DC-4F7E-90F1-037F3F8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FA64-A119-44DE-9473-FBE15BD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7E72-6693-46A7-93B8-FC29B09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111E-E286-4922-9A40-7912E363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F7F0-F3F2-4100-B655-56DFF55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B80-7F86-4ADF-8CFE-3CA64D39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2A3-7EA7-415C-8644-5B45092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AD8-3B50-4EAC-9630-33C0428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14E-8041-4706-BBA7-431C320E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B2B-FA33-4D1D-8442-11CB1113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19B-7126-4A11-B900-844B5D8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94-99BB-4071-B34C-967CD68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376-A7DF-494F-AE59-4F99A35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8C85-DFC6-4E56-9AAB-1809AA948B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F92-F811-458A-B266-E13CF7197E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eam Project (written) Evalu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lling &amp; Grammar – 2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herence to MLA or A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ionalism of appear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charts, tables and other graphic a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or Smoothness of fl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ce of Executive Summ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use of strategic te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idence of a quality int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hensiveness of the strategic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–year financial trend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 of a good grasp of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hensiveness of team recommend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appendices to support positions taken or to illustrat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Business Unit Strategy Evalu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ly focused on targeting business unit level’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et Sh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unctional Strategy Evalu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s using specific quantitative and qualitative  measures for each of the functional 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hat was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hat was supposed to be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assessing the vari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determining what occur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eam Project (verbal) Evalu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essionalism of appearance of team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of slides – use of graphics for complex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of speakers to maintain eye contact w/audi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 that presentation was well rehear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esent within time constraints of 20 minutes at the podium plus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ing the project in such a manner that the audience grasps the content of the audit and can appreciate the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Strategy Evaluation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rporate, Business Unit and Functional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Corporate Level Strategy Evalu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Ear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Reven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R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. Shareholder W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roduct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Customer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Market Sh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Global Pres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 Reputation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efin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bility of the org to minimize use of resources in achieving org’l 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org’s ability to complete or reach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specific measure used in the production/operations/manufacturing area regarding total outputs divided by inputs needed to generate the outp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Limit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measures can reflect economic conditions beyond the control or influence of the orga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measures can be manipulated by management to create a favorable outcome to the detriment of the orga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nchmark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chmarking is defined as the search for best practices from other leading org’s (competitors or non-competitors) that are believed to have contributed to their superior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ortfolio Analys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cKinsey-GE Spotlight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t-Market Evolution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CG Matr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2133720"/>
          <a:ext cx="5333760" cy="365760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27680" y="16002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lative Market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143000" y="2437920"/>
            <a:ext cx="45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ustry Growth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9000" y="220968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200" y="56451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99800" y="160668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9900"/>
                </a:solidFill>
                <a:latin typeface="Verdan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8320" y="16826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9900"/>
                </a:solidFill>
                <a:latin typeface="Verdan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6707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11080" y="2241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7320" y="39625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7720" y="22860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56160" y="40384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6668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27432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4290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343400"/>
            <a:ext cx="1295640" cy="121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21:37:09Z</dcterms:created>
  <dc:creator>Grant H. Fenner</dc:creator>
  <dc:description/>
  <dc:language>en-US</dc:language>
  <cp:lastModifiedBy>Grant H. Fenner</cp:lastModifiedBy>
  <dcterms:modified xsi:type="dcterms:W3CDTF">2003-11-18T00:37:29Z</dcterms:modified>
  <cp:revision>6</cp:revision>
  <dc:subject/>
  <dc:title>Strategy Evalu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89409348</vt:r8>
  </property>
  <property fmtid="{D5CDD505-2E9C-101B-9397-08002B2CF9AE}" pid="3" name="_AuthorEmail">
    <vt:lpwstr>gfenner@midsouth.rr.com</vt:lpwstr>
  </property>
  <property fmtid="{D5CDD505-2E9C-101B-9397-08002B2CF9AE}" pid="4" name="_AuthorEmailDisplayName">
    <vt:lpwstr>Grant H. Fenner</vt:lpwstr>
  </property>
  <property fmtid="{D5CDD505-2E9C-101B-9397-08002B2CF9AE}" pid="5" name="_EmailSubject">
    <vt:lpwstr>strategy evaluation</vt:lpwstr>
  </property>
</Properties>
</file>