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B3F7-EE29-4CA9-83BA-49AD671BD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ensive – a frontal assault by going head-to-head with its competition by matching them in every possible category – price, promotion, product features, &amp; distribution channel.  Effective against weaker competitors and to nibble at their competitive advantage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k the competitors achilles heel – customer segments the competitor is ignoring or where product offerings are weak – hitting them from both the product and mrkt segment side or change the rules by  creating new mrkt segments not served by the competitor w/new prods/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ive – offer a full line of prods in every profitable mrkt segment, keep prices low on prods similar to competitors offerings, use exclusive agreements, protect technologies with patents or license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, send signals that firm will retaliate by matching price cuts or promotional incentives – or attempt to make the industry appear unattractive by making media announcements about problems plaguing indus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at the functional level includes both the specific use of certain processes, activities, budgets, structure and culture . . . And the coordination of the various functional units to breakdown potential barriers or walls separating the various functions into chimneys or si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DF2-6E75-454E-9F71-D7A1620A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D93-66FF-466E-BCB6-465900BD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7C5-9EB3-48BC-BBDB-7F8BFD6D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63A-6838-46EE-A370-C3ED57B3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5924-0F48-4158-A2A4-FA6ED738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A16E-80E6-44DF-B452-B3997088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3210-6F50-459D-AB5E-E8B15BE6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D333-188D-4E50-B215-51CCCD26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7B8C-56DE-407B-9D38-E0906EE8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1EC0-188E-4C96-8622-358E8515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9BBB-7B4D-41BD-AC9D-79247DD8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480-C81F-4DEA-A3DF-6500287D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0491-E02E-4FCD-889E-447F543F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FA48-4453-4174-85FB-790428BA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0A7B-61FF-4FF2-8B04-D0C4628F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A6F2-D409-4574-80A8-B002C7E8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5308-60E3-4A3C-BB32-8A74E1E0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964-CFF5-4F65-9D8D-8C90FDCE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CC0-EBA9-4BB5-9D87-B1414CE5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7BF-A792-45CD-AF12-9FB5FB2F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7D3-5F31-4082-80BF-12AC3053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896-E868-44AA-BFD4-3922DED3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DE5-EF78-40DD-A15B-DC23F256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5F1-B94C-4736-B463-2D41A1C3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5326-5291-4647-BE59-0021F79AA4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F20F-84C1-42BC-928F-069FCC7D40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ategy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orate Level Growt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rgers &amp; acquis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l grow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int ven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 term contr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tegic alli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orate Level Growt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017440"/>
            <a:ext cx="78883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rger/Acquisition be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maturity s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high barriers to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new industry unrelated to exist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timing is crit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development costs of starting a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new business prohibi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starting a new business to ris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orate Level Growt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l Development be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embryonic or growth s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low barriers to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new industry related to exi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willing to accept tim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acceptable start-up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risks of start-up accep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orate Level Stability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arily involves not expanding the level of the organization’s op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porate Level Retrenchment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cutting in response to declin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Turnaround - eliminating wast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redundancies or inef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Divestiture – eliminating non-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performing business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 buyer can’t be found for a business u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Liquid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siness Unit Level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ying upon the firms resources to develop capabilities that may, in turn, become distinctive competencies by way of the organization’s functional work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siness Unit Level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ompetitive Pos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fensive Moves – describes a firm’s attempts to exploit and strengthen its competitive position by attacking the compet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Moves – describes a firm’s efforts to protect its competitive advantage and tur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al Level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y means, just doing the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Activit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Budge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1:27:36Z</dcterms:created>
  <dc:creator>Grant H. Fenner</dc:creator>
  <dc:description/>
  <dc:language>en-US</dc:language>
  <cp:lastModifiedBy>Grant H. Fenner</cp:lastModifiedBy>
  <dcterms:modified xsi:type="dcterms:W3CDTF">2003-11-05T14:30:09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2406640</vt:r8>
  </property>
  <property fmtid="{D5CDD505-2E9C-101B-9397-08002B2CF9AE}" pid="3" name="_AuthorEmail">
    <vt:lpwstr>gfenner@midsouth.rr.com</vt:lpwstr>
  </property>
  <property fmtid="{D5CDD505-2E9C-101B-9397-08002B2CF9AE}" pid="4" name="_AuthorEmailDisplayName">
    <vt:lpwstr>Grant H. Fenner</vt:lpwstr>
  </property>
  <property fmtid="{D5CDD505-2E9C-101B-9397-08002B2CF9AE}" pid="5" name="_EmailSubject">
    <vt:lpwstr>RE: </vt:lpwstr>
  </property>
</Properties>
</file>