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52267-2F72-4C9E-ADCE-D18038389B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304560" y="4343400"/>
            <a:ext cx="6095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D862C-CDD8-4B6A-931A-F21C45AF1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29847-6F95-481E-96B0-9B7134B02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F404E-C2D8-4AE8-957A-80F54A03C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83FF5-28BE-4E90-9183-664D18321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87460-2D91-4FF1-8936-735F435B9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80AC6-4555-428E-8E1F-9216900E7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AA719-5DFE-4749-BEF8-4B25FA1D8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90F06-DFC7-49B9-AC5E-76FC478AD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9C91A-84A7-4016-90E1-BFF2DAF3E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076EA-2946-4CDC-AFD4-FCBBB8BB8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71D54-ACD7-46FD-B912-8C06EA88D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BAE2A-08CF-4FEE-9F1C-77244EA50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5E33A-F5E7-4E98-AB8E-0DCCD3AA1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58564-8973-4AAD-A3FE-3359DFA29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7A3FF-B54D-49F8-B832-922EBD761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C8781-4020-454E-B34A-E0147557F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8EAEF-8935-4CB4-8390-2C1B47D7B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F3536-0889-47EE-B48E-5B1089753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F0DF4-9FF5-4055-990F-FBD7A9102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6BA54-0614-4369-987C-3E5164473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B6189-0110-4C2B-A8F8-CA06FBBCF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DD074-FBF5-456D-BE11-5144753D0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32C54-C1B0-4860-852C-BEDD540CA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A509F-6641-4402-A8C7-02A6AC3F9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80B31-D1C6-46C0-AF64-9B8F96AE758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164C8-93AB-442C-BDCA-5535AABE684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Guide to Analysi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3372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or cases and for organizational analyi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nalyzing Financial Statement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crutinize historical statements or trends over 4-5 year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lculate changes in categories from year to ye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termine the change as a percentage and $ amount - use common size state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US dolla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Recommendation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886040"/>
            <a:ext cx="8178840" cy="47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are your recommendations based on your analysis, what you have read and learned in class?  With regard to the team project . . . Anything less than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three full pag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will not be even be considered for an A grade on the total projec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equal importance to your recommendations is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why?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You must support your rationale with citations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ase and Organizational Analysi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search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o beyond info contained in the ca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search the environmental set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eck the dates referenced in the ca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information services like COMPUSTAT or ValueLine in your library, www.hoovers.com or www.sec.gov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ase &amp; Organizational Analysi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886040"/>
            <a:ext cx="8178840" cy="47433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search (continued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nual re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0K 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come State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alance Shee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shflow State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conomic Indicato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dustry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ase &amp; Organizational Analysi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886040"/>
            <a:ext cx="8178840" cy="47433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S FOR LIBRARY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ny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ody’s Manuals on Invest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ndard &amp; Poor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Register of Corporations, Directors, &amp; Executiv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alue Line’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Investment Surve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Findex: The Directory of Market Research, Reports, Studies &amp; Survey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ase &amp; Organizational Analysi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886040"/>
            <a:ext cx="8178840" cy="47433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S FOR LIBRARY RESEARCH (continued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ustry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usiness Wee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tun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dustry Surve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dustry Wee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b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ase &amp; Organizational Analysi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952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S FOR LIBRARY RESEARCH (continued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ory &amp; Index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usiness Periodical Index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rectory of National Trade Associ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cyclopedia of Associ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omas’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Register of American Mfr’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all Street Journal Index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k &amp; Scott’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Index of Corporations &amp; Indust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ase &amp; Organizational Analysi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952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S FOR LIBRARY RESEARCH (continued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io Analysis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Almanac of Business &amp; Industrial Financial Rati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Annual Statement Stud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Dun’s Re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ndustry Norms and Key Business Rati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ase &amp; Organizational Analysi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952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S FOR LIBRARY RESEARCH (continued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io Analysis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6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quidity Rati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6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fitability Rati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6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tivity Rati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6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verage Rati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ase &amp; Organizational Analysi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952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S FOR ON-LINE RESEARCH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.hoovers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.sec.go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.bloomberg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.pathfind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.economi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.w100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.fluid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.the firm studied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16T17:04:31Z</dcterms:created>
  <dc:creator>Grant H. Fenner</dc:creator>
  <dc:description/>
  <dc:language>en-US</dc:language>
  <cp:lastModifiedBy>Grant H. Fenner</cp:lastModifiedBy>
  <dcterms:modified xsi:type="dcterms:W3CDTF">2003-10-08T01:22:06Z</dcterms:modified>
  <cp:revision>2</cp:revision>
  <dc:subject/>
  <dc:title>Guide to Analysi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2110473306</vt:r8>
  </property>
  <property fmtid="{D5CDD505-2E9C-101B-9397-08002B2CF9AE}" pid="3" name="_AuthorEmail">
    <vt:lpwstr>gfenner@midsouth.rr.com</vt:lpwstr>
  </property>
  <property fmtid="{D5CDD505-2E9C-101B-9397-08002B2CF9AE}" pid="4" name="_AuthorEmailDisplayName">
    <vt:lpwstr>Grant H. Fenner</vt:lpwstr>
  </property>
  <property fmtid="{D5CDD505-2E9C-101B-9397-08002B2CF9AE}" pid="5" name="_EmailSubject">
    <vt:lpwstr>PowerPoint Slides</vt:lpwstr>
  </property>
</Properties>
</file>