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E694-FF1F-47CC-94CC-30D3E7ECC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trategic stakes - competitors have strong reasons for wanting to stay in the business or want to succeed (CEO’s reputation, large dollar investments) and will sacrifice short term profits for long term re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t barriers - economic, strategic and emotional factors that keep companies competing in businesses even though they may be earning low or even negative returns on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disadvantage other than scale - advantage of competitors that new entrants can’t duplicate even if they have large volume such as: exclusive or protected technology, favorable access to raw materials, favorable location, gov’t subsidies, or human resource advant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tion = brand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ing - psychological or $$$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v’t - licensing requirements, controlling access to raw mat’s, pollution stds, prod safety stds, labeling laws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e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unshine I’d subscribe to newsclipping services for papers in MS to keep tabs on what my competitors were doing and what solid waste events were occurring statew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S provides mgrs with needed info on a regular basis . . . The more dynamic, the more frequent the info i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s are resources taken from the ex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is the method or system of transforming inputs into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s are what a system discharges into the environment and the outputs of one system become the inputs for anoth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dback is info provided about a systems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lure to respond to feedback from the ext environment leads to entr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t of substitut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t of new ent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gaining power of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gaining power of 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valry among existing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 (AutoCad) and Blueprint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software and  atlas publishers/pr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and travel agency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ing “baby boom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“baby booml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wing Asian and Hispanic 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fear of 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ance of gamb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 customer attitudes of “what’s hot &amp; what’s no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ustry is identified as a group or groups of org’s producing similar or identical  products - they compete for customers as well as for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Porter’s main assumptions is that some industries are inherently more attractive than others (what theory is this grounded in?)  That is, the potential for companies in a particular industry is higher.  What influences this profit potenti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you know who your competitors 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tegic groups - a set of firms w/in an industry w/similar strategies an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A36-025F-46DA-B2B5-8642EC1B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B4D-5C39-4D6F-8039-33CEC9E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12D-986B-4254-A5B9-184A4750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88A-6EA6-4AA6-A7AC-472DA0DE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D5F0-A498-4DA6-A90D-F429088A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FACC-087A-4F73-81A5-A81A086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C14-8BF9-4037-B833-D23C97E4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DC55-8267-4C80-B3F0-7D8724DF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A30A-801B-424F-855C-40A1C259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A2AB-744B-4641-9487-4DA4E3A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EA60-2B85-49B1-893D-FFF1E60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57F-204E-4A39-8E84-DD5B0461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C418-F832-4581-9EC5-F22E69B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DEC-7796-4796-A2A5-8589B0D5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2BAE-691D-4B44-82E7-C0B4238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BD6A-3D2D-41AF-877F-6D18E7AA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5B27-7705-40DB-8A68-9A304096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0A2-5935-42C6-8435-5EA8977E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300-83DF-43B0-AB4E-713A2D6C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829-DCAE-403A-AD20-A3412B4F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307-DBCB-4E4A-A982-CE349E1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8D9-6A3B-452A-982A-9F28C9A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96A-60D0-4016-8143-A475F59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633-160E-497B-B007-F3E9CB6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D302-D2B5-473A-8759-EE3AD9A06E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06F9-1FDA-4B68-B2D2-2C0CDB0495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External Enviro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ssessing Opportunities &amp; Threats in the Macro &amp; the Industry environ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etitive Rival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610480" cy="459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of equally balanced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w industry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fixed or storage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differentiation or switching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city must be added in large inc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erse competi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strategic 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exit barr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at of New Entra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74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New entrants increase rivalry &amp; prevented by barriers to entry including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1. Economies of scal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2. Cost disadvantages from other than scal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3. Product differenti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4. Capital requirement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5. Switching cost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6. Access to distribution channel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7. Government polic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gaining Power of Buy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large volu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d items represent significant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d products deemed a commod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r earns substandard pro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r can produce items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d items not important to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r has full info on sellers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gaining Power of Suppli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36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ted by a few suppl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substit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not considered a key 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iers products are differentiated or presence of switching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ier can integrate vertically and manufacture the products that the industry is currently prov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at of Substitu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other industries satisfy the consumers needs that our industry is satisfy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PS?  Airline Industry?  Automoti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?  Arkansas State University?  Bel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th and other Baby Bells?  Long Dista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ne Packag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anning the Enviro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lking to customers or reading sales re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industry trade jour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lking with supplier sales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anning the Enviro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Information Systems (E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llenges Faced in Environmental Scan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over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vironment might be changing too qu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and expense of examining 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rganizations as Open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4080"/>
            <a:ext cx="12189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2895480"/>
            <a:ext cx="1219320" cy="1219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048120"/>
            <a:ext cx="12189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3581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0"/>
            <a:ext cx="7162920" cy="289548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581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35812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3040" y="548640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 Ex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486400"/>
            <a:ext cx="12193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81080" y="4343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1280" y="236232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45440" y="60609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talanffy (19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ironmental Scan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valua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semina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information from the external and internal environments to key people within the corpo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Macro &amp; Industry Enviro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666880"/>
            <a:ext cx="3733920" cy="3505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3962520"/>
            <a:ext cx="114300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’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3120" y="24033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3480" y="5257800"/>
            <a:ext cx="18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7960" y="240336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1680" y="518148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60520" y="31654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6240" y="4114800"/>
            <a:ext cx="9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8160" y="419112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37040" y="316548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78280" y="518148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gal-Political Fo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s of elections, legislation, and court decisions, as well as the decisions rendered by various commissions and agencies at every level of gover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conomic Fo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ion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 of Dol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mployment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ers Inventory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ssion vs Re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ical Fo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entific improvements, innovations, trends and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s most often impa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cial Force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ocial cultural &amp; demographi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forces include traditions, values, societal trends, society’s expectation of business, demographic changes &amp; tre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rter’s Five Forces Model of an Industrial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733920"/>
            <a:ext cx="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2480" y="2616120"/>
            <a:ext cx="207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9760" y="4876920"/>
            <a:ext cx="16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mpeti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ival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1752480"/>
            <a:ext cx="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333760" y="411480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80720" y="411480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920" y="3581280"/>
            <a:ext cx="150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ower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920" y="3505320"/>
            <a:ext cx="150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ower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676520"/>
            <a:ext cx="292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reat of New Ent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2000" y="6095880"/>
            <a:ext cx="258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reat of Substit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47080" y="60609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er (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23:53:26Z</dcterms:created>
  <dc:creator>Grant H. Fenner</dc:creator>
  <dc:description/>
  <dc:language>en-US</dc:language>
  <cp:lastModifiedBy>Grant H. Fenner</cp:lastModifiedBy>
  <dcterms:modified xsi:type="dcterms:W3CDTF">2003-09-10T13:38:43Z</dcterms:modified>
  <cp:revision>10</cp:revision>
  <dc:subject/>
  <dc:title>The External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0478057</vt:r8>
  </property>
  <property fmtid="{D5CDD505-2E9C-101B-9397-08002B2CF9AE}" pid="3" name="_AuthorEmail">
    <vt:lpwstr>gfenner@midsouth.rr.com</vt:lpwstr>
  </property>
  <property fmtid="{D5CDD505-2E9C-101B-9397-08002B2CF9AE}" pid="4" name="_AuthorEmailDisplayName">
    <vt:lpwstr>Grant H. Fenner</vt:lpwstr>
  </property>
  <property fmtid="{D5CDD505-2E9C-101B-9397-08002B2CF9AE}" pid="5" name="_EmailSubject">
    <vt:lpwstr>PowerPoint Slides</vt:lpwstr>
  </property>
</Properties>
</file>