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9D8D-65FA-437E-9772-1D348D7A1054}" type="slidenum">
              <a:rPr b="0" lang="en-US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ttp://webpages.marshall.edu/~bruggemann1/home.ht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Narrow"/>
              </a:rPr>
              <a:t>http://faculty.washington.edu/baldasty/march7.ht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 Narrow"/>
              </a:rPr>
              <a:t>http://www.epguide.com/santafearts/docs/digital.htm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66"/>
                </a:solidFill>
                <a:uFillTx/>
                <a:latin typeface="Verdana"/>
              </a:rPr>
              <a:t>faculty.washington.edu/baldas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2E5-B5BB-486A-AE96-038B7D84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F2B-CD01-4A8D-80D1-2DC5C092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DEF-BCF6-4A13-8884-47E77F5F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0C0-3367-4D57-8C36-7450CD0F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FEDD-04BE-454C-8449-1047B2C6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0B19-B2D0-44C2-9F9E-736903F0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079E-FFDA-4B37-95B7-B326553A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697B-4E53-4938-8106-CBF2E0BA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5D43-7A2B-41ED-9D39-C7FE1CB9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6512-83BA-48BA-888D-2D9A279B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D70E-1A18-42DD-8236-A16B80F6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0FA-9E4E-4FED-952E-E42626BD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63FF-CBE9-48EA-940B-27DAF1BA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EF31-2447-4EE8-A8F6-27FE6CDE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74AC-7864-4139-92C8-CC5E3A3A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DA7E-C7C9-485B-955D-4A4941B3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864E-9E98-4286-A165-B8E16334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C5F-A621-4582-9217-DF4132CC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AC5-A069-4FD9-9776-CC9F582B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F95-57B4-4815-81FE-973C61BD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7FF-5432-41E7-9CBD-03C962AE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30CC-32B5-462B-9FFF-35DA47A8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005-0741-422B-A5D5-862E3725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EA7-39AA-414C-9210-2649F4D6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21" name="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techstri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6C82-8BEB-40F9-9883-09CBCC63AC21}" type="slidenum">
              <a:rPr b="0" lang="en-US" sz="1400" spc="-1" strike="noStrike">
                <a:solidFill>
                  <a:srgbClr val="99cc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techstrip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B9F5-DEA3-4ED7-A48D-E5961FEB0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hotography &amp;  Graphic design impacted by  the interne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447560" y="3885840"/>
            <a:ext cx="7391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w it is adapting to the new way of doing busines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llis David McCottre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e7d7c"/>
                </a:solidFill>
                <a:uFillTx/>
                <a:latin typeface="Arial Narrow"/>
              </a:rPr>
              <a:t>need31907@yahoo.c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1:00-11:50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E97A-6993-407B-9C56-CDA74DD952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able Of Contents</a:t>
            </a:r>
            <a:br>
              <a:rPr sz="4400"/>
            </a:b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ver Pag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rief Histor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urrent Use and Activ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uture Direction of the Interne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250-5993-4442-9F1F-8E56D54D9D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rief History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raphic design is as old as civilization itself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raphic design was dramatically  increased by the Industrial Revolu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ctober 1972 demonstration of a new networ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internet has revolutionized the computer and communications world like nothing befo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6AA-D537-40AF-B132-814A89108B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urrent use and activity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lectronic Mai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orld Wide We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n-Line Chat Roo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reamed Broadcas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ternet telephone and video telepho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gital photograph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EDB-FBE4-4F64-B632-4219B3659F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Future direction of the Interne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w applica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ard to Regulat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iggest obstacle to contro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mmerce and the Interne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487-8F4D-4718-9A45-C60D8DDAD3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In Conclusion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7" name="PE01832_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5812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8C2-D1F4-42D1-9F28-58055226EA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ibliography</a:t>
            </a:r>
            <a:br>
              <a:rPr sz="4400"/>
            </a:b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e7d7c"/>
                </a:solidFill>
                <a:uFillTx/>
                <a:latin typeface="Arial Narrow"/>
              </a:rPr>
              <a:t>http://www.iso</a:t>
            </a:r>
            <a:fld id="{35026158-799D-4D6D-9044-7C53FB7F7F6E}" type="slidenum">
              <a:rPr b="0" lang="en-US" sz="3200" spc="-1" strike="noStrike" u="sng">
                <a:solidFill>
                  <a:srgbClr val="3e7d7c"/>
                </a:solidFill>
                <a:uFillTx/>
                <a:latin typeface="Arial Narrow"/>
              </a:rPr>
              <a:t>7</a:t>
            </a:fld>
            <a:r>
              <a:rPr b="0" lang="en-US" sz="3200" spc="-1" strike="noStrike" u="sng">
                <a:solidFill>
                  <a:srgbClr val="3e7d7c"/>
                </a:solidFill>
                <a:uFillTx/>
                <a:latin typeface="Arial Narrow"/>
              </a:rPr>
              <a:t>c.org/internet/history/brief.</a:t>
            </a:r>
            <a:r>
              <a:rPr b="0" lang="en-US" sz="3200" spc="-1" strike="noStrike" u="sng">
                <a:solidFill>
                  <a:srgbClr val="3e7d7c"/>
                </a:solidFill>
                <a:uFillTx/>
                <a:latin typeface="Arial Narrow"/>
              </a:rPr>
              <a:t>shtm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e7d7c"/>
                </a:solidFill>
                <a:uFillTx/>
                <a:latin typeface="Arial Narrow"/>
              </a:rPr>
              <a:t>http://faculty.washington.edu/baldasty/march7.ht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e7d7c"/>
                </a:solidFill>
                <a:uFillTx/>
                <a:latin typeface="Arial Narrow"/>
              </a:rPr>
              <a:t>http://webpages.marshall.edu/~bruggemann1/home.ht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e7d7c"/>
                </a:solidFill>
                <a:uFillTx/>
                <a:latin typeface="Arial Narrow"/>
              </a:rPr>
              <a:t>http://www.epguide.com/santafearts/docs/digital.htm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303-89FA-43B3-B41C-AB825FBB32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8:02:57Z</dcterms:created>
  <dc:creator>lrcdouglas</dc:creator>
  <dc:description/>
  <dc:language>en-US</dc:language>
  <cp:lastModifiedBy>lrcdouglas</cp:lastModifiedBy>
  <dcterms:modified xsi:type="dcterms:W3CDTF">2004-10-29T16:07:35Z</dcterms:modified>
  <cp:revision>5</cp:revision>
  <dc:subject/>
  <dc:title>Photography &amp;  Graphic design impacted by  the internet</dc:title>
</cp:coreProperties>
</file>