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79BED-1AF6-44C1-9E15-9A270E7E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70A6-9296-4080-859F-00E2F1A4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97BE-2C05-4F8C-8460-6D876C52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0B9F-5D49-4169-9527-A48D5145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DEB2-A473-4FDC-AD1A-EB7013BE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55E2-E959-4F18-8A50-7EF5DB92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C0DE-745B-4161-916E-5EF0D8B3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8D6B-3DE4-4076-8765-E3ED2E45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0863-B787-47DE-8056-CACAD193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764A-8332-45E2-A54B-480454C6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B791-BE6F-44A9-8681-C010E2A2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32B8-4DB7-49C6-AF98-11B4BB81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F81F-2715-4B4A-971B-637D9379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CA43-3B8B-484F-A462-E33B4FE9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455A-72C6-468B-BD5B-65417FFC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4808-85DB-4FCC-AF2F-947919D0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94CE-8D6A-41D3-98D5-BCBAA797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BA1E-E7B1-4DAB-9EE3-CBB1FCFB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D0FE-F918-4B60-948C-D3B956FD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743E-9370-4F71-8DA3-1556E67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113B-4C2B-436B-B6B1-7754DC3C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4166-A7C6-4D04-8BDE-C9B5A339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CD48-4B61-4951-BA71-0078930E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C692-E369-490D-BFED-12F1E1C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41F4-B67F-4D68-8036-90B951CEB3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5EB8-C35F-4438-AC57-AA4B2A0276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ll That Morphem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 Brian Shimada, Josh Qin, and Brendan Schwer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228600"/>
            <a:ext cx="7848720" cy="72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ecdote: to put a date on one that is earlier than the actual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emeridian: before n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ebellum: before war, especially the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echamber: A smaller room serving as an entryway into a larger ro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ediluvian: In the bible the time before the great 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echoir: A place in front of the choir reserved for the clergy and choir me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57800" y="380880"/>
            <a:ext cx="3505320" cy="3886200"/>
          </a:xfrm>
          <a:custGeom>
            <a:avLst/>
            <a:gdLst>
              <a:gd name="textAreaLeft" fmla="*/ 171000 w 3505320"/>
              <a:gd name="textAreaRight" fmla="*/ 3334320 w 3505320"/>
              <a:gd name="textAreaTop" fmla="*/ 171000 h 3886200"/>
              <a:gd name="textAreaBottom" fmla="*/ 3715200 h 3886200"/>
            </a:gdLst>
            <a:ahLst/>
            <a:rect l="textAreaLeft" t="textAreaTop" r="textAreaRight" b="textAreaBottom"/>
            <a:pathLst>
              <a:path w="21600" h="23947">
                <a:moveTo>
                  <a:pt x="3600" y="0"/>
                </a:moveTo>
                <a:arcTo wR="3600" hR="3600" stAng="16200000" swAng="-5400000"/>
                <a:lnTo>
                  <a:pt x="0" y="20347"/>
                </a:lnTo>
                <a:arcTo wR="3600" hR="3600" stAng="10800000" swAng="-5400000"/>
                <a:lnTo>
                  <a:pt x="18000" y="23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038480"/>
            <a:ext cx="7696080" cy="2438640"/>
          </a:xfrm>
          <a:prstGeom prst="roundRect">
            <a:avLst>
              <a:gd name="adj" fmla="val 16667"/>
            </a:avLst>
          </a:prstGeom>
          <a:solidFill>
            <a:srgbClr val="0099cc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10080" y="3165480"/>
          <a:ext cx="9907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165480"/>
                    <a:ext cx="9907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53080" y="3165480"/>
          <a:ext cx="99072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3165480"/>
                    <a:ext cx="990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620120" y="3165480"/>
          <a:ext cx="99036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165480"/>
                    <a:ext cx="990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2280" y="380880"/>
            <a:ext cx="4953240" cy="3505320"/>
          </a:xfrm>
          <a:prstGeom prst="roundRect">
            <a:avLst>
              <a:gd name="adj" fmla="val 16667"/>
            </a:avLst>
          </a:prstGeom>
          <a:solidFill>
            <a:srgbClr val="0099cc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ANTE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533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Easy Pay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1295280"/>
            <a:ext cx="3048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Garamond"/>
              </a:rPr>
              <a:t>$</a:t>
            </a:r>
            <a:r>
              <a:rPr b="0" lang="en-US" sz="10000" spc="-1" strike="noStrike">
                <a:solidFill>
                  <a:srgbClr val="ffff00"/>
                </a:solidFill>
                <a:latin typeface="Garamond"/>
              </a:rPr>
              <a:t>11</a:t>
            </a: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.5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11480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ake Checks Pay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472428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corp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.O. Box 361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where, CA 949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533520" y="46483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59364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Ante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bellum: before war, especially the civil wa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6483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762120"/>
            <a:ext cx="48765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Ante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hamber: A smaller room serving as an entryway into a larger room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4120" y="685800"/>
            <a:ext cx="3547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0" y="11430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ORD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3526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NOW!*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205740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Garamond"/>
              </a:rPr>
              <a:t>ANTE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4724280"/>
            <a:ext cx="7391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aramond"/>
              </a:rPr>
              <a:t>1-800-BUY-ANTE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This Offer Expires on March 12, 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257800" y="380880"/>
            <a:ext cx="3505320" cy="3886200"/>
          </a:xfrm>
          <a:custGeom>
            <a:avLst/>
            <a:gdLst>
              <a:gd name="textAreaLeft" fmla="*/ 171000 w 3505320"/>
              <a:gd name="textAreaRight" fmla="*/ 3334320 w 3505320"/>
              <a:gd name="textAreaTop" fmla="*/ 171000 h 3886200"/>
              <a:gd name="textAreaBottom" fmla="*/ 3715200 h 3886200"/>
            </a:gdLst>
            <a:ahLst/>
            <a:rect l="textAreaLeft" t="textAreaTop" r="textAreaRight" b="textAreaBottom"/>
            <a:pathLst>
              <a:path w="21600" h="23947">
                <a:moveTo>
                  <a:pt x="3600" y="0"/>
                </a:moveTo>
                <a:arcTo wR="3600" hR="3600" stAng="16200000" swAng="-5400000"/>
                <a:lnTo>
                  <a:pt x="0" y="20347"/>
                </a:lnTo>
                <a:arcTo wR="3600" hR="3600" stAng="10800000" swAng="-5400000"/>
                <a:lnTo>
                  <a:pt x="18000" y="23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cc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038480"/>
            <a:ext cx="7696080" cy="2438640"/>
          </a:xfrm>
          <a:prstGeom prst="roundRect">
            <a:avLst>
              <a:gd name="adj" fmla="val 16667"/>
            </a:avLst>
          </a:prstGeom>
          <a:solidFill>
            <a:srgbClr val="0099cc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10080" y="3165480"/>
          <a:ext cx="9907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165480"/>
                    <a:ext cx="9907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553080" y="3165480"/>
          <a:ext cx="99072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3165480"/>
                    <a:ext cx="9907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620120" y="3165480"/>
          <a:ext cx="99036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165480"/>
                    <a:ext cx="990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52280" y="380880"/>
            <a:ext cx="4953240" cy="3505320"/>
          </a:xfrm>
          <a:prstGeom prst="roundRect">
            <a:avLst>
              <a:gd name="adj" fmla="val 16667"/>
            </a:avLst>
          </a:prstGeom>
          <a:solidFill>
            <a:srgbClr val="0099cc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ANTE-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533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Easy Pay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1295280"/>
            <a:ext cx="3048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Garamond"/>
              </a:rPr>
              <a:t>$</a:t>
            </a:r>
            <a:r>
              <a:rPr b="0" lang="en-US" sz="10000" spc="-1" strike="noStrike">
                <a:solidFill>
                  <a:srgbClr val="ffff00"/>
                </a:solidFill>
                <a:latin typeface="Garamond"/>
              </a:rPr>
              <a:t>11</a:t>
            </a:r>
            <a:r>
              <a:rPr b="0" lang="en-US" sz="4800" spc="-1" strike="noStrike">
                <a:solidFill>
                  <a:srgbClr val="ffff00"/>
                </a:solidFill>
                <a:latin typeface="Garamond"/>
              </a:rPr>
              <a:t>.5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11480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ake Checks Pay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472428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corp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.O. Box 361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where, CA 949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33520" y="46483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2:48:08Z</dcterms:created>
  <dc:creator>linh</dc:creator>
  <dc:description/>
  <dc:language>en-US</dc:language>
  <cp:lastModifiedBy>linh</cp:lastModifiedBy>
  <dcterms:modified xsi:type="dcterms:W3CDTF">2004-09-22T04:36:52Z</dcterms:modified>
  <cp:revision>11</cp:revision>
  <dc:subject/>
  <dc:title>Sell That Morpheme</dc:title>
</cp:coreProperties>
</file>