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5FBD93-6A11-45A3-A603-6328D80D0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F1651FB-110C-4982-BE2B-3E7CA260DE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ccording t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rsh Realities: The Experiences of Transgender Youth in our Nation’s Schools, a study conducted by GL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30B-C533-45D8-A114-806F9260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BF9-806B-45AA-956C-91F11B5F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480-081A-4B21-AC64-1445DB6F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2A3-26F2-4EFD-83C0-0E120123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D5F-CDF2-4D51-AE17-41C50B61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667-EBA5-4FEF-9EFB-3E2B7520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C4F-BBAF-4CF8-9FC1-F8176A61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56B-E916-4BD1-9D32-02FCDD18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2D7-7AE3-493D-9657-D76DE521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8AD-C247-41B7-81D8-4F422BD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5F7-A561-48F1-82E5-4507419C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DE0-DEB4-4980-A98C-EBBDCB74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60D0-D3A4-4901-A0F4-A58F313B6C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lsen.org/" TargetMode="External"/><Relationship Id="rId3" Type="http://schemas.openxmlformats.org/officeDocument/2006/relationships/hyperlink" Target="http://www.nctequality.org/" TargetMode="External"/><Relationship Id="rId4" Type="http://schemas.openxmlformats.org/officeDocument/2006/relationships/hyperlink" Target="http://www.nonamecallingweek.org/" TargetMode="External"/><Relationship Id="rId5" Type="http://schemas.openxmlformats.org/officeDocument/2006/relationships/hyperlink" Target="http://www.pflag.org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arning Theory of Career Counseling (LTCC) and LGBTQ Youth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er Cangelosi, B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i Nanan, B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y Family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ti, P. (2009). Applying social learning theory of career decis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ing to gay, lesbian, bisexual, transgender, and question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ng adults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 The Career Development Quarterly, 58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4-64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unker, V. G. (2006). Career Counseling: A Holistic Approach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mont, CA: Brooks/C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3581280" cy="3032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962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Krumboltz’s LTCC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(as cited in Zunker, 2006, Chapter 2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learning theory of career decision making that asserts that social conditioning and life events influence career cho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experiences and skills are key in exploration of car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discovering and unlearning faulty beliefs that negatively affect career decision ma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Krumboltz’s LTCC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factors in process of career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Endowments and Special 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al conditions and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Exper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sk approach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factors: Concept of self from life experiences and performance learning experiences, skill set for coping with environment, and career-entry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through observation and direct experience as well as faulty beliefs and generalizations very important in this model; counselor acts as educator to empower client to explore and experiment with possi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pplying LTCC for LGBTQ Youth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ti (2009) describes application of LTCC for counseling LGBTQ y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s how issues facing LGBTQ youth such as fear, discrimination, and identity struggles pose unique learning experiences for LGBTQ youth making for greater difficulty in career decision-making and career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additional issues you can think of affecting this population and career develop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LTCC Four Factors and LGBTQ youth</a:t>
            </a:r>
            <a:br>
              <a:rPr sz="40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Endowments and Special 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ender, physical appearance, race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viewed as positive or negative to client depending on learning experiences.  How might this limit LGBTQ youth in perceptions and choices of certain care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vironmental Conditions and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culture, geographic region, legislation, family atmosphe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LTCC and LGBTQ Youth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exper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out (rejection/acceptance), school climate and learning of perceptions of LGBTQ you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k Approach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active or passive in confronting discrimination depending of generalizations about self and/or whether or not he or she is “ou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LTCC and LGBTQ Youth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e of four factors in developing self-defeating ideas about careers, development of worldviews about oppression in the workplace, caution in career tasks, narrowing career expl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ight these issues further complicate career counseling with an LGBTQ youth who is also disabled or an ethnic minor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ight a gay youth experience these things differently from transgendered yout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Recommendation and Implications for Counselor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LTCC theory and how social learning affects career decision making for LGBTQ youth.  Do you agree or disagr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LGBTQ friendly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do to reach clients who are not “out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other pertinent variables and interactions with being LGBT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ppropriate assessments and explore various career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counselor cultural competence of LGBTQ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lpful Resources and Websi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y, Lesbian, and Straight Education Network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glse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enter for Transgender Equality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www.nctequality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O (2002)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Laramie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ame-Calling Week Coalitio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www.nonamecallingweek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ents, Family, and Friends of Lesbians and Gays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www.pflag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outforwork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5:42:54Z</dcterms:created>
  <dc:creator>amber</dc:creator>
  <dc:description/>
  <dc:language>en-US</dc:language>
  <cp:lastModifiedBy>ssteinberger</cp:lastModifiedBy>
  <dcterms:modified xsi:type="dcterms:W3CDTF">2010-09-16T17:42:40Z</dcterms:modified>
  <cp:revision>34</cp:revision>
  <dc:subject/>
  <dc:title>Advocacy for LGBT students in schools</dc:title>
</cp:coreProperties>
</file>