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9C8-FFAA-41D0-9DBF-1EC8BC67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D23-F600-4981-AA51-40D43F70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5B6-48B9-4805-A3C9-A0B8B19E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CB3-3E66-44D8-AF7B-45E7364F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2344E-CCF3-40F1-887A-7C08341D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16B14-EB9C-4021-A69D-075483F7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95D69-5CF5-457F-B96B-1BF4F936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28E9B-EE9C-4BAE-A0E9-0968D234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153CB-82CF-4955-9C37-D35E6C54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BB76D-C785-4248-8AF5-60C152FD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442B5-92C1-4654-A813-A1F219CC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E4D-3875-428A-B87E-3D287F81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B94A7-4269-449D-9468-4420FD71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0176E-628C-4EE1-8AEF-9BDCCB8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49FFD-CA29-431B-B9DF-4ACF9389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7BBE6-E6FD-42F4-BEE3-F44C53DF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E0ECD-CAD2-4125-9C71-F1D2F241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972-A708-4E97-AE85-9C444D05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C3C-23C1-49C2-B20F-9C824EFF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FCD-BED9-495A-B227-A3D762FD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D20-98A1-4C5A-A609-841D3C19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0B3-4A07-4289-823C-63EE80B3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60E-61FD-4269-A791-D8549959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2FC-192C-4BA5-81C3-0C9C584C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cc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cc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6411-0CE9-4CB7-8067-B7BC24726E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5D81-10B2-4733-A372-BD56C8EA5F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.il/" TargetMode="External"/><Relationship Id="rId3" Type="http://schemas.openxmlformats.org/officeDocument/2006/relationships/hyperlink" Target="http://www.google.co.il/" TargetMode="External"/><Relationship Id="rId4" Type="http://schemas.openxmlformats.org/officeDocument/2006/relationships/hyperlink" Target="http://www.google.co.il/" TargetMode="External"/><Relationship Id="rId5" Type="http://schemas.openxmlformats.org/officeDocument/2006/relationships/hyperlink" Target="file:///&#1496;&#1489;&#1500;&#1492;%20&#1489;&#1497;&#1489;&#1500;&#1497;&#1493;&#1490;&#1512;&#1508;&#1497;&#1514;%20&#1489;&#1504;&#1493;&#1513;&#1488;.doc" TargetMode="External"/><Relationship Id="rId6" Type="http://schemas.openxmlformats.org/officeDocument/2006/relationships/hyperlink" Target="http://geocities.com/mpesach/" TargetMode="External"/><Relationship Id="rId7" Type="http://schemas.openxmlformats.org/officeDocument/2006/relationships/hyperlink" Target="file:///&#1502;&#1495;&#1493;&#1493;&#1503;%20&#1500;&#1492;&#1506;&#1512;&#1499;&#1514;%20&#1502;&#1510;&#1490;&#1514;.doc" TargetMode="External"/><Relationship Id="rId8" Type="http://schemas.openxmlformats.org/officeDocument/2006/relationships/hyperlink" Target="file:///&#1502;&#1495;&#1493;&#1493;&#1503;%20&#1500;&#1492;&#1506;&#1512;&#1499;&#1514;%20&#1488;&#1514;&#1512;.doc" TargetMode="External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16000" y="549360"/>
            <a:ext cx="754380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Arial"/>
              </a:rPr>
              <a:t>מצגת עידוד ללמוד פיזיק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1280" y="3419640"/>
            <a:ext cx="3240000" cy="3024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1187280" y="192384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7733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מצגת זו הוכנה כעבודת סיום במסגרת השתלמות:        "אינטל חינוך לעתיד" שהתקיימה בביה"ס מקוה ישראל           מדור הדתי בתאריכים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17-26/07/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7640" y="4365720"/>
            <a:ext cx="40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המורה : מלי לו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המגיש: יובל שוויד  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133551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450864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a50021"/>
                </a:solidFill>
                <a:latin typeface="Tahoma"/>
              </a:rPr>
              <a:t>מדוע ללמוד פיזיקה? 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4508640"/>
            <a:ext cx="664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a50021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חשוב - מתאר את כל העולם הסובב אותנו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3789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כדאי - מוכר לבונוס בכל המוסדות האקדמיי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31417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e-IL" sz="2800" spc="-1" strike="noStrike">
                <a:solidFill>
                  <a:srgbClr val="000000"/>
                </a:solidFill>
                <a:latin typeface="Times New Roman (Hebrew)"/>
              </a:rPr>
              <a:t>לימודים מהנים בסביבה מתוקשב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1744560" cy="209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52280" y="1708200"/>
            <a:ext cx="2895840" cy="2176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08000" y="52293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a50021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יש סיורים, ימי עיון ותמיכה בתלמידי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80000" y="256536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e-IL" sz="2800" spc="-1" strike="noStrike">
                <a:solidFill>
                  <a:srgbClr val="000000"/>
                </a:solidFill>
                <a:latin typeface="Times New Roman (Hebrew)"/>
              </a:rPr>
              <a:t>מעניין ומאתג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   לבוגרי פיזיקה יתרון בהשכלה גבוהה 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בוגרי פיזיקה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בהיקף של 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יח"ל עונים על דרישות הקבלה של כל המוסדות להשכלה גבוהה במדע, בהנדסה ובכל הפקולטות  המבוקשות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7339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505320"/>
            <a:ext cx="6858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בטכניון ובפקולטות להנדסה באוניברסיטאות תל-אביב ובן גוריו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סטודנט ללא בגרות בפיזיקה חייב להשלים את לימודי הפיזיקה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4508640"/>
            <a:ext cx="73152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בפקולטות לכימיה ולביולוגיה באוניברסיטת תל-אביב ממליצות לנרשמי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לרענן את חומר הלימוד בפיזיקה לפני תחילת הלימודי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        הפיזיקה חשובה לקריירה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פיזיקה הוא מקצוע תשתית. לימודי הפיזיקה בתיכון פותחים דלתות לתחומי עיסוק רבים ומגוונים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3300"/>
                </a:solidFill>
                <a:latin typeface="Tahoma"/>
                <a:cs typeface="Times New Roman"/>
              </a:rPr>
              <a:t>תקשורת והעברת נתונים: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סיבים אופטיים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  <a:cs typeface="Times New Roman"/>
              </a:rPr>
              <a:t>לוויינים, לייזרים, תקשו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cs typeface="Times New Roman"/>
              </a:rPr>
              <a:t>ת 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  <a:cs typeface="Times New Roman"/>
              </a:rPr>
              <a:t>סלולרית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3300"/>
                </a:solidFill>
                <a:latin typeface="Tahoma"/>
                <a:cs typeface="Times New Roman"/>
              </a:rPr>
              <a:t>תעשיית המחשבים וההיי-טק: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מזעור, אלקטרוניקה, מדפסות, אכסו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מידע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3300"/>
                </a:solidFill>
                <a:latin typeface="Tahoma"/>
                <a:cs typeface="Times New Roman"/>
              </a:rPr>
              <a:t>הפיזיקה ברפואה: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קרינת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  <a:cs typeface="Times New Roman"/>
              </a:rPr>
              <a:t>במכשירי הרנטגן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T, MR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אולטרסאונד, ניתוחי לייזר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3300"/>
                </a:solidFill>
                <a:latin typeface="Tahoma"/>
                <a:cs typeface="Times New Roman"/>
              </a:rPr>
              <a:t>תעשיית הכימיה והנדסת חומרים :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חומרים מורכבים למטוסים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חלליות, ספורט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3300"/>
                </a:solidFill>
                <a:latin typeface="Tahoma"/>
                <a:cs typeface="Times New Roman"/>
              </a:rPr>
              <a:t>פיזיקה באיכות הסביבה: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מניעת זיהום אוויר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Tahoma"/>
                <a:cs typeface="Times New Roman"/>
              </a:rPr>
              <a:t>אקוסטיקה, מיפו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אוקיאנוסים, חיפושי נפט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50021"/>
                </a:solidFill>
                <a:latin typeface="Tahoma"/>
              </a:rPr>
              <a:t>לבוגרי פיזיקה יש יתרון בשרות הצבאי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הצבא מכיר בפוטנציאל ובכישורים של לומדי פיזיקה ומציע מגוון רחב ומעניין של תפקידים, הדורשים ידע בפיזיקה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41911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324000" y="2676600"/>
            <a:ext cx="68580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מסלול עתודה אקדמית במקצועו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ההנדסה והמדעים  היישומיי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קורס טי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תפקידים מסווגים שוני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מאמנות טיס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מדריכות חיל חימו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מדריכות חיל קש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Guttman Yad-Brush"/>
              </a:rPr>
              <a:t>לדוגמ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soldier2" descr=""/>
          <p:cNvPicPr/>
          <p:nvPr/>
        </p:nvPicPr>
        <p:blipFill>
          <a:blip r:embed="rId2"/>
          <a:stretch/>
        </p:blipFill>
        <p:spPr>
          <a:xfrm>
            <a:off x="457200" y="4419720"/>
            <a:ext cx="1616040" cy="15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a50021"/>
                </a:solidFill>
                <a:latin typeface="Tahoma"/>
              </a:rPr>
              <a:t>מה לומדים?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מכניקה - 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1.5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 יח”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048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חשמל -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יח”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41911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פרקי בחירה -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יח”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228600" y="5181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מעבדה -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יח”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1055520" cy="1552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987640" y="907920"/>
            <a:ext cx="1109520" cy="1162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187280" y="2421000"/>
            <a:ext cx="1533600" cy="1135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826920" y="5300640"/>
            <a:ext cx="181476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a50021"/>
                </a:solidFill>
                <a:latin typeface="Tahoma"/>
              </a:rPr>
              <a:t>מהן הדרישות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1905120"/>
            <a:ext cx="5410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סקרנות טבעית של מגלי עולם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27280" y="3284640"/>
            <a:ext cx="604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תמטיקה ברמה של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4-5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יחידות לימו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4724280"/>
            <a:ext cx="547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רצון ונכונות להשקיע בלימודי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187280" y="907920"/>
          <a:ext cx="1944720" cy="16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907920"/>
                    <a:ext cx="194472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24000" y="2565360"/>
          <a:ext cx="804600" cy="17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565360"/>
                    <a:ext cx="8046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50920" y="4365720"/>
            <a:ext cx="18176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a50021"/>
                </a:solidFill>
                <a:latin typeface="Tahoma"/>
              </a:rPr>
              <a:t>קישורים לנושא המצגת 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4221000"/>
            <a:ext cx="26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לדפדפן   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google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1628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cc3300"/>
                </a:solidFill>
                <a:uFillTx/>
                <a:latin typeface="Tahoma"/>
                <a:hlinkClick r:id="rId5"/>
              </a:rPr>
              <a:t>לטבלת ביבליוגרפי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5229360"/>
            <a:ext cx="338472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cc3300"/>
                </a:solidFill>
                <a:uFillTx/>
                <a:latin typeface="Tahoma"/>
                <a:cs typeface="David"/>
                <a:hlinkClick r:id="rId6"/>
              </a:rPr>
              <a:t>לאתר של המורה מלי לו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cc3300"/>
                </a:solidFill>
                <a:uFillTx/>
                <a:latin typeface="Tahoma"/>
                <a:hlinkClick r:id="rId7"/>
              </a:rPr>
              <a:t>למחוון הערכת מצג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3284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cc3300"/>
                </a:solidFill>
                <a:uFillTx/>
                <a:latin typeface="Tahoma"/>
                <a:hlinkClick r:id="rId8"/>
              </a:rPr>
              <a:t>למחוון הערכת את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09:47:00Z</dcterms:created>
  <dc:creator>office xp sta</dc:creator>
  <dc:description/>
  <dc:language>en-US</dc:language>
  <cp:lastModifiedBy>yuvish</cp:lastModifiedBy>
  <dcterms:modified xsi:type="dcterms:W3CDTF">2005-07-26T12:50:01Z</dcterms:modified>
  <cp:revision>35</cp:revision>
  <dc:subject/>
  <dc:title>שקופית 1</dc:title>
</cp:coreProperties>
</file>