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729-58CE-4F05-BBE4-473BADCE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37A4-0E01-45E6-B758-D0E352CB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8AA-3D8D-4B99-ABE0-02DBDEA0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5503-790F-49E0-BE07-A52FB5DF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C4B7-FE1A-4FC5-884A-6E06D03B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7B70-4E79-4F7D-95AF-30B0E763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4C5-C5BF-4F95-8414-37D4B60C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C41-72F0-44DD-BEAB-0629FC88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03A8-3DC9-44AA-B507-973F4134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3B91-7999-4B22-BEB5-CEC7DCE9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9E91-6D3D-40B4-857F-762E68E1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164-43A6-4E78-9D29-44AEA32B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4834-B195-4A4E-A6AB-B30AA5F8A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609480"/>
            <a:ext cx="88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A:  Yesterday, Today, and Tomorr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461880" y="14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876320" y="144360"/>
            <a:ext cx="4465800" cy="2616120"/>
            <a:chOff x="1876320" y="144360"/>
            <a:chExt cx="4465800" cy="2616120"/>
          </a:xfrm>
        </p:grpSpPr>
        <p:sp>
          <p:nvSpPr>
            <p:cNvPr id="44" name=""/>
            <p:cNvSpPr/>
            <p:nvPr/>
          </p:nvSpPr>
          <p:spPr>
            <a:xfrm>
              <a:off x="1876320" y="144360"/>
              <a:ext cx="4465800" cy="26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876320" y="144360"/>
              <a:ext cx="44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rogers" descr=""/>
          <p:cNvPicPr/>
          <p:nvPr/>
        </p:nvPicPr>
        <p:blipFill>
          <a:blip r:embed="rId2"/>
          <a:srcRect l="6451" t="0" r="0" b="2816"/>
          <a:stretch/>
        </p:blipFill>
        <p:spPr>
          <a:xfrm>
            <a:off x="1295280" y="1600200"/>
            <a:ext cx="6629400" cy="4495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371600" y="623268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yan Bailey, Claire Pennington, Dustin 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533520"/>
            <a:ext cx="77724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determine an optimal site for a new science building while promoting and ensuring the future growth of the campus and its beau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2" descr=""/>
          <p:cNvPicPr/>
          <p:nvPr/>
        </p:nvPicPr>
        <p:blipFill>
          <a:blip r:embed="rId2"/>
          <a:stretch/>
        </p:blipFill>
        <p:spPr>
          <a:xfrm>
            <a:off x="430200" y="2209680"/>
            <a:ext cx="8256600" cy="3951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NA Yester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638680" y="1103400"/>
            <a:ext cx="3276720" cy="2859120"/>
            <a:chOff x="5638680" y="1103400"/>
            <a:chExt cx="3276720" cy="2859120"/>
          </a:xfrm>
        </p:grpSpPr>
        <p:sp>
          <p:nvSpPr>
            <p:cNvPr id="52" name=""/>
            <p:cNvSpPr/>
            <p:nvPr/>
          </p:nvSpPr>
          <p:spPr>
            <a:xfrm>
              <a:off x="5638680" y="2209680"/>
              <a:ext cx="1981440" cy="1752840"/>
            </a:xfrm>
            <a:prstGeom prst="ellipse">
              <a:avLst/>
            </a:prstGeom>
            <a:noFill/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781680" y="1523880"/>
              <a:ext cx="5335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7080" y="1103400"/>
              <a:ext cx="176832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riginal campus 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NA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9532" t="15593" r="2344" b="10217"/>
          <a:stretch/>
        </p:blipFill>
        <p:spPr>
          <a:xfrm>
            <a:off x="1066680" y="1600200"/>
            <a:ext cx="7086600" cy="4889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rcRect l="19532" t="10420" r="1562" b="12502"/>
          <a:stretch/>
        </p:blipFill>
        <p:spPr>
          <a:xfrm>
            <a:off x="1066680" y="1143000"/>
            <a:ext cx="7086600" cy="5191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2057400" y="21276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UNA Tomorr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457200"/>
            <a:ext cx="73915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hanges to Current Camp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Kilb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d the new science building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ed green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parking fac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additional access ro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oposed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22659" t="27086" r="14065" b="20835"/>
          <a:stretch/>
        </p:blipFill>
        <p:spPr>
          <a:xfrm>
            <a:off x="1523880" y="2057400"/>
            <a:ext cx="6172200" cy="3809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3505320" y="60199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’Neal Hall, 19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2120" y="457200"/>
            <a:ext cx="7238880" cy="60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the New S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level of acces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move the new center of camp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es existing greenspa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a display for the attractive   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good relations with neighb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4600" y="2666880"/>
            <a:ext cx="65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QUESTIONS OR COM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30T00:24:05Z</dcterms:created>
  <dc:creator>Guest</dc:creator>
  <dc:description/>
  <dc:language>en-US</dc:language>
  <cp:lastModifiedBy>UNA</cp:lastModifiedBy>
  <dcterms:modified xsi:type="dcterms:W3CDTF">2002-05-02T19:03:23Z</dcterms:modified>
  <cp:revision>6</cp:revision>
  <dc:subject/>
  <dc:title>Present</dc:title>
</cp:coreProperties>
</file>